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DE6-CF51-4A11-B42B-7975C19377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6AB6-FB1F-421A-B80B-5AF022C47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D09E-1C71-4001-A665-354AF1ACC3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3829B-6D9F-4345-BAE9-67B735F7F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CE991-11DA-4B96-9573-0930B2ADE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136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31440" y="144900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316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136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31440" y="4082040"/>
            <a:ext cx="266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964ED-85EA-4BFB-8A8B-C26AE7E09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E88A0-6191-4FC2-9F0B-A1B22E4BB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CB4B-E34D-42A9-8E57-FDE9005F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31640" y="79560"/>
            <a:ext cx="7345440" cy="241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DE2F-9077-4F0D-895C-1DDED960E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DB152-54BD-4E4B-9742-4E02888F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600" y="408204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62008-36C3-42DE-9232-7C0410691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600" y="1449000"/>
            <a:ext cx="404064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31640" y="4082040"/>
            <a:ext cx="828072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2DF45-4BD6-49C6-A699-C17F4EFFA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5478" r="0" b="68472"/>
          <a:stretch/>
        </p:blipFill>
        <p:spPr>
          <a:xfrm>
            <a:off x="0" y="0"/>
            <a:ext cx="9144000" cy="1789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60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2" marL="987480" indent="-179280">
              <a:spcBef>
                <a:spcPts val="601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3" marL="1257480" indent="-90720">
              <a:spcBef>
                <a:spcPts val="601"/>
              </a:spcBef>
              <a:buClr>
                <a:srgbClr val="00008a"/>
              </a:buClr>
              <a:buFont typeface="Trebuchet MS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4" marL="1523880" indent="-87120">
              <a:spcBef>
                <a:spcPts val="601"/>
              </a:spcBef>
              <a:buClr>
                <a:srgbClr val="00008a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5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6" marL="1523880" indent="-87120">
              <a:spcBef>
                <a:spcPts val="601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pic>
        <p:nvPicPr>
          <p:cNvPr id="3" name="" descr=""/>
          <p:cNvPicPr/>
          <p:nvPr/>
        </p:nvPicPr>
        <p:blipFill>
          <a:blip r:embed="rId3"/>
          <a:srcRect l="4108" t="5478" r="49299" b="73949"/>
          <a:stretch/>
        </p:blipFill>
        <p:spPr>
          <a:xfrm>
            <a:off x="7848720" y="81000"/>
            <a:ext cx="1238040" cy="409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12000" y="6597720"/>
            <a:ext cx="234000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431280" y="6597720"/>
            <a:ext cx="558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footer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51640" y="6597720"/>
            <a:ext cx="360360" cy="21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800" spc="-1" strike="noStrike">
                <a:solidFill>
                  <a:srgbClr val="808080"/>
                </a:solidFill>
                <a:latin typeface="Futura Lt B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p. </a:t>
            </a:r>
            <a:fld id="{5534DAD7-924C-46DA-BA7F-BC44C2F0880B}" type="slidenum">
              <a:rPr b="0" i="1" lang="en-US" sz="800" spc="-1" strike="noStrike">
                <a:solidFill>
                  <a:srgbClr val="808080"/>
                </a:solidFill>
                <a:latin typeface="Futura Lt BT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5054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Futura Md BT"/>
              </a:rPr>
              <a:t>Click to edit the title text format</a:t>
            </a:r>
            <a:endParaRPr b="1" lang="en-US" sz="2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5" name=""/>
          <p:cNvSpPr/>
          <p:nvPr/>
        </p:nvSpPr>
        <p:spPr>
          <a:xfrm>
            <a:off x="431640" y="6597720"/>
            <a:ext cx="414036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08080"/>
                </a:solidFill>
                <a:latin typeface="Arial"/>
              </a:rPr>
              <a:t>© 2004 The Communications Innovation Institute.  All rights reserved.</a:t>
            </a:r>
            <a:endParaRPr b="0" lang="en-US" sz="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Click to edit the outline text format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1" marL="44604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2" marL="808200" algn="ctr">
              <a:spcBef>
                <a:spcPts val="400"/>
              </a:spcBef>
              <a:buClr>
                <a:srgbClr val="00008a"/>
              </a:buClr>
              <a:buSzPct val="135000"/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Futura Md BT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lvl="3" marL="1166760" algn="ctr">
              <a:spcBef>
                <a:spcPts val="349"/>
              </a:spcBef>
              <a:buClr>
                <a:srgbClr val="00008a"/>
              </a:buClr>
              <a:buFont typeface="Trebuchet MS"/>
              <a:buChar char="◦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Futura Md BT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Futura Md BT"/>
            </a:endParaRPr>
          </a:p>
          <a:p>
            <a:pPr lvl="4" marL="1436760" algn="ctr">
              <a:spcBef>
                <a:spcPts val="300"/>
              </a:spcBef>
              <a:buClr>
                <a:srgbClr val="00008a"/>
              </a:buClr>
              <a:buFont typeface="Trebuchet MS"/>
              <a:buChar char="›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5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  <a:p>
            <a:pPr lvl="6" marL="1436760">
              <a:spcBef>
                <a:spcPts val="300"/>
              </a:spcBef>
              <a:buClr>
                <a:srgbClr val="ffffcc"/>
              </a:buClr>
              <a:buFont typeface="Trebuchet MS"/>
              <a:buChar char="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Futura Md BT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657240" y="3048120"/>
            <a:ext cx="50547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Futura Md BT"/>
              </a:rPr>
              <a:t>Ubiquity, Pervasiveness, Ambience and Invisible Computing </a:t>
            </a:r>
            <a:endParaRPr b="1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3671640" y="5562360"/>
            <a:ext cx="504036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Jon Crowcroft,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The Computer Laboratory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University of Cambridge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Futura Md BT"/>
              </a:rPr>
              <a:t>Jon.crowcroft@cl.cam.ac.uk</a:t>
            </a:r>
            <a:endParaRPr b="1" lang="en-US" sz="1600" spc="-1" strike="noStrike">
              <a:solidFill>
                <a:srgbClr val="000000"/>
              </a:solidFill>
              <a:latin typeface="Futura Md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any people are disabled – can help!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Many disabilities, not just loss of memor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ame tricks we use on road can work in lif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lready have started to record much digitiall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Location/Video/Audio from camera phon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utomatic Aide Memoire/Amanuensi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Needs to be smart:-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“</a:t>
            </a: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Just helping” remind can do more harm than good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Hint/suggest/retrain memory continuousl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Similar technology for partial sight, hearing, physical disabilit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mbined with cyberneti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eeing eye robot dog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C634-4424-4015-978F-5E122F7E578A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Environmental Monitoring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2448000" y="1773360"/>
            <a:ext cx="4570200" cy="457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5825E-9312-48DA-96A2-05BB850C6C26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31640" y="-347040"/>
            <a:ext cx="7345440" cy="94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Building, City, World monitoring/Control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lready have projects to sense whole earth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Huge scale of problem: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mount of data, and physical model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Deployment of sensor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What to do with it?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ntrols – e.g.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here to generate power when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hat to charge for carbon tax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en to change weather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Again, political, ethical, technical mix of problem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747D6-DBA7-4812-A4D5-0886764214F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omputing 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Dependa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Provable Program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Properties like correctness, timeliness, scale/cost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Very very big systems, so automate proof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May not be conventional math proofs – more statistical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Like biological system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Extensi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New Programming Language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Combine huge numbers of very small components (pebbles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Script behaviour, and check (programming is debugging!)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marL="261360" indent="-261360">
              <a:spcBef>
                <a:spcPts val="499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Usable 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Human Computer Interaction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Not like VCRs, DVDs, Digital Set Top Boxe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Yes like digital cameras, cell phones, engine management sys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  <a:p>
            <a:pPr lvl="1" marL="615960" indent="-178560">
              <a:spcBef>
                <a:spcPts val="451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Futura Md BT"/>
              </a:rPr>
              <a:t>But all joined up!</a:t>
            </a:r>
            <a:endParaRPr b="0" lang="en-US" sz="18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9AD91-4BA8-4001-A2AB-A92952A2C3D0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re simply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Time and Location part of all program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Ownership and Rights part of all data in and ou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Risk of failure of component and system must be know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Java and Basic not good enough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Internet too slow and no use on wireles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entiums use too much power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Windows needs too much memory, cpu and disk storag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All these take too long to learn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-25848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Do you know where to even </a:t>
            </a:r>
            <a:r>
              <a:rPr b="0" i="1" lang="en-GB" sz="2400" spc="-1" strike="noStrike">
                <a:solidFill>
                  <a:srgbClr val="000000"/>
                </a:solidFill>
                <a:latin typeface="Futura Md BT"/>
              </a:rPr>
              <a:t>start</a:t>
            </a: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marL="258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AF36C-4DF6-4C61-ABA6-A3CE6BF34F0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terlocking concerns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Economic, regulatory and technical concerns interact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Every day objects now part of cyberspace </a:t>
            </a:r>
            <a:r>
              <a:rPr b="0" i="1" lang="en-US" sz="2000" spc="-1" strike="noStrike">
                <a:solidFill>
                  <a:srgbClr val="000000"/>
                </a:solidFill>
                <a:latin typeface="Futura Md BT"/>
              </a:rPr>
              <a:t>(mixed reality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te embedded systems do not use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Intel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x86 processors,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Microsoft’s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Windows Operating System, or </a:t>
            </a:r>
            <a:r>
              <a:rPr b="1" lang="en-US" sz="2400" spc="-1" strike="noStrike">
                <a:solidFill>
                  <a:srgbClr val="000000"/>
                </a:solidFill>
                <a:latin typeface="Futura Md BT"/>
              </a:rPr>
              <a:t>Cisco</a:t>
            </a: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 routers and WWW/Internet to communicate.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They are all currently “</a:t>
            </a:r>
            <a:r>
              <a:rPr b="0" i="1" lang="en-US" sz="2000" spc="-1" strike="noStrike">
                <a:solidFill>
                  <a:srgbClr val="000000"/>
                </a:solidFill>
                <a:latin typeface="Futura Md BT"/>
              </a:rPr>
              <a:t>proprietary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” for lots of good technical reasons.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Some are made right here in the UK (ARM processor, </a:t>
            </a:r>
            <a:r>
              <a:rPr b="1" lang="en-US" sz="2000" spc="-1" strike="noStrike">
                <a:solidFill>
                  <a:srgbClr val="000000"/>
                </a:solidFill>
                <a:latin typeface="Futura Md BT"/>
              </a:rPr>
              <a:t>Symbian</a:t>
            </a: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 OS for example most common in PDAs and Handsets!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So plenty of interesting work for the next 40 years!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2DC7-A459-423C-9D8E-F7C124D1D46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What if all you touch is programmable?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Computers are so cheap &amp; useful we put ‘em everywher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side toys, inside cars, inside ourselv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 the environment, sea, atmospher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In the walls of our house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Slowly, these devices are also being linked up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Wireless networks (cell phone, 3G, WiFi, Bluetooth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Ubiquitous Internet acces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reviously they were “hardwired”, now programmable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ell phone, PDA, Sky Box (Tivo), Car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oon, toys, healthcare, building, city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15B9C-77D6-47A2-8C67-2C7849D9C9AA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Toys or Cybernetics 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2376360" y="1052640"/>
            <a:ext cx="4765680" cy="5375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DDA1D-574F-445E-8C3F-06D5DA9DADEA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Sinister or Fascinating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Furby could be re-programmed by TV program/advert!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Computing researchers “reverse engineered” protoco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Now used to program furby for fun/home projects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nly a step from there to lego mindstorms etc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Note interface between everyday object and larger world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Has enormous effect, not just technical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Privacy, ethics, etc all suddenly important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Note private interface didn’t last long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pen community will be more creative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Often leads to more profit (and fun) too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C6A74-86B3-4D59-BBF0-7682BC8726D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Healthcare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2700360" y="1665360"/>
            <a:ext cx="3699000" cy="3170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529D3-8385-4816-959C-39AB35F7B0C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Monitor (and control) of your health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Pulse, blood sugar, skin conductivity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Effectively a lie detector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Also useful for “evidence based medicine”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Privacy! But also informed consent to access (research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Futura Md BT"/>
              </a:rPr>
              <a:t>Consider control (intervention)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E.g. de-fibrillator or insulin pump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trict access control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Futura Md BT"/>
              </a:rPr>
              <a:t>Safety (correct operation now life critical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59D-3CE1-4ACB-9173-8BF47465F2C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Car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1800360" y="1808280"/>
            <a:ext cx="5484600" cy="4113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6BB7-477B-4A49-810A-6E9AE0C4672C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Futura Md BT"/>
              </a:rPr>
              <a:t>In car navigation – a small step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31640" y="1449000"/>
            <a:ext cx="828072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Insurance might be cheaper if we choose safer routes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also drive within speed limit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the system forces us to stay within speed limit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rely on that, and it goes wrong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arrot and Stick – cheaper, faster driving, if we agree 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we add in pollution charge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What if charge is dynamic (based on car and today’s conditions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However, price of journey might become surprising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Now have technical and economic considerations +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Also still have privacy (where I am and when!)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marL="266760" indent="-266760">
              <a:lnSpc>
                <a:spcPct val="90000"/>
              </a:lnSpc>
              <a:spcBef>
                <a:spcPts val="601"/>
              </a:spcBef>
              <a:buClr>
                <a:srgbClr val="00008a"/>
              </a:buClr>
              <a:buFont typeface="Futura Md B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Futura Md BT"/>
              </a:rPr>
              <a:t>Could we add controls based on radar ?</a:t>
            </a:r>
            <a:endParaRPr b="0" lang="en-US" sz="24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Pedestrian/cyclist avoidance!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  <a:p>
            <a:pPr lvl="1" marL="628560" indent="-182520">
              <a:lnSpc>
                <a:spcPct val="90000"/>
              </a:lnSpc>
              <a:spcBef>
                <a:spcPts val="499"/>
              </a:spcBef>
              <a:buClr>
                <a:srgbClr val="00008a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Futura Md BT"/>
              </a:rPr>
              <a:t>How to make safe with only some cars fitted?</a:t>
            </a:r>
            <a:endParaRPr b="0" lang="en-US" sz="2000" spc="-1" strike="noStrike">
              <a:solidFill>
                <a:srgbClr val="000000"/>
              </a:solidFill>
              <a:latin typeface="Futura Md B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EFFE3-D03C-4D7E-947B-27BD1DA1AF64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31640" y="79560"/>
            <a:ext cx="73454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Futura Md BT"/>
              </a:rPr>
              <a:t>Never lost or forgotton?</a:t>
            </a:r>
            <a:endParaRPr b="1" lang="en-US" sz="2800" spc="-1" strike="noStrike">
              <a:solidFill>
                <a:srgbClr val="ffffff"/>
              </a:solidFill>
              <a:latin typeface="Futura Md BT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3059280" y="1773360"/>
            <a:ext cx="2854080" cy="437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Introduction to the Communications Innovation Institut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FDFE2-F95C-4A00-BE56-DC48359362D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1-Nov-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8T10:14:09Z</dcterms:created>
  <dc:creator>has27</dc:creator>
  <dc:description/>
  <dc:language>en-US</dc:language>
  <cp:lastModifiedBy>Jon Crowcroft</cp:lastModifiedBy>
  <dcterms:modified xsi:type="dcterms:W3CDTF">2004-11-14T14:24:53Z</dcterms:modified>
  <cp:revision>50</cp:revision>
  <dc:subject/>
  <dc:title>PowerPoint Presentation</dc:title>
</cp:coreProperties>
</file>