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3B83-523F-4717-849F-62D0FC156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31640" y="4082040"/>
            <a:ext cx="82807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2C39-F613-4E23-BA7B-5A70E644A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31640" y="408204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600" y="408204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CE4A-BA5C-4D25-8E87-99E30DBFC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1360" y="144900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1440" y="144900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31640" y="408204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1360" y="408204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1440" y="408204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7A7D-E2FD-483E-9893-E67528887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utura Md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31640" y="79560"/>
            <a:ext cx="734544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utura Md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31640" y="408204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5E29-BF0A-4D1B-AB9E-9FEB674AA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600" y="408204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31640" y="4082040"/>
            <a:ext cx="82807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1640" y="4082040"/>
            <a:ext cx="82807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31640" y="408204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600" y="408204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1360" y="144900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31440" y="144900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31640" y="408204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1360" y="408204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31440" y="408204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DB50-DCDD-4763-BFF3-E579DF76C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E840-A609-407A-916B-BF5E0223C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214C-603B-4568-A80E-A5A85E815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31640" y="79560"/>
            <a:ext cx="734544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C0D2-09F5-455D-BF75-95E051F80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31640" y="408204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685D-646D-4511-9E8E-6B797C2E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600" y="408204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73FE-C06C-4CAB-A297-E1D544224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31640" y="4082040"/>
            <a:ext cx="82807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F111-9A48-4E9E-8EE0-E2A10D7A5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5478" r="0" b="68472"/>
          <a:stretch/>
        </p:blipFill>
        <p:spPr>
          <a:xfrm>
            <a:off x="0" y="0"/>
            <a:ext cx="9144000" cy="1789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60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2" marL="987480" indent="-179280">
              <a:spcBef>
                <a:spcPts val="601"/>
              </a:spcBef>
              <a:buClr>
                <a:srgbClr val="00008a"/>
              </a:buClr>
              <a:buSzPct val="13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3" marL="1257480" indent="-90720">
              <a:spcBef>
                <a:spcPts val="601"/>
              </a:spcBef>
              <a:buClr>
                <a:srgbClr val="00008a"/>
              </a:buClr>
              <a:buFont typeface="Trebuchet MS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4" marL="1523880" indent="-87120">
              <a:spcBef>
                <a:spcPts val="601"/>
              </a:spcBef>
              <a:buClr>
                <a:srgbClr val="00008a"/>
              </a:buClr>
              <a:buFont typeface="Trebuchet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5" marL="1523880" indent="-87120">
              <a:spcBef>
                <a:spcPts val="601"/>
              </a:spcBef>
              <a:buClr>
                <a:srgbClr val="ffffcc"/>
              </a:buClr>
              <a:buFont typeface="Trebuchet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6" marL="1523880" indent="-87120">
              <a:spcBef>
                <a:spcPts val="601"/>
              </a:spcBef>
              <a:buClr>
                <a:srgbClr val="ffffcc"/>
              </a:buClr>
              <a:buFont typeface="Trebuchet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rcRect l="4108" t="5478" r="49299" b="73949"/>
          <a:stretch/>
        </p:blipFill>
        <p:spPr>
          <a:xfrm>
            <a:off x="7848720" y="81000"/>
            <a:ext cx="1238040" cy="40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12000" y="6597720"/>
            <a:ext cx="234000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800" spc="-1" strike="noStrike">
                <a:solidFill>
                  <a:srgbClr val="808080"/>
                </a:solidFill>
                <a:latin typeface="Futura Lt B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Futura Lt BT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431280" y="6597720"/>
            <a:ext cx="55803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800" spc="-1" strike="noStrike">
                <a:solidFill>
                  <a:srgbClr val="808080"/>
                </a:solidFill>
                <a:latin typeface="Futura Lt B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Futura Lt BT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51640" y="6597720"/>
            <a:ext cx="3603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800" spc="-1" strike="noStrike">
                <a:solidFill>
                  <a:srgbClr val="808080"/>
                </a:solidFill>
                <a:latin typeface="Futura Lt B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Futura Lt BT"/>
              </a:rPr>
              <a:t>p. </a:t>
            </a:r>
            <a:fld id="{8D2E4D3E-0D42-44D0-9473-1694A592D5B0}" type="slidenum">
              <a:rPr b="0" i="1" lang="en-US" sz="800" spc="-1" strike="noStrike">
                <a:solidFill>
                  <a:srgbClr val="808080"/>
                </a:solidFill>
                <a:latin typeface="Futura Lt BT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657240" y="3048120"/>
            <a:ext cx="5054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utura Md BT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5" name=""/>
          <p:cNvSpPr/>
          <p:nvPr/>
        </p:nvSpPr>
        <p:spPr>
          <a:xfrm>
            <a:off x="431640" y="6597720"/>
            <a:ext cx="4140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© 2004 The Communications Innovation Institute.  All rights reserved.</a:t>
            </a: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utura Md BT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lvl="1" marL="44604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2" marL="808200" algn="ctr">
              <a:spcBef>
                <a:spcPts val="400"/>
              </a:spcBef>
              <a:buClr>
                <a:srgbClr val="00008a"/>
              </a:buClr>
              <a:buSzPct val="135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Md BT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lvl="3" marL="1166760" algn="ctr">
              <a:spcBef>
                <a:spcPts val="349"/>
              </a:spcBef>
              <a:buClr>
                <a:srgbClr val="00008a"/>
              </a:buClr>
              <a:buFont typeface="Trebuchet MS"/>
              <a:buChar char="◦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utura Md BT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Futura Md BT"/>
            </a:endParaRPr>
          </a:p>
          <a:p>
            <a:pPr lvl="4" marL="1436760" algn="ctr">
              <a:spcBef>
                <a:spcPts val="300"/>
              </a:spcBef>
              <a:buClr>
                <a:srgbClr val="00008a"/>
              </a:buClr>
              <a:buFont typeface="Trebuchet MS"/>
              <a:buChar char="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Md BT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Futura Md BT"/>
            </a:endParaRPr>
          </a:p>
          <a:p>
            <a:pPr lvl="5" marL="1436760">
              <a:spcBef>
                <a:spcPts val="300"/>
              </a:spcBef>
              <a:buClr>
                <a:srgbClr val="ffffcc"/>
              </a:buClr>
              <a:buFont typeface="Trebuchet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Md BT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Futura Md BT"/>
            </a:endParaRPr>
          </a:p>
          <a:p>
            <a:pPr lvl="6" marL="1436760">
              <a:spcBef>
                <a:spcPts val="300"/>
              </a:spcBef>
              <a:buClr>
                <a:srgbClr val="ffffcc"/>
              </a:buClr>
              <a:buFont typeface="Trebuchet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Md BT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657240" y="3048120"/>
            <a:ext cx="5054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Futura Md BT"/>
              </a:rPr>
              <a:t>Ubiquity, Pervasiveness, Ambience and Invisible Computing </a:t>
            </a:r>
            <a:endParaRPr b="1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671640" y="5562360"/>
            <a:ext cx="50403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utura Md BT"/>
              </a:rPr>
              <a:t>Jon Crowcroft,</a:t>
            </a:r>
            <a:endParaRPr b="1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utura Md BT"/>
              </a:rPr>
              <a:t>The Computer Laboratory</a:t>
            </a:r>
            <a:endParaRPr b="1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utura Md BT"/>
              </a:rPr>
              <a:t>University of Cambridge</a:t>
            </a:r>
            <a:endParaRPr b="1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utura Md BT"/>
              </a:rPr>
              <a:t>Jon.crowcroft@cl.cam.ac.uk</a:t>
            </a:r>
            <a:endParaRPr b="1" lang="en-US" sz="16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Many people are disabled – can help!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Many disabilities, not just loss of memory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Same tricks we use on road can work in life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Already have started to record much digitially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Location/Video/Audio from camera phones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Automatic Aide Memoire/Amanuensis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Needs to be smart:- 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Just helping” remind can do more harm than good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Hint/suggest/retrain memory continuously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Similar technology for partial sight, hearing, physical disability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Combined with cybernetic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Seeing eye robot dog?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9F8D-A690-4C4B-B83A-51E090BE9A0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Environmental Monitoring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448000" y="1773360"/>
            <a:ext cx="4570200" cy="457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528D-8503-442E-A6F5-D99064B2C792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31640" y="-347040"/>
            <a:ext cx="734544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Building, City, World monitoring/Control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Already have projects to sense whole earth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Huge scale of problem: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Amount of data, and physical models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Deployment of sensors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What to do with it? 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Controls – e.g. 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where to generate power when?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What to charge for carbon tax?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When to change weather!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Again, political, ethical, technical mix of problems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8203-C0E1-4704-ABA0-C0A009C1114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Computing 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1360" indent="-261360">
              <a:spcBef>
                <a:spcPts val="499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utura Md BT"/>
              </a:rPr>
              <a:t>Dependable 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15960" indent="-178560"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Provable Programs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lvl="1" marL="615960" indent="-178560"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Properties like correctness, timeliness, scale/cost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lvl="1" marL="615960" indent="-178560"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Very very big systems, so automate proofs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lvl="1" marL="615960" indent="-178560"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May not be conventional math proofs – more statistical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lvl="1" marL="615960" indent="-178560"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Like biological systems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marL="261360" indent="-261360">
              <a:spcBef>
                <a:spcPts val="499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utura Md BT"/>
              </a:rPr>
              <a:t>Extensible 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15960" indent="-178560"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New Programming Languages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lvl="1" marL="615960" indent="-178560"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Combine huge numbers of very small components (pebbles)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lvl="1" marL="615960" indent="-178560"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Script behaviour, and check (programming is debugging!)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marL="261360" indent="-261360">
              <a:spcBef>
                <a:spcPts val="499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utura Md BT"/>
              </a:rPr>
              <a:t>Usable 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15960" indent="-178560"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Human Computer Interaction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lvl="1" marL="615960" indent="-178560"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Not like VCRs, DVDs, Digital Set Top Boxes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lvl="1" marL="615960" indent="-178560"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Yes like digital cameras, cell phones, engine management sys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lvl="1" marL="615960" indent="-178560"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But all joined up!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03A2-88DE-4844-828D-36AE38F9020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More simply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58480" indent="-25848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Time and Location part of all programs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marL="258480" indent="-25848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Ownership and Rights part of all data in and out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marL="258480" indent="-25848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Risk of failure of component and system must be known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marL="258480" indent="-25848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Java and Basic not good enough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marL="258480" indent="-25848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Internet too slow and no use on wireless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marL="258480" indent="-25848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Pentiums use too much power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marL="258480" indent="-25848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Windows needs too much memory, cpu and disk storage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marL="258480" indent="-25848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All these take too long to learn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marL="258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marL="258480" indent="-25848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Do you know where to even </a:t>
            </a:r>
            <a:r>
              <a:rPr b="0" i="1" lang="en-GB" sz="2400" spc="-1" strike="noStrike">
                <a:solidFill>
                  <a:srgbClr val="000000"/>
                </a:solidFill>
                <a:latin typeface="Futura Md BT"/>
              </a:rPr>
              <a:t>start</a:t>
            </a: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marL="258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B69F-8FC1-4086-B929-4CEDF8247A3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Interlocking concerns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Economic, regulatory and technical concerns interact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Every day objects now part of cyberspace </a:t>
            </a:r>
            <a:r>
              <a:rPr b="0" i="1" lang="en-US" sz="2000" spc="-1" strike="noStrike">
                <a:solidFill>
                  <a:srgbClr val="000000"/>
                </a:solidFill>
                <a:latin typeface="Futura Md BT"/>
              </a:rPr>
              <a:t>(mixed reality</a:t>
            </a: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Note embedded systems do not use </a:t>
            </a:r>
            <a:r>
              <a:rPr b="1" lang="en-US" sz="2400" spc="-1" strike="noStrike">
                <a:solidFill>
                  <a:srgbClr val="000000"/>
                </a:solidFill>
                <a:latin typeface="Futura Md BT"/>
              </a:rPr>
              <a:t>Intel</a:t>
            </a: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 x86 processors, </a:t>
            </a:r>
            <a:r>
              <a:rPr b="1" lang="en-US" sz="2400" spc="-1" strike="noStrike">
                <a:solidFill>
                  <a:srgbClr val="000000"/>
                </a:solidFill>
                <a:latin typeface="Futura Md BT"/>
              </a:rPr>
              <a:t>Microsoft’s</a:t>
            </a: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 Windows Operating System, or </a:t>
            </a:r>
            <a:r>
              <a:rPr b="1" lang="en-US" sz="2400" spc="-1" strike="noStrike">
                <a:solidFill>
                  <a:srgbClr val="000000"/>
                </a:solidFill>
                <a:latin typeface="Futura Md BT"/>
              </a:rPr>
              <a:t>Cisco</a:t>
            </a: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 routers and WWW/Internet to communicate.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They are all currently “</a:t>
            </a:r>
            <a:r>
              <a:rPr b="0" i="1" lang="en-US" sz="2000" spc="-1" strike="noStrike">
                <a:solidFill>
                  <a:srgbClr val="000000"/>
                </a:solidFill>
                <a:latin typeface="Futura Md BT"/>
              </a:rPr>
              <a:t>proprietary</a:t>
            </a: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” for lots of good technical reasons.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Some are made right here in the UK (ARM processor, </a:t>
            </a:r>
            <a:r>
              <a:rPr b="1" lang="en-US" sz="2000" spc="-1" strike="noStrike">
                <a:solidFill>
                  <a:srgbClr val="000000"/>
                </a:solidFill>
                <a:latin typeface="Futura Md BT"/>
              </a:rPr>
              <a:t>Symbian</a:t>
            </a: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 OS for example most common in PDAs and Handsets!)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So plenty of interesting work for the next 40 years!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E7D4-AB7B-434A-A1AF-95E98C12977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What if all you touch is programmable?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Computers are so cheap &amp; useful we put ‘em everywhere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Inside toys, inside cars, inside ourselves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In the environment, sea, atmosphere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In the walls of our houses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Slowly, these devices are also being linked up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Wireless networks (cell phone, 3G, WiFi, Bluetooth)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Ubiquitous Internet access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Previously they were “hardwired”, now programmable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Cell phone, PDA, Sky Box (Tivo), Car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Soon, toys, healthcare, building, city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4204-0422-47BE-AABC-7F99BC1D73D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Toys or Cybernetics 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376360" y="1052640"/>
            <a:ext cx="4765680" cy="537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8DF4-E8A5-4575-A727-E2A6DB704F1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Sinister or Fascinating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Furby could be re-programmed by TV program/advert!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Computing researchers “reverse engineered” protocol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Now used to program furby for fun/home projects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Only a step from there to lego mindstorms etc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Note interface between everyday object and larger world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Has enormous effect, not just technical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Privacy, ethics, etc all suddenly important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Note private interface didn’t last long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Open community will be more creative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Often leads to more profit (and fun) too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7CF7-22EC-4334-BD66-4EAB4C87251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Healthcare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700360" y="1665360"/>
            <a:ext cx="3699000" cy="3170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59F9-3022-4683-AF16-0F8B82B0E40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Monitor (and control) of your health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Pulse, blood sugar, skin conductivity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Effectively a lie detector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Also useful for “evidence based medicine”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Privacy! But also informed consent to access (research)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Consider control (intervention)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E.g. de-fibrillator or insulin pump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Strict access control!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Safety (correct operation now life critical)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75DE-AB4C-4791-B7EE-519B6267F76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Car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800360" y="1808280"/>
            <a:ext cx="5484600" cy="411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5CDB-CAC6-4D69-8926-E93ABCA343C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In car navigation – a small step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Insurance might be cheaper if we choose safer routes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What if we also drive within speed limit?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What if the system forces us to stay within speed limit?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What if we rely on that, and it goes wrong?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lnSpc>
                <a:spcPct val="90000"/>
              </a:lnSpc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Carrot and Stick – cheaper, faster driving, if we agree 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What if we add in pollution charge?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What if charge is dynamic (based on car and today’s conditions)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However, price of journey might become surprising!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lnSpc>
                <a:spcPct val="90000"/>
              </a:lnSpc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Now have technical and economic considerations +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Also still have privacy (where I am and when!)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lnSpc>
                <a:spcPct val="90000"/>
              </a:lnSpc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Could we add controls based on radar ?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Pedestrian/cyclist avoidance!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How to make safe with only some cars fitted?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B2F0-A2D7-4ED9-8F9A-D7ADB002228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Futura Md BT"/>
              </a:rPr>
              <a:t>Never lost or forgotton?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059280" y="1773360"/>
            <a:ext cx="2854080" cy="437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BB15-0AF1-494E-9B35-03DE0DB2ED8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8T10:14:09Z</dcterms:created>
  <dc:creator>has27</dc:creator>
  <dc:description/>
  <dc:language>en-US</dc:language>
  <cp:lastModifiedBy>Jon Crowcroft</cp:lastModifiedBy>
  <dcterms:modified xsi:type="dcterms:W3CDTF">2004-11-14T14:24:53Z</dcterms:modified>
  <cp:revision>50</cp:revision>
  <dc:subject/>
  <dc:title>PowerPoint Presentation</dc:title>
</cp:coreProperties>
</file>