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2663D-5E21-4940-A249-4391DEA7BD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24EDD-7EFB-4885-A681-F235842655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DFD4A-12DE-4BB6-94AA-66458940DB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8E95B-8FF2-44A8-BA43-B1BCFA14EA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5E19E-D4DE-42F0-9815-3FA3964F7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0337-7B2A-494E-83F8-25FE8B487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0AEDD-7917-4E05-8297-A15E58019B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1545B9-8160-483E-9748-0254AAAC6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7CF81-C606-43D0-8E17-62AB52195F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077C6-D306-454A-9097-3CBA7B35B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28C1A3-1878-436E-800B-DF24D598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19C31-3653-4B02-BC0A-7B00A2180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03B23-388A-47A8-9353-5EF976363C4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Jon.crowcroft@cl.cam.ac.uk" TargetMode="External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able Ubiquitou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3 should be enough – 1 or 2 in the US and 1 in England”…(ok, Scotland)…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needs from other disciplin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– need to accommodate theory of ubi systems – e.g. location, reliable, e.g. Need to work between network calculi and process calculi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Use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need to tell us what new model of transparencies are!!!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3200" spc="-1" strike="noStrike">
                <a:solidFill>
                  <a:srgbClr val="000000"/>
                </a:solidFill>
                <a:latin typeface="Times New Roman"/>
              </a:rPr>
              <a:t>exemplar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ct as a clock for systems work…</a:t>
            </a:r>
            <a:r>
              <a:rPr b="0" lang="en-GB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Other problems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ouple of other thoughts about meta-problem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location of data and code as 1</a:t>
            </a:r>
            <a:r>
              <a:rPr b="0" lang="en-US" sz="2800" spc="-1" strike="noStrike" baseline="30000">
                <a:solidFill>
                  <a:srgbClr val="000000"/>
                </a:solidFill>
                <a:latin typeface="Times New Roman"/>
              </a:rPr>
              <a:t>st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class tag;  but include: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provenance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principles/capabilities) in some (many?) applications to feed into user confidence.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eed some sort of system 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economics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(of combined data, processing and communications) AFFORDABILI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Exemplar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e sentient building, street, hospital, city, planet, solar system, et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onclus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future is bright, the future is…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Not windows, IP, int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ole new business in processor, OS, networ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ore importantly, whole new models for systems, including a science, not just engineering, and including people, not just technology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caleable Ubiquitous </a:t>
            </a: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Systems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ome CS Systems Grand Challeng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 u="sng">
                <a:solidFill>
                  <a:srgbClr val="ccccff"/>
                </a:solidFill>
                <a:uFillTx/>
                <a:latin typeface="Times New Roman"/>
                <a:hlinkClick r:id="rId1"/>
              </a:rPr>
              <a:t>Jon.crowcroft@cl.cam.ac.u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cl.cam.ac.uk/~jac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biquity&amp;Environment 1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ptions – extend scale down an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rst Dow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psilon pow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Limited traditional resources (comms, cpu, memory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Very low (range, and variability) MTBF, high MTTR of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compone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But: do assume a large“infrastructure”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nearb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(i.e.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not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bsolutely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 NOT,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d hoc self org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Ubiquity&amp;Environment 2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ssumptions – extend scale down and up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nd then up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1000 powered devices per person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erabytes of store per person per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Fixed network capacity Gbps per person 24*7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MTBF 100 year line, disk, cpu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Information Theory appli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de must be executed redundantly ,but not greedily!!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Data must be stored (and moved) in some FEC manner (c.f. eternity/pastry etc) (DHT, Rabin Fingerprint, stripe/wraid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ansmission need to deal with lowering overheads, adapting to circumstance and converging in determined time (e.g. routing 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Aggressive use of intermediaries to cache, transform –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08520" indent="-30852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Power, location, identity and ownership are a first class member of (meta) data, code, node,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Operating System, Comms “Stack”, Storage all subject to same limitations as appl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minimal unit we “boot” – pico/nano hypervisor (xen) kern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at is the VM of a 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set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subset of nodes that present a traditional “computer” to the world (I.e. is hierarchical decomposition of function still ok or do we need new model (components in a graph combine to provide overall service – e.g. store an object, deliver a sense…etc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ystem is reflectiv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monitor and reason about (and report) its own behaviour and esp. performance (e.g. accuracy, timeliness et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n reason about trust in system from h/w up (viz TCB will be here before mid way through GC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Goal is Highly Optimized Tolerance (see Doyl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riteria for Ubiquitou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Programmable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by “naïve” user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perate continuously in evolving environmen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cale to 10^12 nodes – measure \(IMW) ubiq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rustworthy (“proof of behaviour” carrying code) – I.e. use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ustainable, Adaptable, Multipurpo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ncept of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 Transparencie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revised from ODP…accuracy+certainty derived from…</a:t>
            </a:r>
            <a:r>
              <a:rPr b="0" i="1" lang="en-GB" sz="2800" spc="-1" strike="noStrike">
                <a:solidFill>
                  <a:srgbClr val="000000"/>
                </a:solidFill>
                <a:latin typeface="Times New Roman"/>
              </a:rPr>
              <a:t>theory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 of…expresses principles (e.g. e2e, parsimony, soft state, etc etc…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Benefits of Ubiquitous </a:t>
            </a: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System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powers some users (c.f. normal 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humans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Empowers some application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.e. economic in some sense, although for some (e.g. support for field work, whether science, medicine or what have you) not doab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ncorporate range of intermediaries for pipelines of  transforms (lego like) etc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6:41:37Z</dcterms:created>
  <dc:creator>jon</dc:creator>
  <dc:description/>
  <dc:language>en-US</dc:language>
  <cp:lastModifiedBy>Computer Laboratory</cp:lastModifiedBy>
  <dcterms:modified xsi:type="dcterms:W3CDTF">2002-12-10T12:55:34Z</dcterms:modified>
  <cp:revision>22</cp:revision>
  <dc:subject/>
  <dc:title>Scaleable Ubiquitous Systems</dc:title>
</cp:coreProperties>
</file>