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075-3960-43EF-AB42-3AF4FAE1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B26-7F0B-4742-8FF4-C9F9B5A8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48A-496C-4904-9476-6CA7F156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560-B76E-4449-9F1C-F514189C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55C-93E8-4019-863F-9ECBEEE6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E88-497C-48E3-8529-800AB94D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C3D-5594-488C-AE5B-7EB073D6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411-A95C-4419-8D80-748786D4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B20-498D-4477-8656-35103890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31D-28EE-4C56-B127-CDE7241C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CA9-D556-42EF-B88F-1D68EA71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737-A287-4FF8-9755-EBFFB6F1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4903-EBF0-4DCC-9CA5-6CB8A8593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able Ubiquitou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should be enough – 1 or 2 in the US and 1 in England”…(ok, Scotland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eeds from other discip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need to accommodate theory of ubi systems – e.g. location, reliable, e.g. Need to work between network calculi and process calculi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Use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eed to tell us what new model of transparencies are!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ct as a clock for systems work…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blem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e of other thoughts about meta-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ocation of data and code a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tag;  but includ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en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rinciples/capabilities) in some (many?) applications to feed into user confidence.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some sort of syste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f combined data, processing and communications) AFFORD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entient building, street, hospital, city, planet, solar system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uture is bright, the future is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windows, IP, in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ole new business in processor, OS,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importantly, whole new models for systems, including a science, not just engineering, and including people, not just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able Ubiquitou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ystems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CS Systems Grand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on.crowcroft@cl.cam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iquity&amp;Environ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ptions – extend scale down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st 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psilon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traditional resources (comms, cpu, mem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y low (range, and variability) MTBF, high MTTR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: do assume a large“infrastructure”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ear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i.e.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t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solutely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NOT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 hoc self o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iquity&amp;Environmen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ptions – extend scale down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then 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000 powered devices per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abytes of store per person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xed network capacity Gbps per person 24*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TBF 100 year line, disk,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formation Theory app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de must be executed redundantly ,but not greedily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must be stored (and moved) in some FEC manner (c.f. eternity/pastry etc) (DHT, Rabin Fingerprint, stripe/wra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mission need to deal with lowering overheads, adapting to circumstance and converging in determined time (e.g. rou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gressive use of intermediaries to cache, transform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wer, location, identity and ownership are a first class member of (meta) data, code, nod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rating System, Comms “Stack”, Storage all subject to same limitations as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inimal unit we “boot” – pico/nano hypervisor (xen)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VM of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subset of nodes that present a traditional “computer” to the world (I.e. is hierarchical decomposition of function still ok or do we need new model (components in a graph combine to provide overall service – e.g. store an object, deliver a sense…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is refl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monitor and reason about (and report) its own behaviour and esp. performance (e.g. accuracy, timeliness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reason about trust in system from h/w up (viz TCB will be here before mid way through G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al is Highly Optimized Tolerance (see Doy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 for Ubiquitou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rogramm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y “naïve” u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e continuously in evolv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ale to 10^12 nodes – measure \(IMW) ubi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ustworthy (“proof of behaviour” carrying code) – I.e. us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stainable, Adaptable, Multi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ept of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Transparenc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vised from ODP…accuracy+certainty derived from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…expresses principles (e.g. e2e, parsimony, soft state, etc etc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biquitou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owers some users (c.f. norma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owers som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.e. economic in some sense, although for some (e.g. support for field work, whether science, medicine or what have you) not do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orporate range of intermediaries for pipelines of  transforms (lego like)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Computer Laboratory</cp:lastModifiedBy>
  <dcterms:modified xsi:type="dcterms:W3CDTF">2002-12-10T12:55:34Z</dcterms:modified>
  <cp:revision>22</cp:revision>
  <dc:subject/>
  <dc:title>Scaleable Ubiquitous Systems</dc:title>
</cp:coreProperties>
</file>