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E85D-B32F-4E24-B1F6-27325D79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044-C77E-477C-A2CB-DE79C9EF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198-B29D-4E29-9620-AFAF30A2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0D6E-1529-4054-BD10-64ABA327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2E3-FA53-483A-B26C-8F020CF01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563-B604-49E3-98EA-2699D121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CA2C-E986-487B-9C38-1992E181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9E8-5B2D-40C9-A851-5E1DFDDD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E5EB-EA96-4B38-8EDF-00F3D23A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BBC0-0352-4E54-B387-E8415671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37D-DB3E-4C08-BC85-DC19A676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341-2D57-4F64-A5AC-CC7CD53D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7EDA-C475-43BD-80FC-2457C6A13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lessness is next to god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ordinates: you can google for me as well as the next person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y answer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ank you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er-to-peer: Still worth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2997360"/>
            <a:ext cx="3228840" cy="2419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21052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1. Are P2P concepts worth so much time and ener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've looked at lots of P2P papers and they (almost) always seem compare performance between this and that P2P system (myDht v. yourDHT or structured v. unstructur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-one cares about P2p In the real world until you compare p2p with akam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2. What is P2P good for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us have been working on MANETs and DTNs (Also Terrible Mistakes?: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eems like it ma be that the _only_ way to organise applications in that space is to use P2P (combined with cross layer optimisation or even no layers) - perhaps that way (e.g. in community wifi deployment and disaster zones) lie indispensible P2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3. What next, th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uple of grand challenge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not ony beat the performance (latency and throughput) Of current mainstream commercial CDNs? (as well as providing the nebulous claimed benefits things like anonimity and attack-proofn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lays were never meant to be the end of history- they are a way to develop the replacement for the underlay - in DTNs, P2P can _be_ the network. Can this be true for the internet to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(if google was P2P, could we get rid of Cisco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slid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1. Any useful P2P concep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lever things about www w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quire no consistency=&gt;internet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no semantics=&gt;free text index/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clever bit of P2P wa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anonymity=&gt;beat copyright/d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blivious to network efficiency=&gt;attracts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2. Legal CD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not just BBC but Warner use P2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we had zero knowledge payment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 market research with privacy!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ercial reality is need Q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 VCD by post more predictable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ace between broadband &amp; storage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3: 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 care about network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gure out right type of pseud-anoni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n hide, but I can’t not p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 can get discount for ser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sioning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d-to-e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unded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get about DHTs and Hybercub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iciency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 bittorrent, video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centralised carousel/digital fou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11:47:30Z</dcterms:created>
  <dc:creator>jac22</dc:creator>
  <dc:description/>
  <dc:language>en-US</dc:language>
  <cp:lastModifiedBy>Jon Crowcroft</cp:lastModifiedBy>
  <dcterms:modified xsi:type="dcterms:W3CDTF">2005-10-24T09:13:10Z</dcterms:modified>
  <cp:revision>4</cp:revision>
  <dc:subject/>
  <dc:title>Peerlessness is next to godlessness</dc:title>
</cp:coreProperties>
</file>