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7805-F490-4F55-816E-27A3533F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40B4-1150-4D08-A4F3-B7D2D2A5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58F7-A809-4924-B21A-5ECFA241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CD9C-39B0-4EC3-B059-B8F31615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C73C-8C5D-4A6E-936B-A402E53A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4E79-6398-4143-B8E0-CBF22029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D573-172F-433D-851C-30018F59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733F-CB94-4A04-B171-D608D3DE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CEC1-6ACB-4E01-8B0E-6AB741A2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EBDD-0F5E-492F-BD2F-913659A5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FF3B-49BD-4D5E-8D6A-1FC8E0F7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FFD-C9B7-42D9-96AF-1DCDF63F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03EF-6F63-4C3B-94FC-C1822DCB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ED7D-0D2F-459C-BEE4-603589E8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0286-1681-42ED-9396-A40E06DA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62C4-6BB3-4EC8-A829-DFE42AEB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345A-9617-4C68-B9ED-40FA6C0B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0934-44F6-43F6-AA68-97F8353C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221-4BEB-462D-93E6-BC9AB85C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16A8-15F4-4F9E-89A6-4375799F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F39-135E-42DB-9E55-2BC1DC13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DC2-CC10-40B4-9D06-BD9C7678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EDF2-4AFB-472B-9F16-23F9A0D0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F6F3-329E-4446-A54C-F97A3141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5740-855E-4FCF-BFC2-6A41F6E32D8A}" type="datetime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REALMAN 2006, Firen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5574-F38D-4C49-9653-03CF4C127F24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C53F-D9B1-4ADB-8B06-18550C1FFB6C}" type="datetime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REALMAN 2006 Pa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E28B-A8B4-4042-ABDD-060EA3C06E1B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University of Cambridge"/>
          <p:cNvPicPr/>
          <p:nvPr/>
        </p:nvPicPr>
        <p:blipFill>
          <a:blip r:embed="rId3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hyperlink" Target="mailto:Jon.crowcroft@cl.cam.ac.uk" TargetMode="External"/><Relationship Id="rId3" Type="http://schemas.openxmlformats.org/officeDocument/2006/relationships/hyperlink" Target="mailto:Jon.crowcroft@cl.cam.ac.uk" TargetMode="External"/><Relationship Id="rId4" Type="http://schemas.openxmlformats.org/officeDocument/2006/relationships/hyperlink" Target="mailto:Jon.crowcroft@cl.cam.ac.uk" TargetMode="External"/><Relationship Id="rId5" Type="http://schemas.openxmlformats.org/officeDocument/2006/relationships/hyperlink" Target="http://www.cl.cam.ac.uk/~jac22" TargetMode="External"/><Relationship Id="rId6" Type="http://schemas.openxmlformats.org/officeDocument/2006/relationships/hyperlink" Target="http://www.cl.cam.ac.uk/~jac22" TargetMode="External"/><Relationship Id="rId7" Type="http://schemas.openxmlformats.org/officeDocument/2006/relationships/hyperlink" Target="http://www.cl.cam.ac.uk/~jac22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8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8435880" cy="1555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REALMAN ‘06 Pan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ow REAL must be the ad hoc network research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520" y="4038120"/>
            <a:ext cx="6172200" cy="2057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Jon Crowcroft (University of Cambridg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1"/>
              </a:rPr>
              <a:t>Jon.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2"/>
              </a:rPr>
              <a:t>crowcroft@cl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3"/>
              </a:rPr>
              <a:t>.cam.ac.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4"/>
              </a:rPr>
              <a:t>u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5"/>
              </a:rPr>
              <a:t>http://www.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6"/>
              </a:rPr>
              <a:t>cl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7"/>
              </a:rPr>
              <a:t>.cam.ac.uk/~jac2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2666880" y="609480"/>
            <a:ext cx="762120" cy="72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7680" y="88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33640" y="612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060C6CB-AE3C-40C6-9D58-9E268564D77E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hase 3 MANET Research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versity, Heterogeneity, Ad Hocker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“one size fits all” generic solu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silver bulle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IP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haracterize by Scenari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pplication, Use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ower, Spectrum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obility, RF Prop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BAA93-E003-414F-91C5-B04C40D2E1DA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s per Internet, pre IMC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ut many different ne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need to interconnect the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ach is bespoke/custo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eed to build codified mod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o can pick one for scenario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ut of a “library” of models&amp;cod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ooks like software defined radio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ut for whole network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1C1E3-E6FB-425B-BA3B-3BE1BFC3C06D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istributed Learning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uld we build self-awareness i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ave all MANETs log behaviou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load to infrastructure when onlin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it like sourceforge+crawdad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mbin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eed some sort of authentica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o bad guys don’t infect cod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so like p2p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127B8-A7BB-480C-85C7-3E906AAFBC43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hase 1,2,3,4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roliferation of routing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rototypical deploymen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aybe codification of scenario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etting commercial uptak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BD8B1-52F5-4D1E-A887-D945D7F2F233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on Crowcroft</dc:creator>
  <dc:description/>
  <dc:language>en-US</dc:language>
  <cp:lastModifiedBy>jon crowcroft</cp:lastModifiedBy>
  <dcterms:modified xsi:type="dcterms:W3CDTF">2006-05-21T16:05:26Z</dcterms:modified>
  <cp:revision>231</cp:revision>
  <dc:subject/>
  <dc:title>Inroads</dc:title>
</cp:coreProperties>
</file>