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0666-5D7A-4F9F-B2DD-6456EAB4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8A5D-8C0A-46B1-91C0-B7BD8A9C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1C20-4CBF-45ED-B02B-15D56BFA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4446-EF46-45D5-BC9B-5D706A37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AAF8-B5EB-49F3-B320-44CA82CD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8ECB-B41F-43B2-A572-29592C4C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A7B7-D615-47F0-8535-DEC2D2AA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917B-B37E-4A46-8A18-0922A543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D191-26B7-4776-888C-4830EEC5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89C2-5690-4031-8385-80610EB7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D00A-C00A-49EE-BAB2-6FC7AFD6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1687-73DC-47B8-B293-A70D7997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B2EE-3BF6-4325-841D-2D0A2FCC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82AF-00E5-42B2-8ED3-3658C384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C985-A779-4CC9-8E51-1FBDCFE6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2D2F-1CB7-4486-8DE3-7DFAAD71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EADC-0B4C-4EC7-A890-A2885CAA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32DB-56E7-4903-A365-80E91717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C0CA-26B9-4B5D-BB5C-2ADCD5F9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2C08-8316-4A49-B1E8-B7712E5C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FF24-ABF0-4568-A352-6533D92B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B960-60DA-4279-BB52-50707B78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7072-E149-4982-8735-06FDECB2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60BB-6BC1-4D8C-8E3F-0BC911C4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7D6F-0486-4A8B-807D-AD9CD60B041F}" type="datetime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REALMAN 2006, Firen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2ECE-ADD9-4C68-A42C-4289246632A4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1036-BD1C-4A49-8555-DB1E1157BDAD}" type="datetime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REALMAN 2006 Pa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33BD-3485-4646-8D4E-AF6867552C6F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University of Cambridge"/>
          <p:cNvPicPr/>
          <p:nvPr/>
        </p:nvPicPr>
        <p:blipFill>
          <a:blip r:embed="rId3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hyperlink" Target="mailto:Jon.crowcroft@cl.cam.ac.uk" TargetMode="External"/><Relationship Id="rId3" Type="http://schemas.openxmlformats.org/officeDocument/2006/relationships/hyperlink" Target="mailto:Jon.crowcroft@cl.cam.ac.uk" TargetMode="External"/><Relationship Id="rId4" Type="http://schemas.openxmlformats.org/officeDocument/2006/relationships/hyperlink" Target="mailto:Jon.crowcroft@cl.cam.ac.uk" TargetMode="External"/><Relationship Id="rId5" Type="http://schemas.openxmlformats.org/officeDocument/2006/relationships/hyperlink" Target="http://www.cl.cam.ac.uk/~jac22" TargetMode="External"/><Relationship Id="rId6" Type="http://schemas.openxmlformats.org/officeDocument/2006/relationships/hyperlink" Target="http://www.cl.cam.ac.uk/~jac22" TargetMode="External"/><Relationship Id="rId7" Type="http://schemas.openxmlformats.org/officeDocument/2006/relationships/hyperlink" Target="http://www.cl.cam.ac.uk/~jac22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8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8435880" cy="1555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REALMAN ‘06 Pan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How REAL must be the ad hoc network research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520" y="4038120"/>
            <a:ext cx="6172200" cy="2057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Jon Crowcroft (University of Cambridg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1"/>
              </a:rPr>
              <a:t>Jon.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2"/>
              </a:rPr>
              <a:t>crowcroft@cl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3"/>
              </a:rPr>
              <a:t>.cam.ac.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4"/>
              </a:rPr>
              <a:t>u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5"/>
              </a:rPr>
              <a:t>http://www.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6"/>
              </a:rPr>
              <a:t>cl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7"/>
              </a:rPr>
              <a:t>.cam.ac.uk/~jac2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2666880" y="609480"/>
            <a:ext cx="762120" cy="720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7680" y="88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33640" y="612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8825E5E-F472-47DE-B769-1432799D8AAA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hase 3 MANET Research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versity, Heterogeneity, Ad Hocker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“one size fits all” generic solut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silver bulle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IP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haracterize by Scenari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pplication, Use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ower, Spectrum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obility, RF Prop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6263C-10C5-4F37-9DCA-6DFBF120B9B7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As per Internet, pre IMC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ut many different ne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need to interconnect the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ach is bespoke/custo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eed to build codified mod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o can pick one for scenario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ut of a “library” of models&amp;cod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ooks like software defined radio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ut for whole network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1FC1D-BF4B-46AA-A16D-365701C85A4B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Distributed Learning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uld we build self-awareness i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ave all MANETs log behaviou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pload to infrastructure when onlin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it like sourceforge+crawdad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mbin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eed some sort of authenticat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o bad guys don’t infect cod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so like p2p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78B69-83F9-4353-B1CB-858BB5C3056B}" type="datetime1">
              <a:rPr lang="en-US"/>
              <a:t>07/31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hase 1,2,3,4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roliferation of routing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rototypical deploymen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aybe codification of scenario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etting commercial uptak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EED83D-0842-4069-A859-CE827E306C5C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on Crowcroft</dc:creator>
  <dc:description/>
  <dc:language>en-US</dc:language>
  <cp:lastModifiedBy>jon crowcroft</cp:lastModifiedBy>
  <dcterms:modified xsi:type="dcterms:W3CDTF">2006-05-21T16:05:26Z</dcterms:modified>
  <cp:revision>231</cp:revision>
  <dc:subject/>
  <dc:title>Inroads</dc:title>
</cp:coreProperties>
</file>