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35E2-07A6-403C-8919-916BD013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825-2C2C-4275-BB37-0C05976E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93D-EAEA-4AD5-9C04-75F20D97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63B-E1D8-4165-B73F-9E7D1275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0F23-94CF-40B9-8C06-092E6245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B100-84C6-4EF6-9A9A-E5662604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C87F-E9AB-4602-B548-E418D444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2515-4EBD-4541-AA5F-C61F6DDA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ECF3-634D-40AD-958C-F17B2493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D8BE-ADCB-414B-8C13-7358FE1C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049D-FAFE-48BF-8A53-9D6FCF7F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267-15BE-470F-A219-C17D53A0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8624-360D-4147-A147-4711C46F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BBB5-4597-44F8-9565-701478A9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B59A-65E5-4ECF-AF5D-A3083FB2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14E0-2ABF-4F4B-94CE-F9265356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DD39-2DEE-4C49-8CFE-DE283B33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DED-1C30-4CA1-ABF0-E8682D26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3DD-ED29-4AD9-82DE-C49065D6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CB8-21D3-4F20-9662-4827093B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DA8-53CA-4656-8AED-DBE9AA8F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E81-0D80-4429-81D8-D31ACA1E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DF8-7ED9-4CE7-80EC-51F7348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2B0-56BF-4016-BE51-3DD0EB43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oFI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0A22-89C9-436C-955D-732741E87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75B7-3F50-4F11-9B61-972A54CC8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Mobile QoS:Can we provide predictable services for unpredictably mobile users?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4600" y="310356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n.Crowcroft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 Adaption v. Guarant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ld chestnut – can always do adaptation, but users (particularly humans) don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eed admission control (Yes, I agree with Jim Roberts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policed down to the MAC/physical layer, and included in spectrum al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uggest spectrum allocation by economic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e surprising price for surprising Qo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em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string/gibbens/kelly/crowrof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ptim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utility function to optimi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optimise the aggregate util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dapt their transmission rates (c.f. 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prices set by aggregate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nodes adapt prices (c.f. AT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rates are set by route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 are used to guide a system to its optimum operating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N nodes:  node S has R routes to send traffic to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select particular route(s) to u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equipped with one directional trans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cannot send/receive simultaneousl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ent, received or forwarded (received &amp; sent) is constrained by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speed of wireless ca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power consumption at a node is constrain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nsumed by transmitting/receiving/forwarding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e Control, Price Adap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node has a willingness-to-pa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node’s credit ba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S determines the route with minimum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discovered by, e.g. DS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sending 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price is the cumulative cost of sending traffic on each hop along the rou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cost &amp; receiv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include power costs and capacit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dapt bandwidth and power pr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local total traffic load and power consump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477120" y="3657600"/>
                <a:ext cx="136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185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s for users to forward traff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receive credit for forwarding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received is dependent on the node prices and the magnitude of the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receive an initial credit balance of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-to-pay is proportional to credit bal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s lost when users leave th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lost depends on credit accrued by the user during its stay in the networ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a discount fact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4191120"/>
                <a:ext cx="4970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placed nodes in a 100mx100m gr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odes within range of a node’s radio are its neighb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re ON-OFF 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/OFF periods are exponential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s for traffic during ON period are uniform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costs are determined when a connection is initi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cost route is selec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not changed during conne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routing information being distributed within the networ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route flapp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ptimum not achieved, but reflects routing in actual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tatic Net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3052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28600" y="15238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s are strongly dependent on lo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 is often used by other nodes to forwar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’s location requires higher energy to transmit to neighbouring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1 has very low power price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5676840" cy="42577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62120" y="2286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2200" y="167616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does not have the highest bandwidth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can be routed around edge of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 edge nodes (N1 and N7) carry minimal traf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andwidth prices rapidly head to z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Credit Balan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balances are strongly dependent on loc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It accumulates the most credit by forwarding traffic for other no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neglig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dit reple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oS is most wanted when it is leas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eless networks are the last frontier of scarce resource, and will remain so for so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ig Challenge appears to be coping with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dictable service is what the subscriber and provider both w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lessons are there from QoS Architectures from Wired Networks, and What is Missing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Network Simu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rrive according to a Poisson proc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geographically placed according to a uniform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’ stay in the network is exponentially distribut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 must be updated within the network for ongoing connec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total credit evolv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-4572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0" y="914400"/>
            <a:ext cx="2743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ival of a user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lways increases the total credit by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ge in total credit, due to a departure of a user,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varies depending on the credit the user has accumul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the system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cays to the number of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ecay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pends on </a:t>
            </a:r>
            <a:r>
              <a:rPr b="0" lang="en-US" sz="2000" spc="-1" strike="noStrike">
                <a:solidFill>
                  <a:srgbClr val="9999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th of Mobile No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2728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Node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0666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1 increases as it moves towards the centre of the net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Routes are increasingly chosen with N1 as a forwarding no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8  de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1 provides competition for N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Less energy is required to transmit to N1 as it moves clo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1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8 also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Greater flow of traffic between N1 and N8 as they move closer toge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vidual Node Throughpu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70360" y="169056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0" y="990720"/>
            <a:ext cx="2743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s of both N1 and N8 incre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re traffic between the no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oth nodes have more credit to sen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4 is the node most often used to forward traffic to N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transmitted from N4 to N1 is relatively che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Network Throughpu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400800" y="380880"/>
            <a:ext cx="2743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etwork throughput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ncreased throughput for N1 has not been at the expense of the overall network 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bility (in an appropriate direction) has increased the performance of th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system  is con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ummary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a system model for the interaction between nodes in a mobile ad hoc networ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price mechanisms and credit balance to provide framework for coope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 demonstr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s of tota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increases with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our scheme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imescale decomposition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op people working on pure ad hoc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we know its fun, but it makes no sen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Intel to build some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FCC to let us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 denial,theft,witnes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ash (double spend/fo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ignatures (trust h/w – e.g. A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becomes a Wired Internet QoS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scale decomposition (short to longe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ada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ffic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 Provis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de and Link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Priori Knowled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uch do we know or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TCP Padhye Equa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RTP VOIP/on-of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oisson Arrival of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VOIP – Erlang sta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ffic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e/Elephant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 level source/destinatio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similar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llular/Wireless Acces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hau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backh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have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different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k” capacity not necessarily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on spectrum allocati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(less usually) on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urce model may be affected by var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cell, distance from bas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ad hoc, route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feedback, e.g. TCP adapts (or proxy/splic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trix is more rapidly time va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aggregate behaviour is really random…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n we still use traditional tool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at we believe about random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real world, we know about the disposi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RF propagation models for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do not move rando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ng architected and plann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use communication rando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d hoc/hybrid case specially har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y you use ad h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networks-  small, not multi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dezvo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\t need high capacity (unless to reach printer/back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hicle networks – take a differen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etwork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constellation simply swap through cell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use multi-hop, but, eventually, reach road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ty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in vehicle makes spectrum re-use efficient even in flash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rue random movement betwee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quences for MAC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have power/distance aware MACs (trend in 802.11* and Blue Tooth is to hide this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hink about information theory in regard to ap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vehicle network, for real time monitor and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where between Gupta/Kum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rossglauser/T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esign to be at the good e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10-01T13:07:28Z</dcterms:modified>
  <cp:revision>65</cp:revision>
  <dc:subject/>
  <dc:title>Multicast extensions for TCP</dc:title>
</cp:coreProperties>
</file>