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D9DD-800B-4F22-B05E-4A0D25A19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889E-3511-43D5-B356-E03F91E8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5DD7-390A-4EEB-8C8E-E1E7F7806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7E39-F688-4773-9B2E-F960AB63A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65B0-B14C-4761-9FE0-E88ADE2C3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F455-ED80-41E2-A2F8-A7B21410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7DAA-7396-453C-BD71-D09A5ABA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AAC8-DC34-4BFA-A490-A9EDF44E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2C2F-CA67-47E2-8949-9AE3B7AC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EC36-9512-49FE-B7D5-D12B9A78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2687-8E18-4760-A9B6-60D84609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D7C1-A1F4-4F22-ADF4-11615CBF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97AB-DE15-4C7B-A537-8F0B4F12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EC53-5C34-482B-A685-C0BC1DD0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AEDB-8929-469E-A5C5-6965691D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F741-9A31-431C-8EDD-8BC48B3BC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16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9440" y="152388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16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9440" y="3912120"/>
            <a:ext cx="269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D99C-18A7-4B8B-BF56-78ED85F94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9B8D-133B-48B1-B291-9D798CF4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2CA0-7575-4FEC-A021-B9BCA91C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DDA3-FD0C-4510-9C67-B74EA2FF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9A63-3197-4DE7-B3F7-C2202678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88B2-1622-4D30-89A0-45C8EDC6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91212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6751-6866-4D15-A08B-50D3268B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523880"/>
            <a:ext cx="4090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912120"/>
            <a:ext cx="83822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2CC2-6CDE-44A7-B510-6D20DCB2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5280" y="6381720"/>
            <a:ext cx="244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oFIS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6F53-758A-46F1-A1D6-C185A326A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934320" y="6093000"/>
            <a:ext cx="1823760" cy="5950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93560" y="1143000"/>
            <a:ext cx="838224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838080"/>
            <a:ext cx="381240" cy="3276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735280" y="6237000"/>
            <a:ext cx="36734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9560-D2AF-474C-8909-BAE865F34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10080" y="4818240"/>
            <a:ext cx="3027600" cy="987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917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100" spc="-1" strike="noStrike">
                <a:solidFill>
                  <a:srgbClr val="000000"/>
                </a:solidFill>
                <a:latin typeface="Arial"/>
              </a:rPr>
              <a:t>Mobile QoS:Can we provide predictable services for unpredictably mobile users?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62120" y="26668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n Crowcr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14600" y="310356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on.Crowcroft@cl.cam.ac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plication Adaption v. Guarante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old chestnut – can always do adaptation, but users (particularly humans) don’t lik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need admission control (Yes, I agree with Jim Roberts!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to be policed down to the MAC/physical layer, and included in spectrum allo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uggest spectrum allocation by economic meas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itute surprising price for surprising QoS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bilem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string/gibbens/kelly/crowrof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Optimis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user has a utility function to optimis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is optimise the aggregate utilit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l Algorith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adapt their transmission rates (c.f. TC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 prices set by aggregate traffi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al Algorith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nodes adapt prices (c.f. ATM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rates are set by route pr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ff66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s are used to guide a system to its optimum operating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ystem Mode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of N nodes:  node S has R routes to send traffic to 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select particular route(s) to u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re equipped with one directional transcei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s cannot send/receive simultaneousl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sent, received or forwarded (received &amp; sent) is constrained by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speed of wireless car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power consumption at a node is constrained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consumed by transmitting/receiving/forwarding traff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te Control, Price Adapt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node has a willingness-to-pay paramet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s on node’s credit balan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 S determines the route with minimum pr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s discovered by, e.g. DS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 for sending r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price is the cumulative cost of sending traffic on each hop along the rou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ssion cost &amp; receiving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s include power costs and capacity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dapt bandwidth and power pr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local total traffic load and power consump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477120" y="3657600"/>
                <a:ext cx="1368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redit Bala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18560" cy="45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incentives for users to forward traff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receive credit for forwarding traffi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of credit received is dependent on the node prices and the magnitude of the 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receive an initial credit balance of 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ingness-to-pay is proportional to credit balan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is lost when users leave the sy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of credit lost depends on credit accrued by the user during its stay in the networ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a discount fact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590920" y="4191120"/>
                <a:ext cx="49705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β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r</m:t>
                        </m:r>
                        <m:r>
                          <m:t xml:space="preserve">:</m:t>
                        </m:r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mulation Desig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ly placed nodes in a 100mx100m gri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nodes within range of a node’s radio are its neighbou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s are ON-OFF sour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/OFF periods are exponentially distribut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s for traffic during ON period are uniformly distribut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costs are determined when a connection is initi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cost route is select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not changed during connec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s routing information being distributed within the networ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s route flapp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optimum not achieved, but reflects routing in actual net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ndom Static Networ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30520" y="1671480"/>
            <a:ext cx="5676840" cy="425952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ic Nodes: Power Pri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5676840" cy="425916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228600" y="1523880"/>
            <a:ext cx="2743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prices are strongly dependent on lo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8 has the highest power pr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It is often used by other nodes to forward traffi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It’s location requires higher energy to transmit to neighbouring no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1 has very low power price</a:t>
            </a: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ic Nodes: Bandwidth Pri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5676840" cy="425772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762120" y="2286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72200" y="1676160"/>
            <a:ext cx="2743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8 does not have the highest bandwidth pr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Traffic can be routed around edge of the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eme edge nodes (N1 and N7) carry minimal traff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bandwidth prices rapidly head to zer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ic Nodes: Credit Balan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143000"/>
            <a:ext cx="2743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balances are strongly dependent on loca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8 has the highest power pr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ff"/>
                </a:solidFill>
                <a:latin typeface="Arial"/>
              </a:rPr>
              <a:t>It accumulates the most credit by forwarding traffic for other nod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n-negligi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redit replen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970360" y="1671480"/>
            <a:ext cx="5676840" cy="42516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oS is most wanted when it is least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reless networks are the last frontier of scarce resource, and will remain so for som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ig Challenge appears to be coping with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dictable service is what the subscriber and provider both w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lessons are there from QoS Architectures from Wired Networks, and What is Missing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ynamic Network Simul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s arrive according to a Poisson proces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are geographically placed according to a uniform distrib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s’ stay in the network is exponentially distribute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s must be updated within the network for ongoing connectio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total credit evolve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1760" y="-45720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tal Credit Bala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970360" y="1671480"/>
            <a:ext cx="5676840" cy="425952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0" y="914400"/>
            <a:ext cx="27432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rrival of a user </a:t>
            </a: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always increases the total credit by 1.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ange in total credit, due to a departure of a user, </a:t>
            </a: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varies depending on the credit the user has accumula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credit in the system </a:t>
            </a: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decays to the number of us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 of decay </a:t>
            </a: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depends on </a:t>
            </a:r>
            <a:r>
              <a:rPr b="0" lang="en-US" sz="2000" spc="-1" strike="noStrike">
                <a:solidFill>
                  <a:srgbClr val="9999ff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th of Mobile No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27280" y="1676520"/>
            <a:ext cx="5676840" cy="425916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bility: Node Power Pri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970360" y="1671480"/>
            <a:ext cx="5676840" cy="42516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0" y="1066680"/>
            <a:ext cx="2743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price of N1 increases as it moves towards the centre of the networ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Routes are increasingly chosen with N1 as a forwarding nod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price of N8  decre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N1 provides competition for N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Less energy is required to transmit to N1 as it moves clos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bility: Bandwidth Pri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0"/>
            <a:ext cx="2743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 price of N1 incre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Overall increase in traffic in the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 price of N8 also incre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Greater flow of traffic between N1 and N8 as they move closer toget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Overall increase in traffic in the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 Price of N4 incre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6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5760" y="1671480"/>
            <a:ext cx="5676840" cy="42516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dividual Node Throughpu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970360" y="1690560"/>
            <a:ext cx="5676840" cy="42516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0" y="990720"/>
            <a:ext cx="2743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puts of both N1 and N8 increa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More traffic between the nod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Both nodes have more credit to send traffi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oughput of N4 incre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N4 is the node most often used to forward traffic to N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Traffic transmitted from N4 to N1 is relatively che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tal Network Throughpu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5760" y="1671480"/>
            <a:ext cx="5676840" cy="4251600"/>
          </a:xfrm>
          <a:prstGeom prst="rect">
            <a:avLst/>
          </a:prstGeom>
          <a:ln w="57240">
            <a:solidFill>
              <a:srgbClr val="660066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6400800" y="380880"/>
            <a:ext cx="27432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network throughput incre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Increased throughput for N1 has not been at the expense of the overall network throughp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99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Mobility (in an appropriate direction) has increased the performance of the 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6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Credit in system  is cons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summary..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a system model for the interaction between nodes in a mobile ad hoc networ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price mechanisms and credit balance to provide framework for cooper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s demonstra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s of total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put increases with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our scheme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timescale decomposition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stop people working on pure ad hoc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 we know its fun, but it makes no sens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in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uade Intel to build some c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uade FCC to let us do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r denial,theft,witness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ash (double spend/for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 signatures (trust h/w – e.g. AR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ll done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99640" y="2060280"/>
            <a:ext cx="4032360" cy="16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s for liste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at becomes a Wired Internet QoS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scale decomposition (short to longest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ha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o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mission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ada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ffic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 Provisi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de and Link 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 Priori Knowled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Much do we know or lea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rc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TCP Padhye Equa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RTP VOIP/on-of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Poisson Arrival of s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VOIP – Erlang sta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ffic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e/Elephant aggre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te 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P level source/destination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hat’s similar for mobil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ellular/Wireless Access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ckhaul capacity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ll capacity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 H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backha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have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hat’s different for mobil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nk” capacity not necessarily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pends on spectrum allocation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pends (less usually) on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ource model may be affected by vari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cell, distance from base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ad hoc, route capac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feedback, e.g. TCP adapts (or proxy/splice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trix is more rapidly time var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f aggregate behaviour is really random…s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an we still use traditional tool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pends on what we believe about random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real world, we know about the disposition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lk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e RF propagation models for th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rs do not move random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ong architected and planned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use communication random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s ad hoc/hybrid case specially hard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pends on why you use ad ho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networks-  small, not multi-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ndezvou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n\t need high capacity (unless to reach printer/back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hicle networks – take a different approa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network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 constellation simply swap through cells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use multi-hop, but, eventually, reach road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nty of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l in vehicle makes spectrum re-use efficient even in flash crow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-37692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ar true random movement betwee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2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equences for MAC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have power/distance aware MACs (trend in 802.11* and Blue Tooth is to hide this inform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think about information theory in regard to appli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vehicle network, for real time monitor and contr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where between Gupta/Kuma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Grossglauser/T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design to be at the good e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19:02:12Z</dcterms:created>
  <dc:creator>Karl Jeacle</dc:creator>
  <dc:description/>
  <dc:language>en-US</dc:language>
  <cp:lastModifiedBy>jon</cp:lastModifiedBy>
  <dcterms:modified xsi:type="dcterms:W3CDTF">2003-10-01T13:07:28Z</dcterms:modified>
  <cp:revision>65</cp:revision>
  <dc:subject/>
  <dc:title>Multicast extensions for TCP</dc:title>
</cp:coreProperties>
</file>