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2DA9-B559-43F7-B8D3-C5D3087FF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B98-FC63-4533-AE29-B0F9C500F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– as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peaker (TaeSaeng Choi, ETRI) mentioned – is pretty shit to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be move to autonomic stuff of some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0439-9014-4D72-BCEB-6E1C777F3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B3CCF-AF7D-4342-9AAF-1B14B62F5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C40CD-B538-41BE-81DF-A5C0F4218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ECFFB-D66A-4194-8DEE-8BF9CFC9D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3FBD-BA64-4FBC-8AF6-E3B2D9BD6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959EF-B8E1-43AD-B938-1EC1F3E1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F25A-4A6C-4C33-A46F-797A89A85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C05E-3B7D-40A7-B0A4-C3A4276DF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CE58-CE5A-4044-AF5A-457FB75E3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0C30-15EB-40E5-B85A-E872EDA9A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513F-907F-463D-B460-A072F7625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CA91-7BFE-4FB3-A28C-62910E03D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NTT Labs, August,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A66C-03DC-4AA2-92BD-111196DCC2E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2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hyperlink" Target="mailto:Jon.crowcroft@cl.cam.ac.uk" TargetMode="External"/><Relationship Id="rId3" Type="http://schemas.openxmlformats.org/officeDocument/2006/relationships/hyperlink" Target="mailto:Jon.crowcroft@cl.cam.ac.uk" TargetMode="External"/><Relationship Id="rId4" Type="http://schemas.openxmlformats.org/officeDocument/2006/relationships/hyperlink" Target="mailto:Jon.crowcroft@cl.cam.ac.uk" TargetMode="External"/><Relationship Id="rId5" Type="http://schemas.openxmlformats.org/officeDocument/2006/relationships/hyperlink" Target="http://www.cl.cam.ac.uk/~jac22" TargetMode="External"/><Relationship Id="rId6" Type="http://schemas.openxmlformats.org/officeDocument/2006/relationships/hyperlink" Target="http://www.cl.cam.ac.uk/~jac22" TargetMode="External"/><Relationship Id="rId7" Type="http://schemas.openxmlformats.org/officeDocument/2006/relationships/hyperlink" Target="http://www.cl.cam.ac.uk/~jac22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705040" y="4212720"/>
            <a:ext cx="5797440" cy="26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Jon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crowcroft@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.cam.ac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4"/>
              </a:rPr>
              <a:t>uk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5"/>
              </a:rPr>
              <a:t>http://www.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6"/>
              </a:rPr>
              <a:t>cl</a:t>
            </a:r>
            <a:r>
              <a:rPr b="0" lang="en-GB" sz="2000" spc="-1" strike="noStrike" u="sng">
                <a:solidFill>
                  <a:srgbClr val="0c2e86"/>
                </a:solidFill>
                <a:uFillTx/>
                <a:latin typeface="Verdana"/>
                <a:hlinkClick r:id="rId7"/>
              </a:rPr>
              <a:t>.cam.ac.uk/~jac22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4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2F08-21DB-4968-B4D2-4954139863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8E81-A020-4045-9654-5439557397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5252-FA9D-4B36-97E2-462B040636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F913-08D3-45F2-86FB-BFE690BCFA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4A46-EFB9-4A33-BF33-39B45DD5FB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A8CE-8344-450C-AF42-53B549046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6152-856D-4EF2-9B18-C35981CF4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C58E-52C8-4955-B962-5A85BF5B0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0E24-1F94-4686-B612-7F4C104A82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4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8122400">
              <a:off x="542664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A816-95A2-4123-8B13-53511953F4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 and Steven Hand (Cambridge, Ericsson, Sprint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AC90-EBE4-483D-B3DA-F91E5F9664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C3AE-0FE6-469B-865D-6D36D3BBBB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7272D-3757-4F89-B1BA-648772BF19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EEC6-307F-43B1-9DC7-38246B4D06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D846-FC73-4858-80AF-B0C038BFB5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C935-1039-4AB4-9A75-8B16CDCC06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5922-340F-44CB-9235-D158456822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1800" indent="-27180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n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2C7C-B652-4E42-BC71-721F63568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EU Projects/Grouping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cadia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st action including 2 members per EU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Onelab, etc - proposal stag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iff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IP just agree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ignement with US - weak, but presen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National programs: UK JANET + Cambridge/UC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0F81-E6A0-42C7-A0B2-943F6412CF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F717-A12F-4622-8E71-920726DD8A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615A-E5B9-4E45-9D1C-1ED13AF55A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1653-BD2E-423E-A08A-20C164F8B0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C9C6-0B35-4343-A02A-1B0F3F880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One (incremental) view:</a:t>
            </a:r>
            <a:br>
              <a:rPr sz="3200"/>
            </a:b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Don’t Panic!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Congestion collaps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CP congestion control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he backbone won’t scale! 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Traffic Engineering, DWDM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e’ll run out of address space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CIDR, NAT (and IPNL, 4+4, Triad, …)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Long fat pipes are under-used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calable TCP, HSTCP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Protocol stacks can’t keep up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Zero-copy I/O, TSO, …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TCP doesn’t work on wireless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Split-TCP, i-TCP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80000"/>
              </a:lnSpc>
              <a:spcBef>
                <a:spcPts val="10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But what about security!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80000"/>
              </a:lnSpc>
              <a:spcBef>
                <a:spcPts val="6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60a8"/>
                </a:solidFill>
                <a:latin typeface="Verdana"/>
              </a:rPr>
              <a:t>Firewalls, Application-level filtering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FEF5-3E54-4D13-A872-740046131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So everything’s ok then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ll, no…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kludg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any solutions are stop-gap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NAT for a billion cellular devices? a trillion sensors?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management story whatsoever… and security really </a:t>
            </a:r>
            <a:r>
              <a:rPr b="1" lang="en-US" sz="1600" spc="-1" strike="noStrike">
                <a:solidFill>
                  <a:srgbClr val="0860a8"/>
                </a:solidFill>
                <a:latin typeface="Verdana"/>
              </a:rPr>
              <a:t>i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 probl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19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 a nutshell: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: Just-in-time Engineering” (Anon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has always just been saved from catastrophic failure” (M Handley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5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0860a8"/>
                </a:solidFill>
                <a:latin typeface="Verdana"/>
              </a:rPr>
              <a:t>The Internet is a triumph of human ingenuity over common sense” (S Hand)</a:t>
            </a:r>
            <a:endParaRPr b="0" lang="en-US" sz="1500" spc="-1" strike="noStrike">
              <a:solidFill>
                <a:srgbClr val="0860a8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276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860a8"/>
                </a:solidFill>
                <a:latin typeface="Verdana"/>
              </a:rPr>
              <a:t>That isn’t architecture, it’s sloppy building repairs!</a:t>
            </a:r>
            <a:endParaRPr b="0" lang="en-US" sz="17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C0A2-6EEC-47FB-BDDD-0071FD161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6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BC69E-BC01-4C5B-941C-6C95386933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7-08-05T13:21:58Z</dcterms:modified>
  <cp:revision>255</cp:revision>
  <dc:subject/>
  <dc:title>Haggle Work </dc:title>
</cp:coreProperties>
</file>