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B896-36FC-4766-BDDE-8AAA72E8B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D9AF-CDC9-4699-ADB5-309A8077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5F39-5EDE-412B-9A2D-5D6C72681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4726-F53A-4F63-B8BF-3FEC38CCE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BDCB-0A10-4476-B7DC-B685D7679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5868-C0FD-4D10-96A1-5FBB3716A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9FB7-7893-42FC-BB9B-3E61E81FE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17E4-AFF0-44A5-A15B-2528FBA41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B39E-E8A8-4141-BA20-6C76D7B84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DA68-93A2-4098-9EA5-72A672228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D8AF-A64D-40D0-9930-6C3E8FB53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6AF5-22C1-4E68-881B-7038A40DB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6E55-7EC1-4067-B82D-8E75BB87E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99F4-5E45-4A79-962E-2D0218E7F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NTT Labs, August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EACE-7997-4DF6-9E8A-C27AB4D21FF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4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42D9-EEC1-4642-9778-21F50EE727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A517-F9C9-4DF6-B4AC-38C92F95B7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256F-59BF-4DEC-BC49-C2AB2CFF89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5913-193D-442B-8AD7-312AE485B9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9E49-26DF-4F5F-ABF7-4E00E74517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EEDA-C66F-4708-83D9-DF027FA270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6803-F0EA-4E2A-9E7F-7BFE60D954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CC3F-7585-4E91-93C3-8735D110C3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BA6B-8987-41AC-9C8D-E8A796B84D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4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122400">
              <a:off x="542664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7A39-269E-4B2E-9FF3-DE2C07DA82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 and Steven Hand (Cambridge, Ericsson, Sprint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D79E-C5E2-4540-8969-8D9B9EC9BD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AB9B-96C4-45A5-8783-81CDF8EEB3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833B-A56F-40E6-AC8D-680C7D5458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9DD6-8BB2-4D23-9B67-3B661F7712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E247-FA5C-45B4-8335-2C450C8B75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2923-0686-48EB-A793-E2489F0E21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07E6-A4D5-42C8-A904-8DC02A446C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n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5EE3-BE11-4DC8-9B65-BCD77CC6D8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U Projects/Grouping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cadi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st action including 2 members per EU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nelab, etc - proposal st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iff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IP just agree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ignement with US - weak, but pres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National programs: UK JANET + Cambridge/UC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6B9C-323C-4E9B-B764-BC64C04194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3E62-6000-491D-B6E3-244C92059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EAE6-80EA-4FB9-9FB4-AEACD7701F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8CA2-0493-477B-963D-A29F78D4FC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442F-2CF9-40E4-9BDF-B54A7155A9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D975-3659-4F1B-867C-9C41FC919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1411-A782-4E37-BF04-0EE49E286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2C6B-90B6-4719-A916-B26FE91D3D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8-05T13:21:58Z</dcterms:modified>
  <cp:revision>255</cp:revision>
  <dc:subject/>
  <dc:title>Haggle Work </dc:title>
</cp:coreProperties>
</file>