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0094-DF51-4EEC-B1A9-E0DAD6D97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8925-826E-44D4-8568-97735EE3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081D-8312-44BB-AD67-AB744FF9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E979-EDA4-4F05-AF91-A3864BDD1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9DB5-0A54-43E8-840E-6F61FC334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7117-1F34-4336-9FA0-0FA2E89A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AB1E-FB25-4F50-9884-C12ACDFC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CC12-FB31-49EB-850C-D0D0D9F5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FDA6-3EC7-4117-9A34-33200765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E1A3-F2C4-4CE6-ADFF-D98C2EE6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4242-F7BE-4E4F-8A2E-C6D39B42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C5EC-A674-4AA6-B11F-2CB76EEA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87E1-8447-43F8-9D4A-0C29C980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519A-B8EF-44CA-ABAB-9051E3AE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9DF6-4954-4262-96EC-049F0A7B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2CB9-95A1-4E94-BFEC-ACC5989D2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16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944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16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944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5E89-E4D8-47BB-BF8A-56D4F1F9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3739-1A71-435B-85B6-14F76A81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69D2-335D-4568-86ED-A4DECEED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9C83-DF2A-4234-A4D4-96FD8892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5E38-496F-44FB-985C-056FC753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904A-855A-499A-9EAE-C4DA7903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83A0-B303-4ECC-9FD3-218EB94E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4CE5-49D3-47E9-B300-82AC0D8B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5280" y="6381720"/>
            <a:ext cx="244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Hands Meeting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ACCD-8D71-4726-8BC5-4C71E9312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934320" y="6093000"/>
            <a:ext cx="1823760" cy="5950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93560" y="1143000"/>
            <a:ext cx="838224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838080"/>
            <a:ext cx="381240" cy="3276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735280" y="6237000"/>
            <a:ext cx="36734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9A4C-046F-4F60-AD44-77B35EE96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10080" y="4818240"/>
            <a:ext cx="3027600" cy="987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917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Reliable high-speed Grid data delivery using IP Multicas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62120" y="26668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rl Jeacle &amp; Jon Crowcr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52840" y="3103560"/>
            <a:ext cx="49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.lastname@cl.cam.ac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 eng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does initial TCP come f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use BSD or 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ing from kernel could be proble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mpact alter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wIP = Lightweight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but fully RFC-compliant TCP/IP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wIP + multicast extensions =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P-X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43280" y="1852560"/>
            <a:ext cx="11160" cy="392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08800" y="1884240"/>
            <a:ext cx="10800" cy="392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43280" y="198900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5800" y="17733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07520" y="20750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N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45800" y="249228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43280" y="32986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843280" y="22827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843280" y="365904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843280" y="47973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843280" y="52354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43280" y="33717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43280" y="45813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43280" y="24922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43280" y="54514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45800" y="437832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82560" y="50259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82560" y="365904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82560" y="47973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45800" y="54450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46160" y="30830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43280" y="3443400"/>
            <a:ext cx="2781360" cy="13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38000" y="28065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70160" y="280656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81320" y="2492280"/>
            <a:ext cx="0" cy="20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954760" y="134136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54760" y="299736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54760" y="465300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281320" y="1412640"/>
            <a:ext cx="3673440" cy="12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68360" y="2698920"/>
            <a:ext cx="368640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74840" y="2732040"/>
            <a:ext cx="3679920" cy="199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274840" y="1484280"/>
            <a:ext cx="3679920" cy="13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274840" y="2863800"/>
            <a:ext cx="367992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2274840" y="2922480"/>
            <a:ext cx="3679920" cy="187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281320" y="1557000"/>
            <a:ext cx="3673440" cy="14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74840" y="3087720"/>
            <a:ext cx="3679920" cy="12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74840" y="3122640"/>
            <a:ext cx="3679920" cy="174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79520" y="1871640"/>
            <a:ext cx="3665520" cy="162864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81320" y="3500280"/>
            <a:ext cx="36734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70160" y="3500280"/>
            <a:ext cx="3676680" cy="1629000"/>
          </a:xfrm>
          <a:custGeom>
            <a:avLst/>
            <a:gdLst/>
            <a:ahLst/>
            <a:rect l="l" t="t" r="r" b="b"/>
            <a:pathLst>
              <a:path w="2316" h="1026">
                <a:moveTo>
                  <a:pt x="0" y="0"/>
                </a:moveTo>
                <a:lnTo>
                  <a:pt x="1511" y="0"/>
                </a:lnTo>
                <a:lnTo>
                  <a:pt x="2316" y="102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81320" y="1944720"/>
            <a:ext cx="3665520" cy="162864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1320" y="3573360"/>
            <a:ext cx="36734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1320" y="3573360"/>
            <a:ext cx="3676680" cy="1629000"/>
          </a:xfrm>
          <a:custGeom>
            <a:avLst/>
            <a:gdLst/>
            <a:ahLst/>
            <a:rect l="l" t="t" r="r" b="b"/>
            <a:pathLst>
              <a:path w="2316" h="1026">
                <a:moveTo>
                  <a:pt x="0" y="0"/>
                </a:moveTo>
                <a:lnTo>
                  <a:pt x="1511" y="0"/>
                </a:lnTo>
                <a:lnTo>
                  <a:pt x="2316" y="102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1320" y="2016000"/>
            <a:ext cx="3665520" cy="162900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1320" y="3645000"/>
            <a:ext cx="36734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1320" y="3645000"/>
            <a:ext cx="3676680" cy="1628640"/>
          </a:xfrm>
          <a:custGeom>
            <a:avLst/>
            <a:gdLst/>
            <a:ahLst/>
            <a:rect l="l" t="t" r="r" b="b"/>
            <a:pathLst>
              <a:path w="2316" h="1026">
                <a:moveTo>
                  <a:pt x="0" y="0"/>
                </a:moveTo>
                <a:lnTo>
                  <a:pt x="1511" y="0"/>
                </a:lnTo>
                <a:lnTo>
                  <a:pt x="2316" y="102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81320" y="2475000"/>
            <a:ext cx="3665520" cy="162864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81320" y="4176720"/>
            <a:ext cx="3673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281320" y="4247280"/>
            <a:ext cx="3665520" cy="162900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90000" y="34225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59240" y="177336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59240" y="34290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59240" y="50846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 connec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connects to multiple unicast dest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TCP PCBs cr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3-way handshakes take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M or random ASM group address allo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f not specified in advance by user/appl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address sent as TCP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multicast depends on TCP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 transmis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eplicated/enqueued on all send que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B variables dictate transmission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ackets are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ansmissions are un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 switch to unicast after failed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s closed as per unicast 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 recep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PI-level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TCP l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-IGMP join on TCP-XM 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s data on both unicast/multicast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_input() acce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s addressed to existing unicast destina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ow also those addressed to multicast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happens to the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wi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rece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PC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congestion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in(cw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send at rate of slowest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by splitting receivers into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according to cwin / data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I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relevant if natively implemen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er API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nnection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 to port on array of dest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write sends data to all h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-XM in 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nn = netconn_new(NETCONN_TCPX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tconn_connectxm(conn, remotedest, numdests, group, por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tconn_write(conn, data, len, …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CB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TCP connection has an associated Protocol Control Block (PC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-XM ad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uct tcp_pcb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uct ip_addr group_ip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group 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um tx_mode txmode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uni/multi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8t nrtxm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# retr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uct tcp_pcb *nextm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next “m” p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nking PCB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3886200"/>
            <a:ext cx="8382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s to the next TCP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next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s to the next TCP session that’s part of a particular TCP-XM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 timer and state machin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900000" y="1730520"/>
            <a:ext cx="936720" cy="1370160"/>
            <a:chOff x="900000" y="1730520"/>
            <a:chExt cx="936720" cy="1370160"/>
          </a:xfrm>
        </p:grpSpPr>
        <p:sp>
          <p:nvSpPr>
            <p:cNvPr id="206" name=""/>
            <p:cNvSpPr/>
            <p:nvPr/>
          </p:nvSpPr>
          <p:spPr>
            <a:xfrm>
              <a:off x="112032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5084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0000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0000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000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3328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20920" y="1730520"/>
            <a:ext cx="936720" cy="1370160"/>
            <a:chOff x="2320920" y="1730520"/>
            <a:chExt cx="936720" cy="1370160"/>
          </a:xfrm>
        </p:grpSpPr>
        <p:sp>
          <p:nvSpPr>
            <p:cNvPr id="213" name=""/>
            <p:cNvSpPr/>
            <p:nvPr/>
          </p:nvSpPr>
          <p:spPr>
            <a:xfrm>
              <a:off x="254124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7176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32092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32092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2092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5420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U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743280" y="1730520"/>
            <a:ext cx="936720" cy="1370160"/>
            <a:chOff x="3743280" y="1730520"/>
            <a:chExt cx="936720" cy="1370160"/>
          </a:xfrm>
        </p:grpSpPr>
        <p:sp>
          <p:nvSpPr>
            <p:cNvPr id="220" name=""/>
            <p:cNvSpPr/>
            <p:nvPr/>
          </p:nvSpPr>
          <p:spPr>
            <a:xfrm>
              <a:off x="396360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9412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74328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4328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4328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7656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5165640" y="1730520"/>
            <a:ext cx="936720" cy="1370160"/>
            <a:chOff x="5165640" y="1730520"/>
            <a:chExt cx="936720" cy="1370160"/>
          </a:xfrm>
        </p:grpSpPr>
        <p:sp>
          <p:nvSpPr>
            <p:cNvPr id="227" name=""/>
            <p:cNvSpPr/>
            <p:nvPr/>
          </p:nvSpPr>
          <p:spPr>
            <a:xfrm>
              <a:off x="538596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1648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16564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16564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6564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9892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6588000" y="1730520"/>
            <a:ext cx="936720" cy="1370160"/>
            <a:chOff x="6588000" y="1730520"/>
            <a:chExt cx="936720" cy="1370160"/>
          </a:xfrm>
        </p:grpSpPr>
        <p:sp>
          <p:nvSpPr>
            <p:cNvPr id="234" name=""/>
            <p:cNvSpPr/>
            <p:nvPr/>
          </p:nvSpPr>
          <p:spPr>
            <a:xfrm>
              <a:off x="680832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3884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8800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8800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8800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2128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U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835280" y="18748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62320" y="18748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681440" y="18748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03800" y="18748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81440" y="29541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28800" y="2957400"/>
            <a:ext cx="1903320" cy="325440"/>
          </a:xfrm>
          <a:custGeom>
            <a:avLst/>
            <a:gdLst/>
            <a:ahLst/>
            <a:rect l="l" t="t" r="r" b="b"/>
            <a:pathLst>
              <a:path w="1199" h="205">
                <a:moveTo>
                  <a:pt x="0" y="0"/>
                </a:moveTo>
                <a:cubicBezTo>
                  <a:pt x="192" y="102"/>
                  <a:pt x="384" y="205"/>
                  <a:pt x="584" y="205"/>
                </a:cubicBezTo>
                <a:cubicBezTo>
                  <a:pt x="784" y="205"/>
                  <a:pt x="991" y="102"/>
                  <a:pt x="119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Future Grid Contex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karl-ahm-p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755964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 Group Op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3886200"/>
            <a:ext cx="8382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group option sent in all TCP-XM SYN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ce implies multicast 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TCP-XM hosts will ignore (no option in SYN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er will automatically revert to un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81000" y="1946160"/>
            <a:ext cx="1127160" cy="88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11400" y="1944720"/>
            <a:ext cx="1127160" cy="88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38560" y="1943280"/>
            <a:ext cx="4508280" cy="88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37240" y="28908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255040" y="28940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77560" y="289404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 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56240" y="22431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nd=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12280" y="22431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=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017600" y="2243160"/>
            <a:ext cx="26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ulticast Group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itial tests: spee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itial tests: efficienc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594216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unicast / multicast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lback / fall for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cast look a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us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K eScience cen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l PlanetL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Science volunte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bri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ches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f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amp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qu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f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d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resb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cas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t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therf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nbur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asg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lanetlab europ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lking to intel about more EU sites doing plane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sibly specialise (or enhance) To add e.g. 3G wireless and WiFi at s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allow more local experimentation without the usual “Big Science” hassle of engaging with NRN and Ge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so have a lot of EU Datagrid sites al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with good (netherlight/starlight/uklight) connectivirt to each other and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do some Big Science 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goal is to see if TCP-XP can go faster than FAST TCP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ybrid, Purist, Overl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re argument is to leave incentive for subscriber to demand and provider to deploy ip native 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sn’t worked (15 years after first had ide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ybrid schemes not much examined (SCE prob. One of fe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ybrid retains understanding gained in unicast and mcast incen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erlay requires lots of new mechanisms to be debug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2P promising, but side by side problems alluded to in Diot’s anti-deployment paper still 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ably good for “grid”like users (shared incentive to forward for oth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ll done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99640" y="2060280"/>
            <a:ext cx="4032360" cy="16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s for liste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like to achieve high-speed bulk data delivery to multiple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ing would make 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ing multicast research has focused on sending to a large number of rece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rid is an applied example where sending to a moderate number of receivers would be extremely bene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cast availabi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oyment is a probl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s have been defined and implem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 concerns about scalability; much F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cken &amp; egg” means limited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uds of native multi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can’t rea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tinations via mult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applications abandon in favour of un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f we could multicast when possibl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fall back to unicast when necessa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lanetlab tes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etlab &gt;100 “random”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y value – if have account on 1 site, have on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ed multicast deployment from all to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 mix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chance of tx being about to use mcast is to k out of r non zero but chance of all paths to all receivers working is close to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e.g. p of AS doing mcast, average path len a Ass, 1- (1-p)^a per receiver -&gt; [1-(1-p)^a]^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r receivers al working, but a lot better for k&lt;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cast TCP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reliable stream between two hos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reliable streams from one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s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seem a little odd, but there is precede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E – Talpade &amp; Am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-XMO – Liang &amp; Cheri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/TCP – Visoottiviseth et 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 implo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594828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ilding Multicast TC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to test multicast/unicast TCP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ew protocol == kernel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spread test deployment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new TCP-like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e packets in U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in user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is sacrifice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idespread testing now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/IP/UDP/I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619280" y="2060640"/>
            <a:ext cx="5761080" cy="3026520"/>
            <a:chOff x="1619280" y="2060640"/>
            <a:chExt cx="5761080" cy="3026520"/>
          </a:xfrm>
        </p:grpSpPr>
        <p:grpSp>
          <p:nvGrpSpPr>
            <p:cNvPr id="106" name=""/>
            <p:cNvGrpSpPr/>
            <p:nvPr/>
          </p:nvGrpSpPr>
          <p:grpSpPr>
            <a:xfrm>
              <a:off x="1619280" y="2060640"/>
              <a:ext cx="1584360" cy="2954880"/>
              <a:chOff x="1619280" y="2060640"/>
              <a:chExt cx="1584360" cy="2954880"/>
            </a:xfrm>
          </p:grpSpPr>
          <p:sp>
            <p:nvSpPr>
              <p:cNvPr id="107" name=""/>
              <p:cNvSpPr/>
              <p:nvPr/>
            </p:nvSpPr>
            <p:spPr>
              <a:xfrm>
                <a:off x="1819080" y="2345040"/>
                <a:ext cx="1175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nd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114280" y="330840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19400" y="3716640"/>
                <a:ext cx="37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048040" y="418464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197440" y="4616640"/>
                <a:ext cx="42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619280" y="2060640"/>
                <a:ext cx="1584360" cy="295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619280" y="458172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619280" y="414828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692360" y="3284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92360" y="3716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92360" y="2132280"/>
                <a:ext cx="1439640" cy="1944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5796000" y="2060640"/>
              <a:ext cx="1584360" cy="2954880"/>
              <a:chOff x="5796000" y="2060640"/>
              <a:chExt cx="1584360" cy="2954880"/>
            </a:xfrm>
          </p:grpSpPr>
          <p:sp>
            <p:nvSpPr>
              <p:cNvPr id="119" name=""/>
              <p:cNvSpPr/>
              <p:nvPr/>
            </p:nvSpPr>
            <p:spPr>
              <a:xfrm>
                <a:off x="5995800" y="2345040"/>
                <a:ext cx="1175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eceiv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291000" y="330840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396120" y="3716640"/>
                <a:ext cx="37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224760" y="418464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374160" y="4616640"/>
                <a:ext cx="42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96000" y="2060640"/>
                <a:ext cx="1584360" cy="295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96000" y="458172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96000" y="414828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69080" y="3284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869080" y="3716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869080" y="2132280"/>
                <a:ext cx="1439640" cy="1944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3482280" y="3914640"/>
              <a:ext cx="20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808080"/>
                  </a:solidFill>
                  <a:latin typeface="Arial"/>
                </a:rPr>
                <a:t>If natively implemen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69920" y="4780080"/>
              <a:ext cx="144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est deploy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03640" y="479592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32000" y="3932280"/>
              <a:ext cx="27370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19:02:12Z</dcterms:created>
  <dc:creator>Karl Jeacle</dc:creator>
  <dc:description/>
  <dc:language>en-US</dc:language>
  <cp:lastModifiedBy>jon</cp:lastModifiedBy>
  <dcterms:modified xsi:type="dcterms:W3CDTF">2003-09-17T04:52:10Z</dcterms:modified>
  <cp:revision>58</cp:revision>
  <dc:subject/>
  <dc:title>Multicast extensions for TCP</dc:title>
</cp:coreProperties>
</file>