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gif" ContentType="image/gi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9.gif" ContentType="image/gi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BECC-896D-45D7-B03B-E4FBEF042F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90DA2-FD4A-4BAD-ABF5-31CD951E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2AE88-B66F-4961-B4D4-B13469DB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D1023-8A2E-426A-88C8-9F018BAC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9A38-E229-49F0-98D4-577B7445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1EE7F-C61B-407D-BACD-11190997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964F4-C5BE-47A5-89A5-6ACC0130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8F51-270C-4210-97D0-195DE84A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CF7A6-D2FB-4606-9A42-9A6BBDED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05232-5DCD-433C-A60A-F6C812DB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01B71-8268-4002-8571-5090A706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F3008-9DA4-4341-B714-C065CFD9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40BD6-52CE-4C0C-B86B-009CF83E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Imperial College London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talk for Erol Gelenbe’s research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2A5CC3-5A78-433A-A23D-F7FEBB9B2177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February 15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02-16T14:03:57Z</dcterms:modified>
  <cp:revision>129</cp:revision>
  <dc:subject/>
  <dc:title>Bubble Rap: Forwarding in Small World DTNs in Ever Decreasing Circles</dc:title>
</cp:coreProperties>
</file>