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gif" ContentType="image/gi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3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9.gif" ContentType="image/gif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C98B-3F2B-4579-9133-1E645539F8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bble Reality sing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C752A-373E-4AF5-BA2A-BDA48426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3EE97-AEBC-449E-8297-E01FF21F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71605-6803-4BD9-A4DB-656927E1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380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456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304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380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456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24062-B66F-4DED-B37E-E02412AC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23C8C-F1AA-45C7-BA11-BE70C2E0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DF935-8D92-46C5-9B70-BB525D1E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A2DCB-0136-485A-87EC-97EF1E16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43717-E721-4DB6-805C-EFE7252C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0480" y="-360"/>
            <a:ext cx="7823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D7B8A-73FC-456D-94BC-277AEEDA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CB2DF-B118-4649-9BE1-E217ECC5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9B6E4-32AA-45E5-88AF-F9B0CA7E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65327-4864-4CC9-A838-2FA0892D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618920" y="6237360"/>
            <a:ext cx="666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Talk at MACS, Heriot Wa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400" y="6237360"/>
            <a:ext cx="1155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07D0CB-93C7-48E9-85E5-02F4A809C601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295280"/>
            <a:ext cx="1238400" cy="480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373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March 12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Mob Handed: Realworld Human Mobility Model driven design of forwarding algorithms for Opportunistic Network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00000" y="3860280"/>
            <a:ext cx="377676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n H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ut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Other Community Detection Method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weenness [Newman0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ularity [Newman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theory[Rosvall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entrality in Temporal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number of unlimited fl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sourced and temporal traffic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times on shortest delay deli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ue to Freeman centrality [freeman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mogenous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5327640" cy="5085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67280" y="1268280"/>
            <a:ext cx="86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6720" y="1268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mb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3860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focom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38606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41964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9308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ality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195640" y="1214280"/>
            <a:ext cx="5400720" cy="5123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708360" y="1341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40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40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5080" y="14065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el Node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47640" y="2276640"/>
            <a:ext cx="735840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 centrality should be modelled in different levels of heterogene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gularity and Famili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759640" cy="5038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054520" y="1198440"/>
            <a:ext cx="423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94560" y="63104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5840" y="56847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mili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0200" y="486900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49840" y="4214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148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89480" y="249408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7840" y="1982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7840" y="422100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49480" y="6076800"/>
            <a:ext cx="53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 Community   II. Familiar Strangers  III. Strangers  IV. Fri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4360" y="1916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rrelation Coefficient   = 0.90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04960" y="32716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0496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16240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219640" y="32716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51280" y="5743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22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200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67640" y="5719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62200" y="46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6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91280" y="4572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58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370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8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37767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7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eterogeneous Forwar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20840" y="2060640"/>
            <a:ext cx="78231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second goal of this research is to devise efficient forwarding algorithms for PSNs which take advantage of bo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iori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d learned knowledge of the structure of human mobilit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1830240" cy="1149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1714680" cy="1743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7020000" y="479736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1403280" y="1700280"/>
            <a:ext cx="1513080" cy="958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324000" y="2492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3276720" y="1773360"/>
            <a:ext cx="1800000" cy="1092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7596360" y="981000"/>
            <a:ext cx="1268280" cy="1806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5292720" y="328464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4788000" y="5157720"/>
            <a:ext cx="860400" cy="1447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700360" y="692280"/>
            <a:ext cx="13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126828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Give it to me, I have 1G bytes phone flas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1052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have 100M bytes of data, who can carry for m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2637000"/>
            <a:ext cx="1513080" cy="685800"/>
          </a:xfrm>
          <a:custGeom>
            <a:avLst/>
            <a:gdLst/>
            <a:ahLst/>
            <a:rect l="l" t="t" r="r" b="b"/>
            <a:pathLst>
              <a:path w="1233" h="477">
                <a:moveTo>
                  <a:pt x="0" y="0"/>
                </a:moveTo>
                <a:cubicBezTo>
                  <a:pt x="45" y="215"/>
                  <a:pt x="91" y="431"/>
                  <a:pt x="272" y="454"/>
                </a:cubicBezTo>
                <a:cubicBezTo>
                  <a:pt x="453" y="477"/>
                  <a:pt x="945" y="197"/>
                  <a:pt x="1089" y="136"/>
                </a:cubicBezTo>
                <a:cubicBezTo>
                  <a:pt x="1233" y="75"/>
                  <a:pt x="1183" y="83"/>
                  <a:pt x="1134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549360"/>
            <a:ext cx="1463400" cy="1245960"/>
          </a:xfrm>
          <a:custGeom>
            <a:avLst/>
            <a:gdLst/>
            <a:ahLst/>
            <a:rect l="l" t="t" r="r" b="b"/>
            <a:pathLst>
              <a:path w="922" h="785">
                <a:moveTo>
                  <a:pt x="0" y="785"/>
                </a:moveTo>
                <a:cubicBezTo>
                  <a:pt x="45" y="452"/>
                  <a:pt x="91" y="120"/>
                  <a:pt x="227" y="60"/>
                </a:cubicBezTo>
                <a:cubicBezTo>
                  <a:pt x="363" y="0"/>
                  <a:pt x="710" y="355"/>
                  <a:pt x="816" y="423"/>
                </a:cubicBezTo>
                <a:cubicBezTo>
                  <a:pt x="922" y="491"/>
                  <a:pt x="892" y="479"/>
                  <a:pt x="862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8720" y="549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can also carry for you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858920" y="476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33336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ank you but you are in the opposite direction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206064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Don’t give to me! I am running out of stor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003640" y="1844280"/>
            <a:ext cx="273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3493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Reach an access p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80360" y="3068640"/>
            <a:ext cx="1152360" cy="1152360"/>
          </a:xfrm>
          <a:prstGeom prst="cloudCallout">
            <a:avLst>
              <a:gd name="adj1" fmla="val -21763"/>
              <a:gd name="adj2" fmla="val 69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172360" y="27813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524360" y="4437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85080" y="458136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Finally, it arrive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635280" y="479736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651640" y="4653000"/>
            <a:ext cx="50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15772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92720" y="508464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834920" y="3860640"/>
            <a:ext cx="165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8000" y="364500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335772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ere is one in my pocke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283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levels human heter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 community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ersity of centrality in different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 categories of human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terogeneous forwarding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K (central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EL (commun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BBLE RAP (centrality meets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roximation and predic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entralized approximation of cen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 predic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action and Forw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494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generation human interac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es of human contact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que and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ity/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 natures of mobil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 Forward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ing, Wait, and Multiple-copy-multiple-hop (M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ign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556000" y="1339560"/>
            <a:ext cx="0" cy="352908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556000" y="3284640"/>
            <a:ext cx="3097080" cy="15825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0920" y="9079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xplicit Soci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51640" y="5948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De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96000" y="2995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Cohesiv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184320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1971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4867200"/>
            <a:ext cx="3960720" cy="7923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5084640"/>
            <a:ext cx="16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5227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nk, De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82920" y="4795920"/>
            <a:ext cx="144360" cy="1443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56000" y="1699920"/>
            <a:ext cx="4105080" cy="31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27640" y="342756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34862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qu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59640" y="1268280"/>
            <a:ext cx="1152360" cy="936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17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b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88000" y="4363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39600" y="2779560"/>
            <a:ext cx="729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Dimen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Greedy Ranking Algorithm  (RANK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22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re-calculated centrality/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traffic to nodes have higher 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erformance in small and homogene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6120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eedy Rank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paths [Trusina et a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percentage in most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332000" y="3009960"/>
            <a:ext cx="73436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084720" y="3591000"/>
            <a:ext cx="14004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59280" y="4076640"/>
            <a:ext cx="139680" cy="12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400536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3068640"/>
            <a:ext cx="14148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306864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882880" y="2852640"/>
            <a:ext cx="3816360" cy="3340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ous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node for the whole system may not be best node for a specific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75280" y="3213000"/>
            <a:ext cx="18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37893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4920" y="3668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90920" y="294804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76720" y="29242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2846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7345440" cy="3452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908000" y="530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distribution and rank at dead-end for HK 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bel Strategy (LAB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3040" y="980640"/>
            <a:ext cx="840096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 label, e.g. aff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ed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to nodes have same label as th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erformance in conference mix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3370320" cy="2948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5076720" y="2781360"/>
            <a:ext cx="3382920" cy="2960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851280" y="5805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L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4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less mixing environment (e.g. Re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in one group may not meet members in another group so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 for destination group not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24000" y="3497400"/>
            <a:ext cx="5905440" cy="27399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32403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pulation divided into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de has a global and local r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popular node like a postman, or politician in 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l popular node like Christophe Diot in SIGCO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9640" y="0"/>
            <a:ext cx="8209080" cy="666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56000" y="404640"/>
            <a:ext cx="3348000" cy="331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64000" y="558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42160" y="83664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43280" y="1628640"/>
            <a:ext cx="1461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5800" y="2637000"/>
            <a:ext cx="1425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59280" y="2276640"/>
            <a:ext cx="14580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79640" y="1268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88000" y="414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48000" y="4581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21080" y="7650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09800" y="436572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47640" y="522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84360" y="357336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03280" y="3500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7640" y="3789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64000" y="4724280"/>
            <a:ext cx="28764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619280" y="4508640"/>
            <a:ext cx="360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1547640" y="3645000"/>
            <a:ext cx="3621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547640" y="2781000"/>
            <a:ext cx="578160" cy="71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64000" y="2924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268360" y="2349000"/>
            <a:ext cx="79092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050920" y="3716280"/>
            <a:ext cx="43344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195640" y="1773000"/>
            <a:ext cx="71892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05080" y="2349360"/>
            <a:ext cx="10796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693800" y="4652640"/>
            <a:ext cx="165420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627280" y="3068640"/>
            <a:ext cx="93672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492360" y="3933360"/>
            <a:ext cx="9352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00720" y="29973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989440" y="907920"/>
            <a:ext cx="431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95280" y="2492280"/>
            <a:ext cx="0" cy="22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17002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84720" y="2637000"/>
            <a:ext cx="3585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88000" y="2637000"/>
            <a:ext cx="1443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05440" y="2205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1016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206064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59640" y="1844640"/>
            <a:ext cx="14580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5780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99280" y="1413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51640" y="141300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932360" y="2133720"/>
            <a:ext cx="28728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64000" y="1557360"/>
            <a:ext cx="36216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726160" y="981000"/>
            <a:ext cx="2160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84720" y="981000"/>
            <a:ext cx="28908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96000" y="148428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1928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738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164360" y="630864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7640" y="630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7740360" y="5445000"/>
            <a:ext cx="43164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4364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7237440" y="3284640"/>
            <a:ext cx="28728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78520" y="530064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580000" y="5013000"/>
            <a:ext cx="14616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07280" y="2565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ubsub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84720" y="198900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7093080" y="2349000"/>
            <a:ext cx="79200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5640" y="1484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0480" y="2276640"/>
            <a:ext cx="782316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first goal of this research is to move to a third generation of human mobility models, understanding heterogeneity at multiple levels of detail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260280"/>
            <a:ext cx="721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derstanding multiple levels of heterogene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4105080" cy="3592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403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king Centrality Prac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20840" y="2924280"/>
            <a:ext cx="7823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each node know its own centrality in decentralised way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ll does past centrality predict the futur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43040" y="4365720"/>
            <a:ext cx="8400960" cy="173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degree, per-6-hour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coefficients, 0.7401 and 0.95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695600" y="1125360"/>
            <a:ext cx="64767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-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Window (Exponential Smoot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258920" y="3043080"/>
            <a:ext cx="63388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ability of Human Mo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3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essions of Reality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essions using the ranking calculated from the firs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sam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836720" y="3429000"/>
            <a:ext cx="5975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and Future W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warding using priori label or social structure inferred through 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ed k-clique building through gossi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per-6-h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ed version of k-clique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 gener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256500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Social Structures Vs Network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unity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communities, i.e. affil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pological cohesive groups or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hubs, celebrities and post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tweenness, closeness, inference power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y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ion of k-cliques reachable through a series of adjacent k-cliques [Palla et a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jacent k-cliques share k-1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in a community reachable through well-connected well sub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-clique (connected compo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-clique (overlapping triang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verlapping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rcolation thres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5203800"/>
            <a:ext cx="41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k)= 1/[(k-1)N]^(1/(k-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0480" y="122400"/>
            <a:ext cx="7211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380960"/>
            <a:ext cx="8893080" cy="47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572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77840" y="1413000"/>
            <a:ext cx="8858160" cy="4248000"/>
            <a:chOff x="177840" y="1413000"/>
            <a:chExt cx="8858160" cy="4248000"/>
          </a:xfrm>
        </p:grpSpPr>
        <p:grpSp>
          <p:nvGrpSpPr>
            <p:cNvPr id="65" name=""/>
            <p:cNvGrpSpPr/>
            <p:nvPr/>
          </p:nvGrpSpPr>
          <p:grpSpPr>
            <a:xfrm>
              <a:off x="177840" y="1413000"/>
              <a:ext cx="8858160" cy="4248000"/>
              <a:chOff x="177840" y="1413000"/>
              <a:chExt cx="8858160" cy="4248000"/>
            </a:xfrm>
          </p:grpSpPr>
          <p:pic>
            <p:nvPicPr>
              <p:cNvPr id="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7840" y="1413000"/>
                <a:ext cx="8858160" cy="42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7907400" y="2936160"/>
                <a:ext cx="16740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907400" y="2555280"/>
                <a:ext cx="166680" cy="169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075160" y="335988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451000" y="242856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98240" y="221652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60160" y="204732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55720" y="276696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89240" y="33598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646080" y="3106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195240" y="3783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837320" y="32749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28840" y="344376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645360" y="3444840"/>
                <a:ext cx="207720" cy="169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88560" y="3191040"/>
                <a:ext cx="208080" cy="1267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58200" y="289404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23680" y="3529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34680" y="31910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851920" y="3444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18600" y="3021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98040" y="51382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65080" y="48844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48960" y="53499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58120" y="505332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46560" y="1962720"/>
                <a:ext cx="2047680" cy="160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63960" y="2894040"/>
                <a:ext cx="5139000" cy="11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22560" y="4715280"/>
                <a:ext cx="1211400" cy="84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839040" y="4764240"/>
              <a:ext cx="13824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39040" y="4488840"/>
              <a:ext cx="140040" cy="13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39040" y="5040720"/>
              <a:ext cx="140040" cy="1378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39040" y="5315760"/>
              <a:ext cx="140040" cy="1382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17320" y="4559040"/>
              <a:ext cx="153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17320" y="442080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9120" y="4695840"/>
              <a:ext cx="160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7320" y="495576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7320" y="524772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2400" y="200700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1080" y="2490480"/>
              <a:ext cx="4179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15720" y="1824840"/>
              <a:ext cx="17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41600" y="2145600"/>
              <a:ext cx="557640" cy="414720"/>
            </a:xfrm>
            <a:prstGeom prst="rightArrow">
              <a:avLst>
                <a:gd name="adj1" fmla="val 50000"/>
                <a:gd name="adj2" fmla="val 336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2240" y="423684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0560" y="4627440"/>
              <a:ext cx="348840" cy="344880"/>
            </a:xfrm>
            <a:prstGeom prst="rightArrow">
              <a:avLst>
                <a:gd name="adj1" fmla="val 50000"/>
                <a:gd name="adj2" fmla="val 2528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236000" y="5589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8000" y="1123920"/>
            <a:ext cx="8712000" cy="4969080"/>
            <a:chOff x="108000" y="1123920"/>
            <a:chExt cx="8712000" cy="4969080"/>
          </a:xfrm>
        </p:grpSpPr>
        <p:grpSp>
          <p:nvGrpSpPr>
            <p:cNvPr id="111" name=""/>
            <p:cNvGrpSpPr/>
            <p:nvPr/>
          </p:nvGrpSpPr>
          <p:grpSpPr>
            <a:xfrm>
              <a:off x="108000" y="1123920"/>
              <a:ext cx="8712000" cy="4969080"/>
              <a:chOff x="108000" y="1123920"/>
              <a:chExt cx="8712000" cy="496908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23920"/>
                <a:ext cx="8712000" cy="49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1669680" y="47221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32560" y="2051280"/>
                <a:ext cx="24084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252560" y="1884600"/>
                <a:ext cx="24084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42320" y="249660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73520" y="2329560"/>
                <a:ext cx="24048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72920" y="271872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50520" y="2830320"/>
                <a:ext cx="23976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90280" y="210636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4992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6968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7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70280" y="255312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91120" y="277524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89080" y="450036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28480" y="4110120"/>
                <a:ext cx="240840" cy="22284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09080" y="43333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12320" y="1717560"/>
                <a:ext cx="1920600" cy="139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49080" y="2106360"/>
                <a:ext cx="300204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48240" y="3999600"/>
                <a:ext cx="1561680" cy="1112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052160" y="4103640"/>
              <a:ext cx="136080" cy="13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2160" y="3838680"/>
              <a:ext cx="137880" cy="132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52160" y="4368960"/>
              <a:ext cx="137880" cy="1324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2160" y="4633560"/>
              <a:ext cx="137880" cy="1328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24680" y="377208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27560" y="4036320"/>
              <a:ext cx="157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24680" y="4287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4680" y="4566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1200" y="132228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14640" y="1719720"/>
              <a:ext cx="480600" cy="265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6080" y="1276920"/>
              <a:ext cx="226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73480" y="1653840"/>
              <a:ext cx="341280" cy="330120"/>
            </a:xfrm>
            <a:prstGeom prst="rightArrow">
              <a:avLst>
                <a:gd name="adj1" fmla="val 50000"/>
                <a:gd name="adj2" fmla="val 2584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200" y="3596400"/>
              <a:ext cx="181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4560" y="3971880"/>
              <a:ext cx="343080" cy="329760"/>
            </a:xfrm>
            <a:prstGeom prst="rightArrow">
              <a:avLst>
                <a:gd name="adj1" fmla="val 50000"/>
                <a:gd name="adj2" fmla="val 2601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308720" y="51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9640" y="1628640"/>
            <a:ext cx="8317080" cy="3677760"/>
            <a:chOff x="539640" y="1628640"/>
            <a:chExt cx="8317080" cy="36777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8317080" cy="30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205680" y="289656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24600" y="1861920"/>
              <a:ext cx="261000" cy="259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69120" y="354348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4320" y="224964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30760" y="244332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66600" y="192780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66600" y="393084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22160" y="2896560"/>
              <a:ext cx="26100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33200" y="1991520"/>
              <a:ext cx="327600" cy="2581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9640" y="2766600"/>
              <a:ext cx="327600" cy="258120"/>
            </a:xfrm>
            <a:prstGeom prst="hexagon">
              <a:avLst>
                <a:gd name="adj" fmla="val 31729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30320" y="386496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62080" y="179820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73920" y="1798200"/>
              <a:ext cx="2619360" cy="245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99000" y="1798200"/>
              <a:ext cx="2946960" cy="258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1320" y="1692360"/>
              <a:ext cx="1144800" cy="268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39080" y="4835160"/>
              <a:ext cx="131040" cy="128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35640" y="4725720"/>
              <a:ext cx="235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 (Spanis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64160" y="4705560"/>
              <a:ext cx="131040" cy="129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64160" y="5029200"/>
              <a:ext cx="195840" cy="12924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90320" y="459756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A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90320" y="492228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B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2360" y="4835160"/>
              <a:ext cx="196200" cy="129600"/>
            </a:xfrm>
            <a:prstGeom prst="hexagon">
              <a:avLst>
                <a:gd name="adj" fmla="val 37847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65520" y="4769640"/>
              <a:ext cx="11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Ital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45164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3:29:44Z</dcterms:created>
  <dc:creator>BenHui</dc:creator>
  <dc:description/>
  <dc:language>en-US</dc:language>
  <cp:lastModifiedBy>jac22</cp:lastModifiedBy>
  <dcterms:modified xsi:type="dcterms:W3CDTF">2007-02-19T10:42:07Z</dcterms:modified>
  <cp:revision>130</cp:revision>
  <dc:subject/>
  <dc:title>Bubble Rap: Forwarding in Small World DTNs in Ever Decreasing Circles</dc:title>
</cp:coreProperties>
</file>