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gif" ContentType="image/gi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9.gif" ContentType="image/gi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9975-1FFD-4B2E-9F29-E513DDE56D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FFE1-C253-4B6F-8BC9-89642ED1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09D3-7337-4C73-B2ED-7182BF59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8B897-D87E-4A40-890B-4D6CAE94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F5ACE-AFB1-4B78-80A2-ABFCC6E4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4837-F9E6-4D18-ABC2-29BCB596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40F7-7893-4A88-9419-09F236BF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CB3C-1BC6-4462-B433-3629201B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CBA62-386B-4CEE-897B-DD0E6A8B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337FE-FA94-4E84-8C20-C796EB52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E3565-9304-44C1-851D-5CB4FECA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60F2-2565-4185-B248-1E2B40AA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5998-BF52-463E-9EBA-91460471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Talk at MACS, Heriot W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F84F94-1255-4F2E-ABB0-442CAC5DFFAF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March 12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02-19T10:42:07Z</dcterms:modified>
  <cp:revision>130</cp:revision>
  <dc:subject/>
  <dc:title>Bubble Rap: Forwarding in Small World DTNs in Ever Decreasing Circles</dc:title>
</cp:coreProperties>
</file>