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19.gif" ContentType="image/gif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28.pct" ContentType="image/x-pict"/>
  <Override PartName="/ppt/media/image20.gif" ContentType="image/gif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6.png" ContentType="image/png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61C9-119C-4AB0-9D23-9D2F81126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11BE-E779-495D-9175-FD897721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8806-6B7A-41BC-BCA6-4D83DEA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B83A-76EE-42C9-8C1D-181C2642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A40B-9518-4B0D-80BA-5AB7F285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9408-CC75-4411-B0F9-E59A250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45BA-49ED-40F3-91EE-1603ABC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BEA6-9AD0-4515-8565-64104948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825F-22A7-448D-A155-43CD7FD0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C18D-B97D-4975-BB27-0818F32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47BF-90C2-4998-BFBB-877D058A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F3D5-46B7-46AD-86FA-2C277166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24A1-D9E9-4DF7-AFCB-4A68BD91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DASSON Workshop,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46A782-B66B-44DF-A813-B0AB523274F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June 2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ct"/><Relationship Id="rId8" Type="http://schemas.openxmlformats.org/officeDocument/2006/relationships/image" Target="../media/image22.pct"/><Relationship Id="rId9" Type="http://schemas.openxmlformats.org/officeDocument/2006/relationships/image" Target="../media/image23.pct"/><Relationship Id="rId10" Type="http://schemas.openxmlformats.org/officeDocument/2006/relationships/image" Target="../media/image24.pct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on crowcroft</cp:lastModifiedBy>
  <dcterms:modified xsi:type="dcterms:W3CDTF">2007-06-12T09:05:35Z</dcterms:modified>
  <cp:revision>130</cp:revision>
  <dc:subject/>
  <dc:title>Bubble Rap: Forwarding in Small World DTNs in Ever Decreasing Circles</dc:title>
</cp:coreProperties>
</file>