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EBE1-35D6-4C8E-9C28-C83E92C93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C4EC-BC85-439B-88AB-EB3A92EF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96BD-57D1-4ECD-A19B-6B3D6155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80F2-7991-4A48-A9A9-397DEB54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7DDE-0AB5-4A27-916C-C8493F290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037B-DD4D-4851-8744-46B6A56E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0488-7F24-4FD3-B612-C490D8D1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4FE7-2AC6-440E-BB80-125A4C71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8225-479E-431D-8BD9-0B214AA2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14076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DCC1-2E91-4D4D-B4C4-8202009D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FA0F-9409-41FF-8320-13E5892D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DDB0-D0D3-4D6D-AB19-326534C4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70DF-0D45-4CED-AEC2-6218D135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25B7-C30C-4394-8B4D-7FC612CB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47C4-A343-40D9-96DB-798AF19C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6656-C64C-4279-BA2D-CD20683BF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A586-3C03-4348-8E5F-07471FB6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440E-EBDE-419A-804E-C45A3967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2508-C21B-46FE-BF20-34827E0F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8FB6-7C62-40D4-B41C-4BE85998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71600" y="14076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C175-C59B-449E-BEB4-82C2CBE0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9E65-0B6E-4D21-A1DF-56F27027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B7DC-263C-4156-91A9-E10CF780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C7AD-9463-4293-B160-61D01D82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99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4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rtinoro, FuDiCo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5913-3115-44ED-BD33-78AAC4A47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380880" y="609480"/>
            <a:ext cx="83844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7620120" y="0"/>
            <a:ext cx="1465200" cy="1600200"/>
          </a:xfrm>
          <a:prstGeom prst="rect">
            <a:avLst/>
          </a:prstGeom>
          <a:ln w="0">
            <a:noFill/>
          </a:ln>
        </p:spPr>
      </p:pic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6"/>
          <a:stretch/>
        </p:blipFill>
        <p:spPr>
          <a:xfrm>
            <a:off x="7905600" y="5405400"/>
            <a:ext cx="12384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367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Copperplate Gothic Bold"/>
              </a:rPr>
              <a:t>Click to edit the title text format</a:t>
            </a: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C1DC-9293-423A-A691-5D7BB6390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80880" y="476280"/>
            <a:ext cx="838440" cy="457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7620120" y="-133200"/>
            <a:ext cx="1465200" cy="1600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5000" y="1886040"/>
            <a:ext cx="9144000" cy="87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International Technology Al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pperplate Gothic Bold"/>
              </a:rPr>
              <a:t>In Network &amp; Information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610080" y="0"/>
            <a:ext cx="2028600" cy="1905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58800" y="28083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Mobile Ad-hoc Inter-domain 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434960" y="4978440"/>
            <a:ext cx="6400800" cy="676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Jon Crowcroft, Computer Laboratory, University of Cam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ttp://www.cl.cam.ac.uk/~jac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6560" y="57675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4C71-9AE5-4B99-B302-19F884B9ED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A Future with Many MANETs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day we’ll want to inter-m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talking about a cloud of manets clustered around the fixed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inter-domain manet - traversing different routing sc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very hard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even clear that one solution is se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5B30-D1C7-409F-932F-59FCE175DC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Quick Drying Gloss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ET=Mobile Ad-hoc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 qaeda, swarm of bees, Man Un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P = Interior Gateway Protoc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OLSR, DLR, AODV,GP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P= Exterior Gateway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BGP, IDPR, IDRP, as yet don’t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= Autonom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Ci, ETH, 18.0.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mr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ana-3.lcs.mit.edu/~jnc/nimrod/doc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9F37-ED5D-4C37-B391-71D2EE1494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Definitely a MAD distributed system!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domain has own go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on geo- or topo-, on demand or reactive, optimized for capacity, delay, loss, power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ies (ingress, egress, transit) are colou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ion is not just at “edg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ization of IGP and EGP non triv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data follow control traffic (in space and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Addr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we add level of hierarchy or transl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DBF4-965E-4BBC-BEEB-84D8DF9583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1. IGP to EGP interface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ve:Proac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- trumps 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ause route and act as hello in same breath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ic versus Topologic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o- trumps Geo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map one way not the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 route or reachability (AS map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Map (like nimrod) trumps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s associate in a MANET longer than route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EAAB-7D81-4486-8863-A4CB46967D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2. Torrents of Policy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MANET is a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has own incentive &amp; recommendation &amp; reput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map these between different syst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do we have separation of ingress/egress/transit policy from intra-manet rou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ms like separation is required for technical reasons too (see previous and next slid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B17B-3C73-4657-A5D2-AE4B18A7A3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3. IGP to EGP Synchronization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GP may not actually conve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- and gradient- protocols don’t need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P offer of probability of reach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output of EGP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UDLR and other asymmetric schemes (IP over x.25:-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map&amp;reachability exchange control traverse more stable paths than users’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D043-28A1-4EE3-9CE6-E64CF08380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4. Heterogeneous Addresses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MANET will assign addresses (identifiers for routing and end system) dynam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report these in EGP as part of reach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“re-prefix” them (like IPv6) or assume AS level uniqueness, or transl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34AF-7C4D-4409-A83F-CC78C79757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Copperplate Gothic Bold"/>
              </a:rPr>
              <a:t>Conclusion/future</a:t>
            </a: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re looking at us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tarou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ostdoc looking at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furth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lutar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e on composable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first we have to have a clear problem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wman proposed - next: evaluate - criteria/topology/mobility/dynamics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2200" y="6100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58E1-1167-438C-A74B-C8AF8ACFEA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n crowcroft</cp:lastModifiedBy>
  <dcterms:modified xsi:type="dcterms:W3CDTF">2007-06-03T10:53:17Z</dcterms:modified>
  <cp:revision>20</cp:revision>
  <dc:subject/>
  <dc:title>PowerPoint Presentation</dc:title>
</cp:coreProperties>
</file>