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8C7-D5A5-4331-ADEF-E3230714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C94-C1CD-4FC2-8E80-D86CEE83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107-2198-4D77-AAE6-42F5B5AA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C29-4332-418C-BE45-83E85A27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5472-1B94-4385-AD86-F1734666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FE8C-E0B3-4419-805B-7CD48057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AF5B-F9D5-4DEB-BBBE-73D8234E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4286-5563-4ACB-AC94-C21CC813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4055-6167-4D5A-9E9A-0DB4C647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6E08-1463-4F17-AEFB-C69E1D06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F7A7-82C9-48FB-9318-A2BC437F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B61-3A15-414F-9744-FDE16A99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769A-C470-434F-A2E3-95493FBC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8E94-5F7E-4559-968D-A29D7AE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EB4F-1758-4A93-8398-49A21BEF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FF20-48EC-43F2-8543-0C663B37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B243-9E04-48F4-A6F4-CA361538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9D1-0E74-4205-BB24-FF39B10D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BD7-13BA-4C1C-AAAE-B11BB0D3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EDF-B2D9-441B-9FA6-CFA92A3A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902-77B8-4EAF-8A4A-A3C673B5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67C-B586-4062-972E-25202D45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E80-9DBE-4F95-9B08-49A56F1D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F92-27F1-4A37-876C-FB44606C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9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tinoro, FuDiC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8884-34BC-4BC5-ACBC-A03751BF5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7905600" y="54054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E463-9B16-4A2B-BAF2-FA5ECB938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4762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620120" y="-13320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5000" y="1886040"/>
            <a:ext cx="914400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International Technology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</a:rPr>
              <a:t>In Network &amp; Information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10080" y="0"/>
            <a:ext cx="202860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8800" y="2808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Mobile Ad-hoc Inter-domain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34960" y="4978440"/>
            <a:ext cx="6400800" cy="67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on Crowcroft, Computer Laboratory, 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5767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696-4653-4088-8120-49F3EF4EE7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A Future with Many MANET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we’ll want to inter-m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alking about a cloud of manets clustered around the fixe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inter-domain manet - traversing different routing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n clear that one solution is se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2DD-F8B8-4767-9D73-860D1EB4ED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Quick Drying Glos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ET=Mobile Ad-ho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qaeda, swarm of bees, Man Un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P = Interior Gatewa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OLSR, DLR, AODV,G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P= Exterior Gatewa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GP, IDPR, IDRP, as yet don’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= Autonom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i, ETH, 18.0.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a-3.lcs.mit.edu/~jnc/nimrod/doc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C2A-8D45-4091-99FC-FC27A80C85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Definitely a MAD distributed system!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omain has own go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on geo- or topo-, on demand or reactive, optimized for capacity, delay, loss, powe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(ingress, egress, transit) are colo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is not just at “ed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of IGP and EGP non triv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ata follow control traffic (in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add level of hierarchy or trans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B0E-963F-444D-9703-C39C949F14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1. IGP to EGP interface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:Pro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 trumps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route and act as hello in same brea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versus Topolog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- trumps Ge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p one way not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route or reachability (AS map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p (like nimrod) trumps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associate in a MANET longer than route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A0A-B58C-4735-9160-424B88EECC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2. Torrents of Policy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NET is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own incentive &amp; recommendation &amp; reput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p these between differen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 we have separation of ingress/egress/transit policy from intra-manet ro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like separation is required for technical reasons too (see previous and next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CCB-8444-4982-82CD-B0BC62F55C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3. IGP to EGP Synchronization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P may not actually conve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- and gradient- protocols don’t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P offer of probability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output of EGP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UDLR and other asymmetric schemes (IP over x.25:-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ap&amp;reachability exchange control traverse more stable paths than users’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A02-DF6D-43A5-83B7-0A7A7A8DD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4. Heterogeneous Addresse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ANET will assign addresses (identifiers for routing and end system)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port these in EGP as part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“re-prefix” them (like IPv6) or assume AS level uniqueness, or trans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CE2-8362-4601-85D3-5C4BBF237F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onclusion/future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at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aro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ostdoc looking a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ur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ut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on composab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irst we have to have a clear 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man proposed - next: evaluate - criteria/topology/mobility/dynamics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200" y="610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A990-EC4B-4BA6-A0BF-4BD0634B5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 crowcroft</cp:lastModifiedBy>
  <dcterms:modified xsi:type="dcterms:W3CDTF">2007-06-03T10:53:17Z</dcterms:modified>
  <cp:revision>20</cp:revision>
  <dc:subject/>
  <dc:title>PowerPoint Presentation</dc:title>
</cp:coreProperties>
</file>