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6B048-082C-4F43-B4A9-E422DBC6F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8400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3802320"/>
            <a:ext cx="8400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243AA-55D4-42F2-945B-ECC588939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52384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52384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2BA48-6AEF-428F-A1F4-6C181F065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60080" y="12949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00840" y="12949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38023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060080" y="38023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00840" y="3802320"/>
            <a:ext cx="27050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7067D-E2D9-4CA6-8A02-E0FADE54C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5C23B-4D89-4950-8002-F964AF57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36421-6C86-42A9-BCA0-AC9AE4DD6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52384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3B163-015C-48DE-B1F4-995551FEB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CC048-21AE-4D25-91AD-247208DE4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20480" y="-360"/>
            <a:ext cx="78231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7583E-490F-4E04-B3A2-981D39723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52384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414EA-3399-4243-8D49-99E7A4EA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4099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52384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523840" y="38023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92030-EB78-4570-B8F5-3D649FEA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523840" y="1294920"/>
            <a:ext cx="4099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3802320"/>
            <a:ext cx="84009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E8B51-809E-4376-815A-233C0D2D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1618920" y="6237360"/>
            <a:ext cx="6661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Footlight MT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ootlight MT Light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Footlight MT Light"/>
              </a:rPr>
              <a:t>Thomson Labs Paris, just outside Paris :-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400" y="6237360"/>
            <a:ext cx="1155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8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F7FD932-AA5D-40D9-B056-11BADB6C6A08}" type="slidenum"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21932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dt" idx="3"/>
          </p:nvPr>
        </p:nvSpPr>
        <p:spPr>
          <a:xfrm>
            <a:off x="250920" y="623736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Footlight MT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ootlight MT Light"/>
              </a:rPr>
              <a:t>Nov 23,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3840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l.cam.ac.uk/techreports/UCAM-CL-TR-703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mailto:Jon.Crowcroft@cl.cam.ac.uk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Lazy Susan: dumb waiting as proof of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700360" y="3860280"/>
            <a:ext cx="5376960" cy="193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Jon.Crowcroft@cl.cam.ac.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ttp://www.cl.cam.ac.uk/~jac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mputer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University of Cambridge &amp; Thomson Research Paris&amp; LIP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56080" y="6251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4680" y="5994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ributed Que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09640" y="1800360"/>
            <a:ext cx="752472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 parallizable Shared Secr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Tech Report for det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l.cam.ac.uk/techreports/UCAM-CL-TR-703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ally chained with time de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ome type of homomorphic h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formance of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at impact of attac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look at impact of adding our PoW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graphs are from analysis (no implementation yet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 of Attacker 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75438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 of PoW-de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26920" y="836640"/>
            <a:ext cx="75438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work Layer P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3040" y="1267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work, but requires our system deployed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et of valid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able location might be access rout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OpenWRT linux router would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t of ingress devices that police de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be CPE, or ISP ingress router,or even DSL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(k1,k2,k3) idea using 3 IP address spaces (client=k1,server=k3,validator=k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y 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otherwise I must go and celebrate my birthda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132000" y="2492280"/>
            <a:ext cx="257184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15640" y="256500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on.Crowcroft@cl.cam.ac.uk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CAM-CL-TR-703</a:t>
            </a:r>
            <a:br>
              <a:rPr sz="40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 done with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im Deegan at Xensource, Christian Kreibich at ICSI, Richard Mortier at Microsoft Research,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icholas Weaver at Berkeley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t merci a CNRS et Thom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ean Slate DoS Proof Net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zy Susan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way for service to control cl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el aspects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proof of work (PoW) tech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decentralized way to implement P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 and C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permits arbitrary clients, b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(some) ingress control/pol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azy Susan &amp; Dumb Wa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2689200" cy="3586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800600" y="1523880"/>
            <a:ext cx="31240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architectural colum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azy Sus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fers to three layers of identifi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ent required to acquire each to get to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referred to as k1,k2,k3, but not PC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umb Wai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fers to novel proof of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CPU or memory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ncy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of of Work (P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1280" y="1267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, Memory, Cogn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s are scale of botnets ver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resource available to legitimate 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alized, Distributed P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 PoW service itself target for at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entralized PoW hard to make exclu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llelized attacks a problem in all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ibution 1 on P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8400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er impose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atenc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n new cli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or clients that have misbehav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alised techniqu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ait Requ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ghly analogous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 Cook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next slide for 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20480" y="-243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lay Cookie Ex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835280" y="765000"/>
            <a:ext cx="6338880" cy="54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ibution 2 on PoW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401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d P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 parallis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client must contact validat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 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many validators 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ire client p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ze 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ed secre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sing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lidator can help new 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ult tole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ne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-out-of-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lid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20480" y="-360"/>
            <a:ext cx="78231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er Clients become Valid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9000" y="1838160"/>
            <a:ext cx="7506000" cy="31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4T13:29:44Z</dcterms:created>
  <dc:creator>BenHui</dc:creator>
  <dc:description/>
  <dc:language>en-US</dc:language>
  <cp:lastModifiedBy>jac22</cp:lastModifiedBy>
  <dcterms:modified xsi:type="dcterms:W3CDTF">2007-11-20T13:00:02Z</dcterms:modified>
  <cp:revision>176</cp:revision>
  <dc:subject/>
  <dc:title>Bubble Rap: Forwarding in Small World DTNs in Ever Decreasing Circles</dc:title>
</cp:coreProperties>
</file>