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2AA-986D-4055-85F4-8608BEBF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5ED-BACB-4876-B0E8-53686B35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D67-9DEB-412A-9C27-F63B5E9E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809-25F6-42B1-91FD-A16E803D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046B-A84F-42FF-80EE-02DAE294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D88E-0DD7-43B8-8EE9-2D03DBB1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C169-E81F-491B-B935-52475997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F362-BE40-44FD-822F-C6CCA64B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2D85-CC4B-40FA-B736-BBBD70D5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144E-00D5-4514-A7D6-1172CE04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E3FD-881C-4DF3-8990-8FFE252C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100-35E2-4969-B184-6B1768B2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BD97-8970-4D20-A7A1-C9F4996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60B4-C25D-4C63-81D2-571A117D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9AB9-4080-43C1-B5DD-CA655AE1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3692-2334-4E49-A077-BBD28610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35D5-00A7-454C-BEC8-FA95D1B5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EAE-6F2A-4CC7-8EBD-4704F514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61E-EC67-4D1E-9BE2-1764455B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7D0-14DD-4BA6-8D5F-3988C025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66B-A34D-4186-80A9-C149462D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EFA-3680-4471-BC9D-07211A33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BE8-2740-43D4-8D73-AB4A0460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E6E-B704-4280-8E06-BB3B9F26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EX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459F-92A0-48B4-A82B-2A0D4815B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BFBE-EAE6-4117-9354-F6BD4BF62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456264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brid Reliable Multicast with TCP-X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273996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25296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ho P Barcellos, UNI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fano Pettini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349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l Je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fall back/forward to unicast/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protocol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30360" y="1663560"/>
            <a:ext cx="608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back / fall forw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if possible, unicast when necess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ransmission mode is group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uccessful initial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forward to multicast on 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fter ~75K unica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back to unicast on repeated mcas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feedback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edback option sent in ACKs from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d between TCP-X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% of last n packets received via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nder to fall forward to multicast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8376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840" y="224316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 Multicast Packet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 how la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s received (u/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firstpcb;/* first of the mpcb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nextm;   /* next tcpxm pcb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um tx_mode txmode;     /* unicasting or multicasting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nrtxm;              /* number of retransmits for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nrtxmtime;         /* time since last retransmi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sent;        /* total bytes sent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rcvd;        /* total bytes received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sent;        /* total bytes sent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rcvd;        /* total bytes received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segrcv msegrcv[128]; /* ismcast boolean for last n seg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per;         /* % of last segs receiv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cnt;         /* counter for segs recv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sntper;         /* % of last segs deliver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29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36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43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50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57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lly so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time taken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cast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ultiple TCP-XM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vs TCP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id multicas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ulticast be used in Gri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s new multicast-cap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us is de-facto Grid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CP-XM support in Glob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us X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Input Outpu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“i/o plugins” to Gl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SIX-like API / set of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pen/close/read/writ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protocol details / Allows for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f 1 transport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can be selected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948360" y="407880"/>
            <a:ext cx="19432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87480" y="1523880"/>
            <a:ext cx="3567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/XM driver specif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XIO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user when XIO framework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all open/close/read/writ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IP netconn connection structu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XIO driver-specific parame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CP-XM protocol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destination addr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code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init(&amp;stack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oad drivers onto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driver_load(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px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&amp;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push_driver(stack, 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cntl(attr, txdriver, GLOBUS_XIO_TCPXM_SET_REMOTE_HOSTS, hosts, numhos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create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handle_create(&amp;handle, st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e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open(&amp;handle, NULL, 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write(handle, "hello\n", 6, 1, &amp;nbytes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close(handle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-to-many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assumes one-to-on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O user interface requires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support for one-to-man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r 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changes mo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I is one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with peer on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not authenticat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form of “GSI-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ver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ansport driver for Globus X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lobus 3.2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xi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cp &amp; mcp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file transfer application using TCP-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d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 file host1 host2… host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m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ource cod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BSD, Linux, 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TCP – Mysore &amp; Varg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MP – Barcellos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3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4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imed at pus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initiated – advance knowledge of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session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ation host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is used when multicast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headers used to exchange multicas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ncorporates multiple destination and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requires n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friendly, by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 Bond</cp:lastModifiedBy>
  <dcterms:modified xsi:type="dcterms:W3CDTF">2005-07-15T15:48:39Z</dcterms:modified>
  <cp:revision>106</cp:revision>
  <dc:subject/>
  <dc:title>A Multicast Transport Driver for Globus XIO</dc:title>
</cp:coreProperties>
</file>