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F4A-9E25-44C7-B935-11B6A8D6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E64-1C6F-4C12-A6C1-B9B0307B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39F-EFF3-4550-8B24-551C536E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F4C-1684-4424-8726-7056B1C6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67FA-9BD1-4018-8B48-41A88655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06D1-82C3-4058-89D3-0FD39D30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0B00-6E80-4A02-B221-995AC8F7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3784-7499-40F3-B00B-9B47E661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589C-ED94-451E-8C0E-ABD719F6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A55E-39E9-4D00-A902-B460DDED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0D6D-9C51-4B65-BDBC-A905F48B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6B8-AF37-4FD1-8E97-91C67D25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0F83-EE4A-467B-B0FD-5FCA1920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E369-5800-4D4A-825D-282F09A1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EE6A-C71E-4BC3-9E57-5AFB5210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57DF-1B4F-460A-AF45-917E85C8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1BA7-E8B3-47F6-8CB5-96840DA7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7F1-A7A5-4570-A532-D22B2707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F41-8A54-429A-A4BC-534C076C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461-F678-4BD1-8247-633BEF66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73A-404A-4AA4-899A-6387ABC4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78CC-9C28-43E2-AC1A-6A29214C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AA1E-A345-4A22-BBFC-575B594F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ED0-5BAB-46BB-BAD4-460335EC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EXT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BFA4-51B5-4DB9-A32B-FB6823B5D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9A62-ADFC-4404-ABFE-9E3186EE4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79280" y="456264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91728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brid Reliable Multicast with TCP-X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273996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325296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nho P Barcellos, UNIS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fano Pettini,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234936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l Je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1852560"/>
            <a:ext cx="1116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08800" y="1884240"/>
            <a:ext cx="10800" cy="392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43280" y="198900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5800" y="1773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07520" y="20750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N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5800" y="24922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32986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843280" y="2282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43280" y="365904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843280" y="4797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5235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33717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458136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24922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5451480"/>
            <a:ext cx="278136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5800" y="43783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2560" y="50259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2560" y="3659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2560" y="4797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45800" y="5445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6160" y="3083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43280" y="3443400"/>
            <a:ext cx="2781360" cy="13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38000" y="28065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70160" y="28065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1320" y="249228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4760" y="134136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954760" y="2997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54760" y="46530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281320" y="1412640"/>
            <a:ext cx="3673440" cy="12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2698920"/>
            <a:ext cx="3686400" cy="36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74840" y="2732040"/>
            <a:ext cx="3679920" cy="19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74840" y="1484280"/>
            <a:ext cx="367992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274840" y="2863800"/>
            <a:ext cx="367992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274840" y="2922480"/>
            <a:ext cx="3679920" cy="187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1320" y="1557000"/>
            <a:ext cx="3673440" cy="14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74840" y="3087720"/>
            <a:ext cx="36799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74840" y="3122640"/>
            <a:ext cx="3679920" cy="174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79520" y="187164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1320" y="350028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70160" y="350028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1320" y="194472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1320" y="357336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1320" y="3573360"/>
            <a:ext cx="3676680" cy="162900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1320" y="201600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1320" y="3645000"/>
            <a:ext cx="36734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1320" y="3645000"/>
            <a:ext cx="3676680" cy="1628640"/>
          </a:xfrm>
          <a:custGeom>
            <a:avLst/>
            <a:gdLst/>
            <a:ahLst/>
            <a:rect l="l" t="t" r="r" b="b"/>
            <a:pathLst>
              <a:path w="2316" h="1026">
                <a:moveTo>
                  <a:pt x="0" y="0"/>
                </a:moveTo>
                <a:lnTo>
                  <a:pt x="1511" y="0"/>
                </a:lnTo>
                <a:lnTo>
                  <a:pt x="2316" y="102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475000"/>
            <a:ext cx="3665520" cy="162864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1320" y="4176720"/>
            <a:ext cx="367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281320" y="4247280"/>
            <a:ext cx="3665520" cy="1629000"/>
          </a:xfrm>
          <a:custGeom>
            <a:avLst/>
            <a:gdLst/>
            <a:ahLst/>
            <a:rect l="l" t="t" r="r" b="b"/>
            <a:pathLst>
              <a:path w="2309" h="1026">
                <a:moveTo>
                  <a:pt x="0" y="1024"/>
                </a:moveTo>
                <a:lnTo>
                  <a:pt x="1504" y="1026"/>
                </a:lnTo>
                <a:lnTo>
                  <a:pt x="230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000" y="3422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9240" y="177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9240" y="3429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240" y="50846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conn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nnects to multiple unicast 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CP PCBs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3-way handshakes tak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M or random ASM group address allo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f not specified in advance by user/app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address sent as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ulticast depends on TCP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Group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group option sent in all TCP-XM SY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CP-XM hosts will ignore (no option in SYN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implies multicast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ill automatically revert to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77560" y="289404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7600" y="224316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ulticast Grou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transmis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licated/enqueued on all send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variables dictate transmission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multicast (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nsmissions are un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fall back/forward to unicast/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closed as per unicast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protocol st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530360" y="1663560"/>
            <a:ext cx="6083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ll back / fall forwar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ast if possible, unicast when necessa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transmission mode is group un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successful initial data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forward to multicast on 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after ~75K unicas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 back to unicast on repeated mcas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feedback O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eedback option sent in ACKs from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used between TCP-XM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% of last n packets received via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sender to fall forward to multicast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81000" y="1946160"/>
            <a:ext cx="1127160" cy="88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11400" y="1944720"/>
            <a:ext cx="112716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38560" y="1943280"/>
            <a:ext cx="4508280" cy="88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7240" y="2890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504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83760" y="289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6240" y="22431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nd=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2280" y="22431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1840" y="2243160"/>
            <a:ext cx="31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 Multicast Packets Rece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recep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I-leve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TCP l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IGMP join on TCP-XM 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data on both unicast/multicas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_input() ac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s addressed to existing unicast destina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w also those addressed to multica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s how la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gs received (u/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levant if natively implemen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er API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nnection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 to port on array of dest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write sends data to all h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n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nn = netconn_new(NETCONN_TCPX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connectxm(conn, remotedest, numdests, group, por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conn_write(conn, data, len, …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o achieve high-speed bulk data delivery to multipl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ing would make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ing multicast research has focused on sending to a large number o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rid is an applied example where sending to a moderate number of receivers would be extreme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B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CP connection has an associated Protocol Control Block (PC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ad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firstpcb;/* first of the mpcb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tcp_pcb *nextm;   /* next tcpxm pcb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um tx_mode txmode;     /* unicasting or multicasting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nrtxm;              /* number of retransmits for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nrtxmtime;         /* time since last retransmi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sent;        /* total bytes sent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mbytesrcvd;        /* total bytes received via mult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sent;        /* total bytes sent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32_t ubytesrcvd;        /* total bytes received via uni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ruct segrcv msegrcv[128]; /* ismcast boolean for last n segs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per;         /* % of last segs receiv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rcvcnt;         /* counter for segs recv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8_t msegsntper;         /* % of last segs delivered via mcast 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king PCB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388620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next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to the next TCP session that’s part of a particular TCP-XM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imer and state machin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00000" y="1730520"/>
            <a:ext cx="936720" cy="1370160"/>
            <a:chOff x="900000" y="1730520"/>
            <a:chExt cx="936720" cy="1370160"/>
          </a:xfrm>
        </p:grpSpPr>
        <p:sp>
          <p:nvSpPr>
            <p:cNvPr id="229" name=""/>
            <p:cNvSpPr/>
            <p:nvPr/>
          </p:nvSpPr>
          <p:spPr>
            <a:xfrm>
              <a:off x="1120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50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33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320920" y="1730520"/>
            <a:ext cx="936720" cy="1370160"/>
            <a:chOff x="2320920" y="1730520"/>
            <a:chExt cx="936720" cy="1370160"/>
          </a:xfrm>
        </p:grpSpPr>
        <p:sp>
          <p:nvSpPr>
            <p:cNvPr id="236" name=""/>
            <p:cNvSpPr/>
            <p:nvPr/>
          </p:nvSpPr>
          <p:spPr>
            <a:xfrm>
              <a:off x="254124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7176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2092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2092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2092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5420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743280" y="1730520"/>
            <a:ext cx="936720" cy="1370160"/>
            <a:chOff x="3743280" y="1730520"/>
            <a:chExt cx="936720" cy="1370160"/>
          </a:xfrm>
        </p:grpSpPr>
        <p:sp>
          <p:nvSpPr>
            <p:cNvPr id="243" name=""/>
            <p:cNvSpPr/>
            <p:nvPr/>
          </p:nvSpPr>
          <p:spPr>
            <a:xfrm>
              <a:off x="396360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9412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328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4328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4328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656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165640" y="1730520"/>
            <a:ext cx="936720" cy="1370160"/>
            <a:chOff x="5165640" y="1730520"/>
            <a:chExt cx="936720" cy="1370160"/>
          </a:xfrm>
        </p:grpSpPr>
        <p:sp>
          <p:nvSpPr>
            <p:cNvPr id="250" name=""/>
            <p:cNvSpPr/>
            <p:nvPr/>
          </p:nvSpPr>
          <p:spPr>
            <a:xfrm>
              <a:off x="538596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648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6564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564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9892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588000" y="1730520"/>
            <a:ext cx="936720" cy="1370160"/>
            <a:chOff x="6588000" y="1730520"/>
            <a:chExt cx="936720" cy="1370160"/>
          </a:xfrm>
        </p:grpSpPr>
        <p:sp>
          <p:nvSpPr>
            <p:cNvPr id="257" name=""/>
            <p:cNvSpPr/>
            <p:nvPr/>
          </p:nvSpPr>
          <p:spPr>
            <a:xfrm>
              <a:off x="6808320" y="1730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38840" y="282420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x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88000" y="1730520"/>
              <a:ext cx="936720" cy="13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88000" y="20196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88000" y="28101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21280" y="219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U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3528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62320" y="18748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144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03800" y="18748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1440" y="29541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2957400"/>
            <a:ext cx="1903320" cy="325440"/>
          </a:xfrm>
          <a:custGeom>
            <a:avLst/>
            <a:gdLst/>
            <a:ahLst/>
            <a:rect l="l" t="t" r="r" b="b"/>
            <a:pathLst>
              <a:path w="1199" h="205">
                <a:moveTo>
                  <a:pt x="0" y="0"/>
                </a:moveTo>
                <a:cubicBezTo>
                  <a:pt x="192" y="102"/>
                  <a:pt x="384" y="205"/>
                  <a:pt x="584" y="205"/>
                </a:cubicBezTo>
                <a:cubicBezTo>
                  <a:pt x="784" y="205"/>
                  <a:pt x="991" y="102"/>
                  <a:pt x="119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happens to the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wi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C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ngestio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(cw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send at rate of slowest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really so b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time taken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cast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spee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AN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ultiple TCP-XM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CP-XM vs TCP flow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perform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ment i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s have been defined and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concerns about scalability; much F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 &amp; egg” means limite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s of native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can’t r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tinations via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applications abandon in favour of 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we could multicast when possib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fall back to unicast when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tocol efficien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9421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id multicas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multicast be used in Grid enviro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-XM is new multicast-capabl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us is de-facto Grid middl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like TCP-XM support in Globu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us XI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le Input Outpu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“i/o plugins” to Glo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OSIX-like API / set of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open/close/read/write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es protocol details / Allows for 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 of 1 transport &amp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s can be selected at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948360" y="407880"/>
            <a:ext cx="194328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architec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787480" y="1523880"/>
            <a:ext cx="3567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implemen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666880" y="1536840"/>
            <a:ext cx="381024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/XM driver specif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mportant XIO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ed to user when XIO framework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all open/close/read/write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wIP netconn connection structu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set XIO driver-specific paramet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CP-XM protocol-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of destination addr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IO code examp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0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init(&amp;stack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load drivers onto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driver_load(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cpx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, &amp;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stack_push_driver(stack, txdriv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nit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init(&amp;att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attr_cntl(attr, txdriver, GLOBUS_XIO_TCPXM_SET_REMOTE_HOSTS, hosts, numhost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create 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handle_create(&amp;handle, stac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se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open(&amp;handle, NULL, 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write(handle, "hello\n", 6, 1, &amp;nbytes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lobus_xio_close(handle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e-to-many issu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assumes one-to-on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O user interface requires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support for one-to-many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user 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changes mo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I is one-to-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with peer on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not authenticat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ome form of “GSI-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ver avail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ransport driver for Globus X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Globus 3.2 o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code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r installation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xio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cp &amp; mcp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file transfer application using TCP-X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d 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cp file host1 host2… host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on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cl.cam.ac.uk/~kj234/mc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ource code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BSD, Linux, 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cast TC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liable stream between two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liable streams from 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s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eem a little odd, but there is preced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-XMO – Liang &amp; Cheri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-TCP – Mysore &amp; Varg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/TCP – Visoottiviseth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MP – Barcellos et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 – Talpade &amp; 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 implo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482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ing Multicast TC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to test multicast/unicast TCP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ew protocol == kerne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spread test deployment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new TCP-like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e packets in U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in us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sacrifice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idespread testing now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/IP/UDP/I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19280" y="2060640"/>
            <a:ext cx="5761080" cy="3026520"/>
            <a:chOff x="1619280" y="2060640"/>
            <a:chExt cx="5761080" cy="3026520"/>
          </a:xfrm>
        </p:grpSpPr>
        <p:grpSp>
          <p:nvGrpSpPr>
            <p:cNvPr id="103" name=""/>
            <p:cNvGrpSpPr/>
            <p:nvPr/>
          </p:nvGrpSpPr>
          <p:grpSpPr>
            <a:xfrm>
              <a:off x="1619280" y="2060640"/>
              <a:ext cx="1584360" cy="2954880"/>
              <a:chOff x="1619280" y="2060640"/>
              <a:chExt cx="1584360" cy="2954880"/>
            </a:xfrm>
          </p:grpSpPr>
          <p:sp>
            <p:nvSpPr>
              <p:cNvPr id="104" name=""/>
              <p:cNvSpPr/>
              <p:nvPr/>
            </p:nvSpPr>
            <p:spPr>
              <a:xfrm>
                <a:off x="181908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nd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1428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1940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4804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9744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1928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1928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61928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36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36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9236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96000" y="2060640"/>
              <a:ext cx="1584360" cy="2954880"/>
              <a:chOff x="5796000" y="2060640"/>
              <a:chExt cx="1584360" cy="2954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995800" y="234504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ceiv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291000" y="330840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396120" y="3716640"/>
                <a:ext cx="37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24760" y="418464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374160" y="4616640"/>
                <a:ext cx="42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796000" y="2060640"/>
                <a:ext cx="1584360" cy="295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96000" y="458172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96000" y="4148280"/>
                <a:ext cx="158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869080" y="3284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9080" y="371664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9080" y="2132280"/>
                <a:ext cx="1439640" cy="19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482280" y="3914640"/>
              <a:ext cx="20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Arial"/>
                </a:rPr>
                <a:t>If natively implemen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69920" y="4780080"/>
              <a:ext cx="144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est deploy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03640" y="4795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32000" y="3932280"/>
              <a:ext cx="27370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eng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initial TCP com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use BSD or Lin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ng from kernel could be proble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act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wIP = Lightweigh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t fully RFC-compliant TCP/IP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wIP + multicast extensions =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-X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-XM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aimed at push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initiated – advance knowledge of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 session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tination hosts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ast is used when multicast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headers used to exchange multicas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I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incorporates multiple destination and grou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 requires n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friendly, by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 Bond</cp:lastModifiedBy>
  <dcterms:modified xsi:type="dcterms:W3CDTF">2005-07-15T15:48:39Z</dcterms:modified>
  <cp:revision>106</cp:revision>
  <dc:subject/>
  <dc:title>A Multicast Transport Driver for Globus XIO</dc:title>
</cp:coreProperties>
</file>