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ct" ContentType="image/x-pict"/>
  <Override PartName="/ppt/media/image8.gif" ContentType="image/gif"/>
  <Override PartName="/ppt/media/image13.pct" ContentType="image/x-pict"/>
  <Override PartName="/ppt/media/image7.gif" ContentType="image/gif"/>
  <Override PartName="/ppt/media/image23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E0B2-C120-4B03-AEB5-D12C59A24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6C1E-8E65-41F3-984C-4D2BD37C2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0648-465D-4761-82A3-BD56DB4E3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4A89-4611-444D-BE8E-C3DA66171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56B1-981B-4EDE-BBEF-10A5DDCC4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06AF-577D-4074-A0C8-F0AD471B1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A652-6274-4102-AA86-C147E263B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BAB91-E05F-420A-9AC9-B64B54762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2DD2-83C5-43FE-9135-6A761576A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272D-2BB6-4234-95EE-F1A843245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8E70-4D80-4E5A-8B9A-A471CE6BE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455F-6E6F-4F9C-9219-483399214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20DE-78F9-4143-8D19-8B18931B5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E9CD-131C-491B-9950-EC6B4EBBA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KAIST, September 3rd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EBC-805D-45B8-824B-CB0A986FACE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image" Target="../media/image11.pct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062440"/>
            <a:ext cx="843588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Based on Haggle  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Example: Haggle, a Human DT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5C96-DCC2-48F9-BBC2-FB1E6E5A9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60a8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3876-AD1B-4AF6-A6B4-48A005E8CD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Can we Generalize From Haggle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46F3-F0DE-4725-BC3F-6F9EC28A9F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4FF7-D0F0-45FB-B398-00434A2F61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7B17-F392-49C7-B43F-AF4ADFED61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78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122400">
              <a:off x="5502960" y="258624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30B0-35C2-4DF1-9E2F-6CD3A42294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0ED8-74B1-4F4A-A32D-E7ABED345B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D75C-9A99-48EF-A387-03D952DB85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4247-9263-4F20-853B-9F25BEBC48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20AA-44EB-426C-85E8-2156034439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and Steven Hand &amp; Wenjun Hu, Experiments and Analysis from Pan (Ben) Hui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619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9645-BCD5-4DA6-A014-579BD5774E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detection and Community based forwar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D553-A753-4CCC-8EEB-C5E8555EA3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munity detection&amp;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mmunity structur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communities, i.e. affiliations/explicit labe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pological cohesive groups or modul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entral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hubs, celebrities and postma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tweenness, closeness, inference power 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races of human xco-mobilty on/from Crawda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 own Cambridge, Hong Kong, Infoco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IT Reality Mining, Dartmouth, UCS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101A7-BF90-4C28-B514-0F8219091E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97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mmunities in Infocom06 Dataset: </a:t>
            </a:r>
            <a:r>
              <a:rPr b="1" lang="en-GB" sz="2800" spc="-1" strike="noStrike">
                <a:solidFill>
                  <a:srgbClr val="0860a8"/>
                </a:solidFill>
                <a:latin typeface="Comic Sans MS"/>
              </a:rPr>
              <a:t>Union of k-cliques reachable via series of adjacent k-cliques [Palla et al]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5840" y="1523880"/>
            <a:ext cx="8858160" cy="4248360"/>
            <a:chOff x="285840" y="1523880"/>
            <a:chExt cx="8858160" cy="4248360"/>
          </a:xfrm>
        </p:grpSpPr>
        <p:grpSp>
          <p:nvGrpSpPr>
            <p:cNvPr id="207" name=""/>
            <p:cNvGrpSpPr/>
            <p:nvPr/>
          </p:nvGrpSpPr>
          <p:grpSpPr>
            <a:xfrm>
              <a:off x="285840" y="1523880"/>
              <a:ext cx="8858160" cy="4248360"/>
              <a:chOff x="285840" y="1523880"/>
              <a:chExt cx="8858160" cy="4248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1523880"/>
                <a:ext cx="8858160" cy="42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015400" y="3047400"/>
                <a:ext cx="16740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15400" y="2666160"/>
                <a:ext cx="166680" cy="1699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183160" y="347112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59000" y="253944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06240" y="232740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68160" y="215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3720" y="287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7240" y="34711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54080" y="3216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03240" y="389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45320" y="33861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36840" y="355500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53360" y="355608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0192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66200" y="300528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31680" y="3639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42680" y="3301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59920" y="355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26600" y="3133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6040" y="52491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3080" y="49953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6960" y="546120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66120" y="51645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560" y="207360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960" y="3005280"/>
                <a:ext cx="5139000" cy="11005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30560" y="4826520"/>
                <a:ext cx="1211400" cy="8467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47040" y="487548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47040" y="4600080"/>
              <a:ext cx="140040" cy="1382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040" y="515196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7040" y="542700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5320" y="466992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5320" y="453168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7120" y="480708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320" y="50670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320" y="53589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10400" y="211788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9080" y="260172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23720" y="193572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600" y="225648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240" y="434772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560" y="473868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EBB0-5C55-4D8F-8C16-078D1B848E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253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7EEC-3826-4E50-9FA7-77BA0E06AB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860a8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8919-62D4-49A7-A43F-FE54832A6E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entrality  Cambridge Dataset: </a:t>
            </a: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times node is on shortest delay pat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6B7CF-3C8F-4BE6-B6DC-B8772CE0D4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Interaction and 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ird generation human interaction mod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tegories of human contact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ique and comm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pularity/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ual natures of mobile networ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enchmark Forwarding strateg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looding, Wait, and Multiple-copy-multiple-hop (MCP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2F01-20B5-4744-808E-EFEDCED790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Design Spa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860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Human Dimension</a:t>
            </a: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4DEF-F2C3-4469-9148-C6C7FAC996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RAN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F9F4-BFB7-4AC8-8E2E-8901BFD580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LAB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 a less mixing environment (e.g. Reality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person in one group may not meet members in another group so ofte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ait for destination group not effici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DDC2-4004-4093-BA32-0827CC7FE9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0CD9-A20C-4980-9DE1-8A515DCE55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pulation divided into commun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ode has a global and local ran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Global popular node like a postman, or politician in a c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popular node like Christophe Diot in SIGCOM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B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B836-EB2D-4FC4-AA44-8C9D973C0F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4B90-ADC8-4A60-88A0-0A6F8A4A05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0B14-C880-4CF3-8159-750286721A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Making Centrality Practic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can each node know its own centrality in decentralised way?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well does past centrality predict the future?</a:t>
            </a:r>
            <a:br>
              <a:rPr sz="2400"/>
            </a:b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215F-F22A-4CAC-A6EE-60B379F0C3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37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61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otal degree, per-6-hour degre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rrelation coefficients, 0.7401 and 0.951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3F6A-5341-4F50-91EA-13B5FF4F76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Using decentralised 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38880" cy="31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D153-291F-42A0-8582-435DDB6F57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redictability of Human Mobility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3752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ree sessions of Reality datas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wo sessions using the ranking calculated from the first session: Almost same performa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97528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AE37-ADC3-41F4-8ECA-AE43489086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DF49-9282-4287-BDEC-78456188CB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ease e-mail me: Jon.Crowcroft@cl.cam.ac.u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apers availabl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A9AD-AB63-4DF7-82B5-C869DF6678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nternet choices ok: 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6544-82FC-4278-8FEE-14B2E4B09E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687F-502D-4987-8F3E-C3081C321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DFCC-2DAE-40E1-9502-5C179C5811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81FE-E4D2-4EDE-88E4-192331554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016E-362F-4591-A6EF-3638574C23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 algn="ctr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o FIND/GENI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erience: Architectures emerge (ANSA/Herber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3903-32EE-42F8-8D2E-D4985F393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9-02T22:23:09Z</dcterms:modified>
  <cp:revision>262</cp:revision>
  <dc:subject/>
  <dc:title>Haggle Work </dc:title>
</cp:coreProperties>
</file>