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85B-04D9-483C-A577-36657F50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D49-B120-4F29-9AEB-14460718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3FF-E041-4152-A5A4-850B51C5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CEA-BAF2-4E27-9FE6-9A5E22C7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E04C-D71B-452B-AD35-09B501BD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3F76-400C-4606-B820-61AEE3EE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0976-FA22-4492-8778-2985212B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D0FA-8829-4047-954B-A380B390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26DC-5B08-44B1-A0F8-77B383B7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BA34-A4C5-432D-8F6A-FF04A58F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5626-9341-4D15-A8A7-ABAF9141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DC6-6837-486B-9C19-435CD7BA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15F-1046-49BA-A194-1AE840E6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8137-1840-4A0F-B89E-A6C94EA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9643-28FC-4AD6-8A79-9974D153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F519-D2F6-47B8-A1D3-7BCA3CE6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71A-D341-4D24-837B-86A72B55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98B-C3C3-4DF3-98DA-0C22F395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4B4-8562-4DED-BA55-CD6C1EE1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231-E08A-47C9-9C11-39E733C2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320-14D5-4E41-8E3D-6EF986B3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55F-7A58-482C-A241-81CDECF6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150-E7F3-496C-A351-7B424FBB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0B2-DD80-473B-B4D9-9F08579E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341B-D9C2-4814-98A4-9CB14E1A1835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0C8F-59DB-43A8-8665-A8CBC2F2B0E5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Deploying Mesh Networks through Public Transport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36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E Huang, J Crowcroft,, I Wassell, Wenjun H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Laboratory of Communication Enginee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obileMAN Project:IST 2001 38113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-108000" y="508464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chnic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bility model based on Manhattan Grid System with realistic movement and traffic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dio propagation model for microcells, based on a recursive path loss model with multipath fading and interference from other no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1640" y="0"/>
            <a:ext cx="4321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427280" y="1267920"/>
            <a:ext cx="4537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formance evaluation made based on outage durations, connectivity, maximum outage time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relationships between performance and number of nodes, connection times, traffic congestion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7280" y="0"/>
            <a:ext cx="471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427280" y="1052640"/>
            <a:ext cx="4537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s us to establish physical bound for network connectivity independent of upper layer protoco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ystem is unsuitable for real time communication, however feasible for dispatch type applica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are a number of business and technical risks to consider, however serves to highlight considerations for this type of applic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38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bile Ad Hoc Networks (MANETs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27640" y="1673280"/>
            <a:ext cx="446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st of a set of self-organized, decentralized, mobile hosts that roam at will and communicate directly with each o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propose a novel application scenario in the form of a MANET dispatch system for tax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95280" y="2276640"/>
          <a:ext cx="4033800" cy="27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76640"/>
                    <a:ext cx="4033800" cy="27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 Business Scenari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llab with SUPSI-DS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se of Wiki to elicit user preferen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3 detailed business cases devised f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Taxi Cab Radio 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Ad Hoc Gam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2P Shopping Mall Messaging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alistic Business Case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at retain p2p/ad hoc na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reak down to stakehol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ustom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Risk analysis (for busi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ecurity requirements analysi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or customer and business ration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 find requirements for incentives/cooperation (reputatio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cab operation’s primary play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14400" y="1600200"/>
            <a:ext cx="6857280" cy="4343400"/>
            <a:chOff x="914400" y="1600200"/>
            <a:chExt cx="6857280" cy="4343400"/>
          </a:xfrm>
        </p:grpSpPr>
        <p:grpSp>
          <p:nvGrpSpPr>
            <p:cNvPr id="170" name=""/>
            <p:cNvGrpSpPr/>
            <p:nvPr/>
          </p:nvGrpSpPr>
          <p:grpSpPr>
            <a:xfrm>
              <a:off x="5166360" y="4952160"/>
              <a:ext cx="2605320" cy="991440"/>
              <a:chOff x="5166360" y="4952160"/>
              <a:chExt cx="2605320" cy="99144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6360" y="512172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66360" y="5518800"/>
                <a:ext cx="68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988960" y="4952160"/>
                <a:ext cx="1782720" cy="9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914400" y="1600200"/>
              <a:ext cx="6035040" cy="4343040"/>
              <a:chOff x="914400" y="1600200"/>
              <a:chExt cx="6035040" cy="4343040"/>
            </a:xfrm>
          </p:grpSpPr>
          <p:sp>
            <p:nvSpPr>
              <p:cNvPr id="175" name=""/>
              <p:cNvSpPr/>
              <p:nvPr/>
            </p:nvSpPr>
            <p:spPr>
              <a:xfrm>
                <a:off x="914400" y="1600200"/>
                <a:ext cx="6035040" cy="3116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63040" y="2025000"/>
                <a:ext cx="123444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810"/>
                    </a:solidFill>
                    <a:latin typeface="Arial Unicode MS"/>
                  </a:rPr>
                  <a:t>Custome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920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oftwa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20440" y="1693800"/>
                <a:ext cx="1097280" cy="70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H/W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Arial Unicode MS"/>
                  </a:rPr>
                  <a:t>Supplie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20624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5715000" y="240156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3520440" y="3110400"/>
                <a:ext cx="3154680" cy="1274760"/>
                <a:chOff x="3520440" y="3110400"/>
                <a:chExt cx="3154680" cy="12747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520440" y="3110400"/>
                  <a:ext cx="3154680" cy="1274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Cab Compan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0352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810"/>
                      </a:solidFill>
                      <a:latin typeface="Verdana"/>
                    </a:rPr>
                    <a:t>Dispatcher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57600" y="3535200"/>
                  <a:ext cx="1234440" cy="56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Verdana"/>
                    </a:rPr>
                    <a:t>Cab driv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92040" y="3818520"/>
                  <a:ext cx="41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051560" y="5093640"/>
                <a:ext cx="150876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Internet Service Provider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access point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246120" y="5093640"/>
                <a:ext cx="1645920" cy="84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810"/>
                    </a:solidFill>
                    <a:latin typeface="Verdana"/>
                  </a:rPr>
                  <a:t>Credit card service provider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810"/>
                    </a:solidFill>
                    <a:latin typeface="Verdana"/>
                  </a:rPr>
                  <a:t>(with credit card facility)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1588320" y="2756160"/>
                <a:ext cx="22680" cy="238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1828440" y="2768040"/>
                <a:ext cx="22680" cy="231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697480" y="2401920"/>
                <a:ext cx="123444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31840" y="4095000"/>
                <a:ext cx="445680" cy="31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5166360" y="4101480"/>
                <a:ext cx="41112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23160" y="2741760"/>
                <a:ext cx="1097280" cy="235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4206240" y="4384800"/>
                <a:ext cx="0" cy="70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8056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2148840" y="3534840"/>
                <a:ext cx="0" cy="155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2342880" y="3936600"/>
                <a:ext cx="0" cy="11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2354400" y="3960360"/>
                <a:ext cx="11656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48840" y="3535200"/>
                <a:ext cx="137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126480" y="4101480"/>
                <a:ext cx="0" cy="28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ad hoc gaming on ubiquitous devices scenario’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476360" y="2637000"/>
            <a:ext cx="6400800" cy="2568240"/>
            <a:chOff x="1476360" y="2637000"/>
            <a:chExt cx="6400800" cy="2568240"/>
          </a:xfrm>
        </p:grpSpPr>
        <p:grpSp>
          <p:nvGrpSpPr>
            <p:cNvPr id="203" name=""/>
            <p:cNvGrpSpPr/>
            <p:nvPr/>
          </p:nvGrpSpPr>
          <p:grpSpPr>
            <a:xfrm>
              <a:off x="5705280" y="2979720"/>
              <a:ext cx="2171880" cy="799920"/>
              <a:chOff x="5705280" y="2979720"/>
              <a:chExt cx="2171880" cy="799920"/>
            </a:xfrm>
          </p:grpSpPr>
          <p:sp>
            <p:nvSpPr>
              <p:cNvPr id="204" name=""/>
              <p:cNvSpPr/>
              <p:nvPr/>
            </p:nvSpPr>
            <p:spPr>
              <a:xfrm>
                <a:off x="5705280" y="31165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05280" y="3436920"/>
                <a:ext cx="57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91080" y="2979720"/>
                <a:ext cx="1486080" cy="7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mone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Verdana"/>
                  </a:rPr>
                  <a:t>Flow of inform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476360" y="2637000"/>
              <a:ext cx="4114800" cy="256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0460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Manufactur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7648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End Custom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76480" y="286560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Content Develop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460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Hardware Retaile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90680" y="3147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171600" y="3700080"/>
              <a:ext cx="733320" cy="49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90680" y="4633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3190680" y="3490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19760" y="4123080"/>
              <a:ext cx="1485720" cy="883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810"/>
                  </a:solidFill>
                  <a:latin typeface="Arial Unicode MS"/>
                </a:rPr>
                <a:t>Game Service Provi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62560" y="458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5362560" y="37033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370480" y="44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381040" y="374112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ecff"/>
                </a:solidFill>
                <a:latin typeface="Arial"/>
                <a:ea typeface="宋体"/>
              </a:rPr>
              <a:t>Value chain for retail mall based scenari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03280" y="1773360"/>
            <a:ext cx="6400080" cy="3886200"/>
            <a:chOff x="1403280" y="1773360"/>
            <a:chExt cx="6400080" cy="3886200"/>
          </a:xfrm>
        </p:grpSpPr>
        <p:grpSp>
          <p:nvGrpSpPr>
            <p:cNvPr id="223" name=""/>
            <p:cNvGrpSpPr/>
            <p:nvPr/>
          </p:nvGrpSpPr>
          <p:grpSpPr>
            <a:xfrm>
              <a:off x="1403280" y="1773360"/>
              <a:ext cx="6400080" cy="3886200"/>
              <a:chOff x="1403280" y="1773360"/>
              <a:chExt cx="6400080" cy="38862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632200" y="4288680"/>
                <a:ext cx="2171160" cy="799920"/>
                <a:chOff x="5632200" y="4288680"/>
                <a:chExt cx="2171160" cy="7999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632200" y="44254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632200" y="4745880"/>
                  <a:ext cx="57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17640" y="4288680"/>
                  <a:ext cx="1485720" cy="799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money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</a:rPr>
                    <a:t>Flow of information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403280" y="1773360"/>
                <a:ext cx="6172200" cy="3886200"/>
                <a:chOff x="1403280" y="1773360"/>
                <a:chExt cx="6172200" cy="38862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403280" y="1773360"/>
                  <a:ext cx="4114800" cy="3886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63152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Manufactur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0340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Publish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03400" y="200196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Content Develop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31520" y="325980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Hardware and Software Retail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117600" y="228456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17600" y="3770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3117240" y="262728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307960" y="2877840"/>
                  <a:ext cx="0" cy="36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45920" y="4517280"/>
                  <a:ext cx="1485720" cy="8830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810"/>
                      </a:solidFill>
                      <a:latin typeface="Arial Unicode MS"/>
                    </a:rPr>
                    <a:t>End Customers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>
                  <a:off x="3993840" y="4174200"/>
                  <a:ext cx="38088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426060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4660920" y="2878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117600" y="3488400"/>
                  <a:ext cx="68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2774880" y="4145760"/>
                  <a:ext cx="0" cy="371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03480" y="4174200"/>
                  <a:ext cx="0" cy="34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46680" y="3144960"/>
                  <a:ext cx="1828800" cy="800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all gets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810"/>
                      </a:solidFill>
                      <a:latin typeface="Times New Roman"/>
                    </a:rPr>
                    <a:t>More custom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 flipH="1">
              <a:off x="3117240" y="2436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ore Details on Ad Hoc Network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axi Dispatch System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ails in Mobihoc pap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mobility (from “Panther”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listic RF propag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lication is decentralis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c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pat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laces expensive central alterna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114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nancial Feasibilit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53708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sing the value proposition for primary p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ng technolog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st comparis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s likely to be cheaper and easier to roll ou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6-02-12T12:32:11Z</dcterms:modified>
  <cp:revision>90</cp:revision>
  <dc:subject/>
  <dc:title>Ultra Wideband Radio Technology: Potential &amp; Challenges Ahead</dc:title>
</cp:coreProperties>
</file>