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Lst>
  <p:sldSz cx="9144000" cy="6858000"/>
  <p:notesSz cx="67929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63DD0C-C44E-4494-AEF1-2F45B1314F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3C960C-2AB3-4D48-8426-3F5E6937BE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15924B-A6EA-42BB-AFB2-4536556C70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238C66-8126-4AED-BFE8-DB0A3EC12B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81566C-DCCA-4909-ABB8-2D2746C191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6F3D22-CE38-458E-9BE8-F3F7E649C3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DB9A0C-1897-48B1-A7A9-1AD3085E82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DB1E3E-A5E2-4567-A42B-002C369A76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F2FF6B-344C-426A-90E9-A15E3CD184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770214-19E5-46BA-9792-96A650B46C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88F66B-C17C-4998-9C83-80E6E003DA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0FCB1C-7A82-4A17-9AB6-813A82A7CF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A71BA9-9BC0-4515-8687-1D87218046C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www.cs.ucl.ac.uk/staff/jon/mbng/" TargetMode="External"/><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457200" y="736560"/>
            <a:ext cx="8229600" cy="3728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erding Cats, Mice and Elephants – Network resource implications for the GRID</a:t>
            </a:r>
            <a:endParaRPr b="0" lang="en-US" sz="28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n Crowcroft</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Jon.Crowcroft@cl.cam.ac.uk</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www.cl.cam.ac.uk/homes/jac22</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30am, July 25, 2002</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PDC-11, Edinburgh</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609480" y="304920"/>
            <a:ext cx="7925040" cy="65566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ystem Components</a:t>
            </a:r>
            <a:endParaRPr b="0" lang="en-US" sz="2800" spc="-1" strike="noStrike">
              <a:solidFill>
                <a:srgbClr val="000000"/>
              </a:solidFill>
              <a:latin typeface="Times New Roman"/>
            </a:endParaRPr>
          </a:p>
          <a:p>
            <a:pPr>
              <a:lnSpc>
                <a:spcPct val="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ce: OGSA - define these in terms of WSDL/Grid</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ices! TBD! (Think: Schedule factories etc)</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I </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job description</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ser interfaces</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Push versus Pull</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exceptions</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re-negotiation</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llocation</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group naming</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embership management</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pplication layer multicast</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PNs/MBNG</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457200" y="279360"/>
            <a:ext cx="8305920" cy="6082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ore System Components</a:t>
            </a:r>
            <a:endParaRPr b="0" lang="en-US" sz="28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heduler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uring’s Halting Problem reminder!</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PU scheduler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pre-emption</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constraint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priority</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elastic</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heuristic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c (see pp 291 on in</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tp://cs.ucl.ac.uk/darpa/ods.ps.Z</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533520" y="380880"/>
            <a:ext cx="8076960" cy="628164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Yet More System Components - IDEA!!</a:t>
            </a:r>
            <a:endParaRPr b="0" lang="en-US" sz="28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ybe system schedulers could be like network Shedulers?</a:t>
            </a:r>
            <a:endParaRPr b="0" lang="en-US" sz="2000" spc="-1" strike="noStrike">
              <a:solidFill>
                <a:srgbClr val="000000"/>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twork Schedulers</a:t>
            </a:r>
            <a:endParaRPr b="0" lang="en-US" sz="2000" spc="-1" strike="noStrike">
              <a:solidFill>
                <a:srgbClr val="000000"/>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FCFS</a:t>
            </a:r>
            <a:endParaRPr b="0" lang="en-US" sz="2000" spc="-1" strike="noStrike">
              <a:solidFill>
                <a:srgbClr val="000000"/>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Int-serv - WFQ</a:t>
            </a:r>
            <a:endParaRPr b="0" lang="en-US" sz="2000" spc="-1" strike="noStrike">
              <a:solidFill>
                <a:srgbClr val="000000"/>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Diff-serv - CBQ</a:t>
            </a:r>
            <a:endParaRPr b="0" lang="en-US" sz="2000" spc="-1" strike="noStrike">
              <a:solidFill>
                <a:srgbClr val="000000"/>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riority</a:t>
            </a:r>
            <a:endParaRPr b="0" lang="en-US" sz="2000" spc="-1" strike="noStrike">
              <a:solidFill>
                <a:srgbClr val="000000"/>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DRR</a:t>
            </a:r>
            <a:endParaRPr b="0" lang="en-US" sz="2000" spc="-1" strike="noStrike">
              <a:solidFill>
                <a:srgbClr val="000000"/>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ragmatic: CAR etc</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s nice property that we think of process as throughput and latency - other properties (locality to data or I/O, also natural). </a:t>
            </a:r>
            <a:endParaRPr b="0" lang="en-US" sz="2000" spc="-1" strike="noStrike">
              <a:solidFill>
                <a:srgbClr val="000000"/>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s undesirable property that one can schedule for other resources (memory) - perhaps these really should be constraints only though, rather than parameter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380880" y="1143000"/>
            <a:ext cx="8305920" cy="457416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olicy/Mechanism</a:t>
            </a:r>
            <a:endParaRPr b="0" lang="en-US" sz="2800" spc="-1" strike="noStrike">
              <a:solidFill>
                <a:srgbClr val="000000"/>
              </a:solidFill>
              <a:latin typeface="Times New Roman"/>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Economics  - maybe a market is a way to do distributed management?</a:t>
            </a:r>
            <a:endParaRPr b="0" lang="en-US" sz="2400" spc="-1" strike="noStrike">
              <a:solidFill>
                <a:srgbClr val="000000"/>
              </a:solidFill>
              <a:latin typeface="Times New Roman"/>
            </a:endParaRPr>
          </a:p>
          <a:p>
            <a:pPr marL="457200" indent="-457200">
              <a:lnSpc>
                <a:spcPct val="100000"/>
              </a:lnSpc>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 resources on a bourse. Users ”bid”- run an online auctioning system (maybe blind vickrey auction to avoid nasty games).</a:t>
            </a:r>
            <a:endParaRPr b="0" lang="en-US" sz="2400" spc="-1" strike="noStrike">
              <a:solidFill>
                <a:srgbClr val="000000"/>
              </a:solidFill>
              <a:latin typeface="Times New Roman"/>
            </a:endParaRPr>
          </a:p>
          <a:p>
            <a:pPr marL="457200" indent="-457200">
              <a:lnSpc>
                <a:spcPct val="100000"/>
              </a:lnSpc>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hoose which parameter (cpu, storage, i/o, network) - could be like different commodity markets -3.</a:t>
            </a:r>
            <a:endParaRPr b="0" lang="en-US" sz="2400" spc="-1" strike="noStrike">
              <a:solidFill>
                <a:srgbClr val="000000"/>
              </a:solidFill>
              <a:latin typeface="Times New Roman"/>
            </a:endParaRPr>
          </a:p>
          <a:p>
            <a:pPr marL="457200" indent="-457200">
              <a:lnSpc>
                <a:spcPct val="100000"/>
              </a:lnSpc>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are allocated tokens by funding agencies, or their institu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533520" y="838080"/>
            <a:ext cx="8001000" cy="495504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olicy/Mechanism continued</a:t>
            </a:r>
            <a:endParaRPr b="0" lang="en-US" sz="2800" spc="-1" strike="noStrike">
              <a:solidFill>
                <a:srgbClr val="000000"/>
              </a:solidFill>
              <a:latin typeface="Times New Roman"/>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Service Level agreements (SLAs):</a:t>
            </a:r>
            <a:endParaRPr b="0" lang="en-US" sz="2400" spc="-1" strike="noStrike">
              <a:solidFill>
                <a:srgbClr val="000000"/>
              </a:solidFill>
              <a:latin typeface="Times New Roman"/>
            </a:endParaRPr>
          </a:p>
          <a:p>
            <a:pPr marL="457200" indent="-457200">
              <a:lnSpc>
                <a:spcPct val="100000"/>
              </a:lnSpc>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s need to be announced (might include              availability, including MTBF (e.g. windows is typically 6.5 hours, linux 65 days etc)</a:t>
            </a:r>
            <a:endParaRPr b="0" lang="en-US" sz="2400" spc="-1" strike="noStrike">
              <a:solidFill>
                <a:srgbClr val="000000"/>
              </a:solidFill>
              <a:latin typeface="Times New Roman"/>
            </a:endParaRPr>
          </a:p>
          <a:p>
            <a:pPr marL="457200" indent="-457200">
              <a:lnSpc>
                <a:spcPct val="100000"/>
              </a:lnSpc>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refund mechanism (like railtrack:-)</a:t>
            </a:r>
            <a:endParaRPr b="0" lang="en-US" sz="2400" spc="-1" strike="noStrike">
              <a:solidFill>
                <a:srgbClr val="000000"/>
              </a:solidFill>
              <a:latin typeface="Times New Roman"/>
            </a:endParaRPr>
          </a:p>
          <a:p>
            <a:pPr marL="457200" indent="-457200">
              <a:lnSpc>
                <a:spcPct val="100000"/>
              </a:lnSpc>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ong term statistics published (like internet weather service, need GRID weather servic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533520" y="480960"/>
            <a:ext cx="8076960" cy="612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olicy/Mechanism continued</a:t>
            </a:r>
            <a:endParaRPr b="0" lang="en-US" sz="28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can choose to pay spot or futures, or brokered</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ce.</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worry about stability, of course. But scale of</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an help!</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s in bundled services might emerge.</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ariff distribution mechanism (c.f. Grid event</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ification service is part of OGSA).</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think about CPU and memory and I/O </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gestion (and signaling - a bit like ECN in</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457200" y="1219320"/>
            <a:ext cx="8001000" cy="4453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marks…</a:t>
            </a:r>
            <a:endParaRPr b="0" lang="en-US" sz="2800" spc="-1" strike="noStrike">
              <a:solidFill>
                <a:srgbClr val="000000"/>
              </a:solidFill>
              <a:latin typeface="Times New Roman"/>
            </a:endParaRPr>
          </a:p>
          <a:p>
            <a:pPr algn="ctr">
              <a:lnSpc>
                <a:spcPct val="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 complex heteroegeneous system with many organisations, the only current model we have for organisation is a market</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works for the Internet (a thousand ISPs per country!)</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highly optimised and robust, but built out of sloppy components (see work by John Doyle at Caltech on control theoretic analysis of such systems, often biologically inspired</a:t>
            </a:r>
            <a:r>
              <a:rPr b="0" lang="en-US" sz="2400" spc="-1" strike="noStrike">
                <a:solidFill>
                  <a:srgbClr val="000000"/>
                </a:solidFill>
                <a:latin typeface="LCMSS8"/>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440" y="761760"/>
            <a:ext cx="7620120" cy="5105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o what does this mean for the Network:-</a:t>
            </a:r>
            <a:br>
              <a:rPr sz="2800"/>
            </a:br>
            <a:br>
              <a:rPr sz="2800"/>
            </a:br>
            <a:r>
              <a:rPr b="0" lang="en-US" sz="2400" spc="-1" strike="noStrike">
                <a:solidFill>
                  <a:srgbClr val="000000"/>
                </a:solidFill>
                <a:latin typeface="Arial"/>
              </a:rPr>
              <a:t>The GRID promises several novel traffic patterns:</a:t>
            </a:r>
            <a:br>
              <a:rPr sz="2400"/>
            </a:br>
            <a:br>
              <a:rPr sz="2400"/>
            </a:br>
            <a:r>
              <a:rPr b="0" lang="en-US" sz="2400" spc="-1" strike="noStrike" u="sng">
                <a:solidFill>
                  <a:srgbClr val="000000"/>
                </a:solidFill>
                <a:uFillTx/>
                <a:latin typeface="Arial"/>
              </a:rPr>
              <a:t>Data from the large hadron collider(</a:t>
            </a:r>
            <a:r>
              <a:rPr b="1" i="1" lang="en-US" sz="2400" spc="-1" strike="noStrike" u="sng">
                <a:solidFill>
                  <a:srgbClr val="000000"/>
                </a:solidFill>
                <a:uFillTx/>
                <a:latin typeface="Arial"/>
              </a:rPr>
              <a:t>elephants</a:t>
            </a:r>
            <a:r>
              <a:rPr b="0" lang="en-US" sz="2400" spc="-1" strike="noStrike" u="sng">
                <a:solidFill>
                  <a:srgbClr val="000000"/>
                </a:solidFill>
                <a:uFillTx/>
                <a:latin typeface="Arial"/>
              </a:rPr>
              <a:t>), </a:t>
            </a:r>
            <a:br>
              <a:rPr sz="2400"/>
            </a:br>
            <a:r>
              <a:rPr b="0" lang="en-US" sz="2400" spc="-1" strike="noStrike" u="sng">
                <a:solidFill>
                  <a:srgbClr val="000000"/>
                </a:solidFill>
                <a:uFillTx/>
                <a:latin typeface="Arial"/>
              </a:rPr>
              <a:t>Distributed computation from genomics(</a:t>
            </a:r>
            <a:r>
              <a:rPr b="1" i="1" lang="en-US" sz="2400" spc="-1" strike="noStrike" u="sng">
                <a:solidFill>
                  <a:srgbClr val="000000"/>
                </a:solidFill>
                <a:uFillTx/>
                <a:latin typeface="Arial"/>
              </a:rPr>
              <a:t>cats</a:t>
            </a:r>
            <a:r>
              <a:rPr b="0" lang="en-US" sz="2400" spc="-1" strike="noStrike" u="sng">
                <a:solidFill>
                  <a:srgbClr val="000000"/>
                </a:solidFill>
                <a:uFillTx/>
                <a:latin typeface="Arial"/>
              </a:rPr>
              <a:t>)</a:t>
            </a:r>
            <a:br>
              <a:rPr sz="2400"/>
            </a:br>
            <a:r>
              <a:rPr b="0" lang="en-US" sz="2400" spc="-1" strike="noStrike" u="sng">
                <a:solidFill>
                  <a:srgbClr val="000000"/>
                </a:solidFill>
                <a:uFillTx/>
                <a:latin typeface="Arial"/>
              </a:rPr>
              <a:t>General web+acess grid traffic (</a:t>
            </a:r>
            <a:r>
              <a:rPr b="1" i="1" lang="en-US" sz="2400" spc="-1" strike="noStrike" u="sng">
                <a:solidFill>
                  <a:srgbClr val="000000"/>
                </a:solidFill>
                <a:uFillTx/>
                <a:latin typeface="Arial"/>
              </a:rPr>
              <a:t>mice</a:t>
            </a:r>
            <a:r>
              <a:rPr b="0" lang="en-US" sz="2400" spc="-1" strike="noStrike" u="sng">
                <a:solidFill>
                  <a:srgbClr val="000000"/>
                </a:solidFill>
                <a:uFillTx/>
                <a:latin typeface="Arial"/>
              </a:rPr>
              <a:t>).</a:t>
            </a:r>
            <a:r>
              <a:rPr b="0" lang="en-US" sz="2400" spc="-1" strike="noStrike">
                <a:solidFill>
                  <a:srgbClr val="000000"/>
                </a:solidFill>
                <a:latin typeface="Arial"/>
              </a:rPr>
              <a:t> </a:t>
            </a:r>
            <a:br>
              <a:rPr sz="2400"/>
            </a:br>
            <a:br>
              <a:rPr sz="2400"/>
            </a:br>
            <a:r>
              <a:rPr b="0" lang="en-US" sz="2400" spc="-1" strike="noStrike">
                <a:solidFill>
                  <a:srgbClr val="000000"/>
                </a:solidFill>
                <a:latin typeface="Arial"/>
              </a:rPr>
              <a:t>we are trying  to characterise these from 20,000 feet, and discuss some of the resource management</a:t>
            </a:r>
            <a:br>
              <a:rPr sz="2400"/>
            </a:br>
            <a:r>
              <a:rPr b="0" lang="en-US" sz="2400" spc="-1" strike="noStrike">
                <a:solidFill>
                  <a:srgbClr val="000000"/>
                </a:solidFill>
                <a:latin typeface="Arial"/>
              </a:rPr>
              <a:t>consequences for this complex ecosystem.</a:t>
            </a:r>
            <a:br>
              <a:rPr sz="2400"/>
            </a:br>
            <a:br>
              <a:rPr sz="2400"/>
            </a:br>
            <a:r>
              <a:rPr b="1" lang="en-US" sz="2400" spc="-1" strike="noStrike">
                <a:solidFill>
                  <a:srgbClr val="000000"/>
                </a:solidFill>
                <a:latin typeface="Arial"/>
              </a:rPr>
              <a:t>Wh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228600" y="152280"/>
            <a:ext cx="8686800" cy="6656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y we need Traffic Characteristics.</a:t>
            </a:r>
            <a:endParaRPr b="0" lang="en-US" sz="28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Internet does not offer protection of one user from another. (hence term “best effort”). If the net is overloaded, and there are some legitimate reason to give some users decent performance rather than others, we would like to have some mechanisms for thi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 a road system, this is like having the California ”Car Pool Lane” or the London Bus Lane.</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some cases, we need to - e.g. tele-surgery, etc, this is clear. In others (e.g. voice over IP, video conference) it may be necessary too. In others, more ”elastic” behaviour (i.e. adaptation and tolerance) may suffice.</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he past, we had a network based on ATM (Asynchronous Transfer Mode switches) which could dynamically be programmed (managed/configured) to partition the network capacity into such separate chunks. Now we do not have this capability in the underlying transmission system; we have to re-implement it in the Internet Protocol Layer.</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BNG is looking at how to do this using a technology called Differentiated Services and MPLS, with help from a small company called Cisco...</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e “Sojourn-time aware dynamic online routing”  (Su/Veciana) for mor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533520" y="304920"/>
            <a:ext cx="8153280" cy="67597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alities:  Measurements</a:t>
            </a:r>
            <a:endParaRPr b="0" lang="en-US" sz="24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 what we really want to know is ”what are the real traffic patterns” and what are the real requirements? Right now, net traffic is mainly made up out of two types of traffic, known colloquially as mice and elephants.</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ce are your typical web browser - small (&lt;&lt;14 packets total exchanged) and interactive, but fairly delay tolerant (most userid can stand about 1 second web download delay)</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ephants are your large downloads - FTP of a new Redhat release....many megabytes (therefore thousands of packets) - these are very delay tolerant - we don’t really care if the rate or delay vary even by orders of magnitude during the download so long as the FTP completes with in some broadly reasonable timeframe.</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ce and Elephants co-exist quite nicely, as typically there are millions of mice, and only a handful of elephants, and the collective behaviour of many mice looks pretty much like an elephant (central limit theorem, or even statistical thermodynamics math can be used to show this). The behaviour of many humans driving the mice, and a few FTP servers have well behaved long term stability due to a mix of luck, economics, network structures and the design of the TCP congestion avoidance algorithms.</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re is some data from Sprint, courtesy Dina Papagiannaki</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457200" y="685800"/>
            <a:ext cx="8153280" cy="5521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cknowledgements</a:t>
            </a:r>
            <a:endParaRPr b="0" lang="en-US" sz="28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ding by PPARC +EPSRC</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UCL: Prof. Pete Clark. Department of Physics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 Saleem Bhatti, Soren Sorenson, Computer Science.</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www.cs.ucl.ac.uk/staff/S.Bhatti/gr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Arial"/>
                <a:hlinkClick r:id="rId1"/>
              </a:rPr>
              <a:t>http://www.cs.ucl.ac.uk/staff/jon/mbng/</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s:.</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grating GRID tools to build a computing resource broker: activities of DataGrid WP1, Authors M. Ruda et al</a:t>
            </a:r>
            <a:endParaRPr b="0" lang="en-US" sz="24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ttp://web.datagrid.cnr.it/pls/portal30/GRID.RPT ATAGRIDPAPERS</a:t>
            </a:r>
            <a:endParaRPr b="0" lang="en-US" sz="16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ttp://www.cs.nwu.edu/ jms/sched-wg/</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Lets look at some data</a:t>
            </a:r>
            <a:endParaRPr b="0" lang="en-US" sz="4400" spc="-1" strike="noStrike">
              <a:solidFill>
                <a:srgbClr val="000000"/>
              </a:solidFill>
              <a:latin typeface="Times New Roman"/>
            </a:endParaRPr>
          </a:p>
        </p:txBody>
      </p:sp>
      <p:sp>
        <p:nvSpPr>
          <p:cNvPr id="6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Dina Papagiannaki at SPrintLabs with Christophe Diot, looked at the Sprint core inter-pop traffic</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Represents about 10 years effort</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Goal:provisioning/prediction/protection</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Xun Su, G. de Veciana, ``Dynamic multi-path routing: Asymptotic approximation and simulations'',  ACM Sigmetrics 2001. </a:t>
            </a:r>
            <a:endParaRPr b="0" lang="en-US" sz="2800" spc="-1" strike="noStrike">
              <a:solidFill>
                <a:srgbClr val="000000"/>
              </a:solidFill>
              <a:latin typeface="Times New Roman"/>
            </a:endParaRPr>
          </a:p>
          <a:p>
            <a:pPr marL="329040" indent="-3290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Xun Su, G. de Veciana, `` Sojourn-time aware dynamic online  routing: Aflow perspective '', submitted review.</a:t>
            </a:r>
            <a:r>
              <a:rPr b="0" lang="en-GB" sz="1600" spc="-1" strike="noStrike">
                <a:solidFill>
                  <a:srgbClr val="000000"/>
                </a:solidFill>
                <a:latin typeface="Times New Roman"/>
              </a:rPr>
              <a:t>http://www.ece.utexas.edu/%7Exsu/publication.html</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1" descr=""/>
          <p:cNvPicPr/>
          <p:nvPr/>
        </p:nvPicPr>
        <p:blipFill>
          <a:blip r:embed="rId1"/>
          <a:stretch/>
        </p:blipFill>
        <p:spPr>
          <a:xfrm>
            <a:off x="1714680" y="936720"/>
            <a:ext cx="5715000" cy="49831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2" descr=""/>
          <p:cNvPicPr/>
          <p:nvPr/>
        </p:nvPicPr>
        <p:blipFill>
          <a:blip r:embed="rId1"/>
          <a:stretch/>
        </p:blipFill>
        <p:spPr>
          <a:xfrm>
            <a:off x="1690560" y="1028880"/>
            <a:ext cx="5761080" cy="48006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3" descr=""/>
          <p:cNvPicPr/>
          <p:nvPr/>
        </p:nvPicPr>
        <p:blipFill>
          <a:blip r:embed="rId1"/>
          <a:stretch/>
        </p:blipFill>
        <p:spPr>
          <a:xfrm>
            <a:off x="1674720" y="754200"/>
            <a:ext cx="5794560" cy="53496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4" descr=""/>
          <p:cNvPicPr/>
          <p:nvPr/>
        </p:nvPicPr>
        <p:blipFill>
          <a:blip r:embed="rId1"/>
          <a:stretch/>
        </p:blipFill>
        <p:spPr>
          <a:xfrm>
            <a:off x="1703520" y="861840"/>
            <a:ext cx="5736960" cy="51325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Try to find mice/elephants</a:t>
            </a:r>
            <a:endParaRPr b="0" lang="en-US" sz="4400" spc="-1" strike="noStrike">
              <a:solidFill>
                <a:srgbClr val="000000"/>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First try simple thrreshold (byte/packet rate from/to prefix pair about a certain amount)</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Next try Markov Model</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Its actually quite tricky, but in the end can get a reasonable match</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Why? Allows automatic placement of mice on low delay and elephants on high capacity paths (or MPLS FEC or DiffServe Queu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 name="5" descr=""/>
          <p:cNvPicPr/>
          <p:nvPr/>
        </p:nvPicPr>
        <p:blipFill>
          <a:blip r:embed="rId1"/>
          <a:stretch/>
        </p:blipFill>
        <p:spPr>
          <a:xfrm>
            <a:off x="1679400" y="776160"/>
            <a:ext cx="5783400" cy="53038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6" descr=""/>
          <p:cNvPicPr/>
          <p:nvPr/>
        </p:nvPicPr>
        <p:blipFill>
          <a:blip r:embed="rId1"/>
          <a:stretch/>
        </p:blipFill>
        <p:spPr>
          <a:xfrm>
            <a:off x="1754280" y="896760"/>
            <a:ext cx="5635440" cy="50644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7" descr=""/>
          <p:cNvPicPr/>
          <p:nvPr/>
        </p:nvPicPr>
        <p:blipFill>
          <a:blip r:embed="rId1"/>
          <a:stretch/>
        </p:blipFill>
        <p:spPr>
          <a:xfrm>
            <a:off x="1531800" y="611280"/>
            <a:ext cx="6080400" cy="56354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 name="8" descr=""/>
          <p:cNvPicPr/>
          <p:nvPr/>
        </p:nvPicPr>
        <p:blipFill>
          <a:blip r:embed="rId1"/>
          <a:stretch/>
        </p:blipFill>
        <p:spPr>
          <a:xfrm>
            <a:off x="1617840" y="760320"/>
            <a:ext cx="5908320" cy="5337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533520" y="533520"/>
            <a:ext cx="7924680" cy="5554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stract, continued</a:t>
            </a:r>
            <a:endParaRPr b="0" lang="en-US" sz="2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id Applications make use of significant quantities of resources, whether it be CPU cycles, number of CPUs (whether clustered or distributed over a wide area), storage (whether local, remote, structured or at, central or distributed), and network capacity. Historically, there has been research into scheduling in distributed systems, but often the assumption has been that a network is largely in the local area, and is dedicated to the task in hand. Even in that constrained environment, scheduling is an NP-hard problem</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he GRID, the resources are almost all shared, including the network. This talk is about the work in the GRS project which is trying to provide an ”application cradle” into which the range of different GRID middleware can sit, that gives a simple API to requesting, and being granted, or denied access to a set of distributed resources, including networking resourc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nk </a:t>
            </a:r>
            <a:r>
              <a:rPr b="0" i="1" lang="en-US" sz="2000" spc="-1" strike="noStrike">
                <a:solidFill>
                  <a:srgbClr val="000000"/>
                </a:solidFill>
                <a:latin typeface="Arial"/>
              </a:rPr>
              <a:t>Supply Chain</a:t>
            </a:r>
            <a:r>
              <a:rPr b="0" lang="en-US" sz="2000" spc="-1" strike="noStrike">
                <a:solidFill>
                  <a:srgbClr val="000000"/>
                </a:solidFill>
                <a:latin typeface="Arial"/>
              </a:rPr>
              <a:t> Economic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 name="9" descr=""/>
          <p:cNvPicPr/>
          <p:nvPr/>
        </p:nvPicPr>
        <p:blipFill>
          <a:blip r:embed="rId1"/>
          <a:stretch/>
        </p:blipFill>
        <p:spPr>
          <a:xfrm>
            <a:off x="1789200" y="988920"/>
            <a:ext cx="5565600" cy="488016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10" descr=""/>
          <p:cNvPicPr/>
          <p:nvPr/>
        </p:nvPicPr>
        <p:blipFill>
          <a:blip r:embed="rId1"/>
          <a:stretch/>
        </p:blipFill>
        <p:spPr>
          <a:xfrm>
            <a:off x="1531800" y="851040"/>
            <a:ext cx="6080400" cy="51544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 name="11" descr=""/>
          <p:cNvPicPr/>
          <p:nvPr/>
        </p:nvPicPr>
        <p:blipFill>
          <a:blip r:embed="rId1"/>
          <a:stretch/>
        </p:blipFill>
        <p:spPr>
          <a:xfrm>
            <a:off x="1805040" y="1050840"/>
            <a:ext cx="5532480" cy="47545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So what might we do with this?</a:t>
            </a: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We want separation of traffic types so that we can provide </a:t>
            </a:r>
            <a:r>
              <a:rPr b="0" i="1" lang="en-GB" sz="3200" spc="-1" strike="noStrike">
                <a:solidFill>
                  <a:srgbClr val="000000"/>
                </a:solidFill>
                <a:latin typeface="Times New Roman"/>
              </a:rPr>
              <a:t>protec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Times New Roman"/>
              </a:rPr>
              <a:t>E.g. latency/jitter for interac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Times New Roman"/>
              </a:rPr>
              <a:t>Minimum throughput for bulk txfe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Times New Roman"/>
              </a:rPr>
              <a:t>Responsiveness for ca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Need source characteristics as well as traffic matrix…then can provide virtual pip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p:nvPr/>
        </p:nvSpPr>
        <p:spPr>
          <a:xfrm>
            <a:off x="457200" y="0"/>
            <a:ext cx="8305920" cy="6783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in Win - Controls</a:t>
            </a:r>
            <a:endParaRPr b="0" lang="en-US" sz="28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RID may be introducing a third type which is a tad trickier to comprehend, which I have termed “cats”, after the famous quote about the difficulty of herding cat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s eat mice. They are not scared of elephants (note elephants are famously scared of mice, which leads to some rather lame jokes ... ...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s are medium term, do need care and feeding (i.e. live on the edge, need low latency) and come and go as they please.</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s are a luxury.</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HO, the only way to accommodate cats is through economics. We have a mechanism due to Kelly et all, called Congestion Pricing.</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at must pay its way. (finally)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a:off x="533520" y="838080"/>
            <a:ext cx="8153280" cy="532080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Justice for Mice</a:t>
            </a:r>
            <a:endParaRPr b="0" lang="en-US" sz="2800" spc="-1" strike="noStrike">
              <a:solidFill>
                <a:srgbClr val="000000"/>
              </a:solidFill>
              <a:latin typeface="Times New Roman"/>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f the presence of a cat means that a mouse dies, or an elephant forgets, then the cat must learn guilt.</a:t>
            </a:r>
            <a:endParaRPr b="0" lang="en-US" sz="2400" spc="-1" strike="noStrike">
              <a:solidFill>
                <a:srgbClr val="000000"/>
              </a:solidFill>
              <a:latin typeface="Times New Roman"/>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done through</a:t>
            </a:r>
            <a:endParaRPr b="0" lang="en-US" sz="2400" spc="-1" strike="noStrike">
              <a:solidFill>
                <a:srgbClr val="000000"/>
              </a:solidFill>
              <a:latin typeface="Times New Roman"/>
            </a:endParaRPr>
          </a:p>
          <a:p>
            <a:pPr marL="457200" indent="-457200">
              <a:lnSpc>
                <a:spcPct val="100000"/>
              </a:lnSpc>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icit Congestion Notification (a.k.a packet shadow pricing)</a:t>
            </a:r>
            <a:endParaRPr b="0" lang="en-US" sz="2400" spc="-1" strike="noStrike">
              <a:solidFill>
                <a:srgbClr val="000000"/>
              </a:solidFill>
              <a:latin typeface="Times New Roman"/>
            </a:endParaRPr>
          </a:p>
          <a:p>
            <a:pPr marL="457200" indent="-457200">
              <a:lnSpc>
                <a:spcPct val="100000"/>
              </a:lnSpc>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CN counting is done by the edge devices.</a:t>
            </a:r>
            <a:endParaRPr b="0" lang="en-US" sz="2400" spc="-1" strike="noStrike">
              <a:solidFill>
                <a:srgbClr val="000000"/>
              </a:solidFill>
              <a:latin typeface="Times New Roman"/>
            </a:endParaRPr>
          </a:p>
          <a:p>
            <a:pPr marL="457200" indent="-457200">
              <a:lnSpc>
                <a:spcPct val="100000"/>
              </a:lnSpc>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at accrues an ECN Bill. It is sent to their project or their institute (or their tutor:-)</a:t>
            </a:r>
            <a:endParaRPr b="0" lang="en-US" sz="2400" spc="-1" strike="noStrike">
              <a:solidFill>
                <a:srgbClr val="000000"/>
              </a:solidFill>
              <a:latin typeface="Times New Roman"/>
            </a:endParaRPr>
          </a:p>
          <a:p>
            <a:pPr marL="457200" indent="-457200">
              <a:lnSpc>
                <a:spcPct val="100000"/>
              </a:lnSpc>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n-payment of bills leads to being blocked for prowling, but ALSO for mice and elephant like mimicr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838080" y="1467000"/>
            <a:ext cx="7543800" cy="3857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acticalities</a:t>
            </a:r>
            <a:endParaRPr b="0" lang="en-US" sz="28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Do</a:t>
            </a:r>
            <a:endParaRPr b="0" lang="en-US" sz="2400" spc="-1" strike="noStrike">
              <a:solidFill>
                <a:srgbClr val="000000"/>
              </a:solidFill>
              <a:latin typeface="Times New Roman"/>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CN needs deployment</a:t>
            </a:r>
            <a:endParaRPr b="0" lang="en-US" sz="2400" spc="-1" strike="noStrike">
              <a:solidFill>
                <a:srgbClr val="000000"/>
              </a:solidFill>
              <a:latin typeface="Times New Roman"/>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CN billing needs a AAA environment.</a:t>
            </a:r>
            <a:endParaRPr b="0" lang="en-US" sz="2400" spc="-1" strike="noStrike">
              <a:solidFill>
                <a:srgbClr val="000000"/>
              </a:solidFill>
              <a:latin typeface="Times New Roman"/>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Arial"/>
              </a:rPr>
              <a:t>MUST</a:t>
            </a:r>
            <a:r>
              <a:rPr b="0" lang="en-US" sz="2400" spc="-1" strike="noStrike">
                <a:solidFill>
                  <a:srgbClr val="000000"/>
                </a:solidFill>
                <a:latin typeface="Arial"/>
              </a:rPr>
              <a:t> have user route choice (RON?)</a:t>
            </a:r>
            <a:endParaRPr b="0" lang="en-US" sz="2400" spc="-1" strike="noStrike">
              <a:solidFill>
                <a:srgbClr val="000000"/>
              </a:solidFill>
              <a:latin typeface="Times New Roman"/>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GRS is deploying such an environment.</a:t>
            </a:r>
            <a:endParaRPr b="0" lang="en-US" sz="2400" spc="-1" strike="noStrike">
              <a:solidFill>
                <a:srgbClr val="000000"/>
              </a:solidFill>
              <a:latin typeface="Times New Roman"/>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us we have the pieces. But cats make it hard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914400" y="1101600"/>
            <a:ext cx="7620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Quest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533520" y="533520"/>
            <a:ext cx="8001000" cy="4820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istory</a:t>
            </a:r>
            <a:endParaRPr b="0" lang="en-US" sz="3200" spc="-1" strike="noStrike">
              <a:solidFill>
                <a:srgbClr val="000000"/>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hat is the GRID?</a:t>
            </a:r>
            <a:endParaRPr b="0" lang="en-US" sz="32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The Grid : Blueprint for a New Computing Infrastructure”, by Ian Foster (Editor), Carl Kesselman (Editor) Morgan Kaufmann Publishers; (November 1998) ISBN: 1558604758</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s a </a:t>
            </a:r>
            <a:r>
              <a:rPr b="1" i="1" lang="en-US" sz="2400" spc="-1" strike="noStrike">
                <a:solidFill>
                  <a:srgbClr val="000000"/>
                </a:solidFill>
                <a:latin typeface="Arial"/>
              </a:rPr>
              <a:t>metaphor</a:t>
            </a:r>
            <a:r>
              <a:rPr b="0" lang="en-US" sz="2400" spc="-1" strike="noStrike">
                <a:solidFill>
                  <a:srgbClr val="000000"/>
                </a:solidFill>
                <a:latin typeface="Arial"/>
              </a:rPr>
              <a:t> - you plug in a toaster or a matter transmitter to a 13Amp socket on the wall. You don’t care how the electricity is generated or distribut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762120" y="533520"/>
            <a:ext cx="7696080" cy="5486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at’s a GRID For?</a:t>
            </a:r>
            <a:br>
              <a:rPr sz="2800"/>
            </a:br>
            <a:br>
              <a:rPr sz="2400"/>
            </a:br>
            <a:r>
              <a:rPr b="0" lang="en-US" sz="2400" spc="-1" strike="noStrike">
                <a:solidFill>
                  <a:srgbClr val="000000"/>
                </a:solidFill>
                <a:latin typeface="Arial"/>
              </a:rPr>
              <a:t>The idea is you have some scientific problem to solve,</a:t>
            </a:r>
            <a:br>
              <a:rPr sz="2400"/>
            </a:br>
            <a:r>
              <a:rPr b="0" lang="en-US" sz="2400" spc="-1" strike="noStrike">
                <a:solidFill>
                  <a:srgbClr val="000000"/>
                </a:solidFill>
                <a:latin typeface="Arial"/>
              </a:rPr>
              <a:t>for example:</a:t>
            </a:r>
            <a:br>
              <a:rPr sz="2400"/>
            </a:br>
            <a:br>
              <a:rPr sz="2400"/>
            </a:br>
            <a:r>
              <a:rPr b="0" lang="en-US" sz="2400" spc="-1" strike="noStrike">
                <a:solidFill>
                  <a:srgbClr val="000000"/>
                </a:solidFill>
                <a:latin typeface="Arial"/>
              </a:rPr>
              <a:t>• Where is the Dark Matter?</a:t>
            </a:r>
            <a:br>
              <a:rPr sz="2400"/>
            </a:br>
            <a:r>
              <a:rPr b="0" lang="en-US" sz="2400" spc="-1" strike="noStrike">
                <a:solidFill>
                  <a:srgbClr val="000000"/>
                </a:solidFill>
                <a:latin typeface="Arial"/>
              </a:rPr>
              <a:t>• How does this protein fold?</a:t>
            </a:r>
            <a:br>
              <a:rPr sz="2400"/>
            </a:br>
            <a:r>
              <a:rPr b="0" lang="en-US" sz="2400" spc="-1" strike="noStrike">
                <a:solidFill>
                  <a:srgbClr val="000000"/>
                </a:solidFill>
                <a:latin typeface="Arial"/>
              </a:rPr>
              <a:t>• Is there a likely causal link between MMR and</a:t>
            </a:r>
            <a:r>
              <a:rPr b="0" lang="en-US" sz="2400" spc="-1" strike="noStrike">
                <a:solidFill>
                  <a:srgbClr val="000000"/>
                </a:solidFill>
                <a:latin typeface="Arial"/>
              </a:rPr>
              <a:t>	</a:t>
            </a:r>
            <a:r>
              <a:rPr b="0" lang="en-US" sz="2400" spc="-1" strike="noStrike">
                <a:solidFill>
                  <a:srgbClr val="000000"/>
                </a:solidFill>
                <a:latin typeface="Arial"/>
              </a:rPr>
              <a:t>Autism?</a:t>
            </a:r>
            <a:br>
              <a:rPr sz="2400"/>
            </a:br>
            <a:r>
              <a:rPr b="0" lang="en-US" sz="2400" spc="-1" strike="noStrike">
                <a:solidFill>
                  <a:srgbClr val="000000"/>
                </a:solidFill>
                <a:latin typeface="Arial"/>
              </a:rPr>
              <a:t>• Is the average temperature of the sea or</a:t>
            </a:r>
            <a:br>
              <a:rPr sz="2400"/>
            </a:br>
            <a:r>
              <a:rPr b="0" lang="en-US" sz="2400" spc="-1" strike="noStrike">
                <a:solidFill>
                  <a:srgbClr val="000000"/>
                </a:solidFill>
                <a:latin typeface="Arial"/>
              </a:rPr>
              <a:t>  atmosphere increasing?</a:t>
            </a:r>
            <a:br>
              <a:rPr sz="2400"/>
            </a:br>
            <a:r>
              <a:rPr b="0" lang="en-US" sz="2400" spc="-1" strike="noStrike">
                <a:solidFill>
                  <a:srgbClr val="000000"/>
                </a:solidFill>
                <a:latin typeface="Arial"/>
              </a:rPr>
              <a:t>• Will this shape wing lift this much mass?</a:t>
            </a:r>
            <a:br>
              <a:rPr sz="2400"/>
            </a:br>
            <a:r>
              <a:rPr b="0" lang="en-US" sz="2400" spc="-1" strike="noStrike">
                <a:solidFill>
                  <a:srgbClr val="000000"/>
                </a:solidFill>
                <a:latin typeface="Arial"/>
              </a:rPr>
              <a:t>• When does turbulence break bits off this turbine</a:t>
            </a:r>
            <a:br>
              <a:rPr sz="2400"/>
            </a:br>
            <a:r>
              <a:rPr b="0" lang="en-US" sz="2400" spc="-1" strike="noStrike">
                <a:solidFill>
                  <a:srgbClr val="000000"/>
                </a:solidFill>
                <a:latin typeface="Arial"/>
              </a:rPr>
              <a:t>  blad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685800" y="533520"/>
            <a:ext cx="8001000" cy="5671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at’s hard about these GRID Problems?</a:t>
            </a:r>
            <a:endParaRPr b="0" lang="en-US" sz="28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all computationally expensive, and may even require large amounts of storage for intermediate stages (or rely on large amounts of telemmetry data). They may benefit from enlisting computers and people from many places in many organisations (distributed virtual information societies, formed on an ad hoc basis to solve urgent, or important problem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RID is to this what the Web is to sharing documents (in fact, the web is just a component of the GRI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685800" y="457200"/>
            <a:ext cx="7924680" cy="5900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o you want to use MY computer?</a:t>
            </a:r>
            <a:endParaRPr b="0" lang="en-US" sz="28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ent/Server, Systolic Array, P2P – Patterns… …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 there are lots of peer2peer systems out there (Yes, LOTS) napster, gnutella, kazaa, morpheus, fastraqck, directconnect, edonkey, freenet But these all just do file sharing.</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n there’s: SETI@home....versus real work:-)</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do we have in the Open Source world?</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ll, right now, we have ssh. While this is ok for closed communities it is just that: it relies on a at user id space, and a single accounting domain.What about sharing CPU cycles across multiple administrative domain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s a hard problem, entailing, authorisation, access control, authentication, accounting, and so far we’ve only got as far as the letter ’A’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609480" y="609480"/>
            <a:ext cx="8077320" cy="5238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definition</a:t>
            </a:r>
            <a:endParaRPr b="0" lang="en-US" sz="28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size doesn’t fit all e.g. PPARC problems different from NERC, BBSRC etc</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 Tera op machines versus 1 million 100MIPS PC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ittle, High Cost, High Availability v. Highly Organised Tolerance</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nopoly, verus broker/bourse/market organisation</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uiding principal: KIS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838080" y="762120"/>
            <a:ext cx="7467840" cy="4681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sired Properties</a:t>
            </a: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tection of existing re source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centive to offer resources to other      organisation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Guarantees” that if I pay for resources, I get  the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27T09:14:49Z</dcterms:created>
  <dc:creator>Jon Crowcroft</dc:creator>
  <dc:description/>
  <dc:language>en-US</dc:language>
  <cp:lastModifiedBy>WSG</cp:lastModifiedBy>
  <dcterms:modified xsi:type="dcterms:W3CDTF">2002-07-17T13:57:34Z</dcterms:modified>
  <cp:revision>10</cp:revision>
  <dc:subject/>
  <dc:title>PowerPoint Presentation</dc:title>
</cp:coreProperties>
</file>