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F5FDE-9C21-4530-A058-F53C690EE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639E9-5A5D-4969-8FCD-EA53A729C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0853F-980B-4F87-B06E-42B21488C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3F101-20C3-49FB-9A5C-42250411C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B468B-1439-4DB8-90E9-19A044B13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D2F90-16CB-4EE5-AE97-26566D6C0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A3DB1-14D8-44CA-9C3C-36A9FFDA1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AB3CE-377F-465F-9184-A816A7482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919E2-919A-47E8-BD58-2D4459066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7501-46E7-4ECE-A01A-8C374483D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3832-E537-4F0A-BCF8-AC0D60219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9F175-8AC0-4485-BDB5-CA931EF1C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4505-0B28-4600-8F44-E4F4E03D57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s.ucl.ac.uk/staff/jon/mbng/"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736560"/>
            <a:ext cx="8229600" cy="372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ding Cats, Mice and Elephants – Network resource implications for the GRID</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n.Crowcroft@cl.cam.ac.u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homes/jac2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am, July 25, 200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PDC-11, Edinbur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304920"/>
            <a:ext cx="7925040" cy="6556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Components</a:t>
            </a:r>
            <a:endParaRPr b="0"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e: OGSA - define these in terms of WSDL/Gri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TBD! (Think: Schedule factories et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ob descri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r interface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 versus Pull</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eption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negoti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loc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p nami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hip managem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tion layer multicas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s/MB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9360"/>
            <a:ext cx="8305920" cy="60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System Compon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ring’s Halting Problem remin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PU 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em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iori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la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uristi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see pp 291 on 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cs.ucl.ac.uk/darpa/ods.ps.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380880"/>
            <a:ext cx="8076960" cy="6281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t More System Components - IDEA!!</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be system schedulers could be like network S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c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CF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serv - WF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serv - CB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ority</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RR</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agmatic: CAR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nice property that we think of process as throughput and latency - other properties (locality to data or I/O, also natural).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undesirable property that one can schedule for other resources (memory) - perhaps these really should be constraints only though, rather than 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143000"/>
            <a:ext cx="8305920" cy="457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conomics  - maybe a market is a way to do distributed managem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resources on a bourse. Users ”bid”- run an online auctioning system (maybe blind vickrey auction to avoid nasty gam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hoose which parameter (cpu, storage, i/o, network) - could be like different commodity markets -3.</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re allocated tokens by funding agencies, or their instit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838080"/>
            <a:ext cx="8001000" cy="4955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 Level agreements (SLA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 need to be announced (might include              availability, including MTBF (e.g. windows is typically 6.5 hours, linux 65 days etc)</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fund mechanism (like railtrack:-)</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term statistics published (like internet weather service, need GRID weather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480960"/>
            <a:ext cx="8076960" cy="61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can choose to pay spot or futures, or broker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worry about stability, of course. But scale of</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an help!</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in bundled services might emerg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ariff distribution mechanism (c.f. Grid ev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 service is part of OGS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think about CPU and memory and I/O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and signaling - a bit like ECN i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1219320"/>
            <a:ext cx="8001000" cy="445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arks…</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omplex heteroegeneous system with many organisations, the only current model we have for organisation is a mark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for the Internet (a thousand ISPs per count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ighly optimised and robust, but built out of sloppy components (see work by John Doyle at Caltech on control theoretic analysis of such systems, often biologically inspired</a:t>
            </a:r>
            <a:r>
              <a:rPr b="0" lang="en-US" sz="2400" spc="-1" strike="noStrike">
                <a:solidFill>
                  <a:srgbClr val="000000"/>
                </a:solidFill>
                <a:latin typeface="LCMSS8"/>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61760"/>
            <a:ext cx="7620120" cy="510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what does this mean for the Network:-</a:t>
            </a:r>
            <a:br>
              <a:rPr sz="2800"/>
            </a:br>
            <a:br>
              <a:rPr sz="2800"/>
            </a:br>
            <a:r>
              <a:rPr b="0" lang="en-US" sz="2400" spc="-1" strike="noStrike">
                <a:solidFill>
                  <a:srgbClr val="000000"/>
                </a:solidFill>
                <a:latin typeface="Arial"/>
              </a:rPr>
              <a:t>The GRID promises several novel traffic patterns:</a:t>
            </a:r>
            <a:br>
              <a:rPr sz="2400"/>
            </a:br>
            <a:br>
              <a:rPr sz="2400"/>
            </a:br>
            <a:r>
              <a:rPr b="0" lang="en-US" sz="2400" spc="-1" strike="noStrike" u="sng">
                <a:solidFill>
                  <a:srgbClr val="000000"/>
                </a:solidFill>
                <a:uFillTx/>
                <a:latin typeface="Arial"/>
              </a:rPr>
              <a:t>Data from the large hadron collider(</a:t>
            </a:r>
            <a:r>
              <a:rPr b="1" i="1" lang="en-US" sz="2400" spc="-1" strike="noStrike" u="sng">
                <a:solidFill>
                  <a:srgbClr val="000000"/>
                </a:solidFill>
                <a:uFillTx/>
                <a:latin typeface="Arial"/>
              </a:rPr>
              <a:t>elephants</a:t>
            </a:r>
            <a:r>
              <a:rPr b="0" lang="en-US" sz="2400" spc="-1" strike="noStrike" u="sng">
                <a:solidFill>
                  <a:srgbClr val="000000"/>
                </a:solidFill>
                <a:uFillTx/>
                <a:latin typeface="Arial"/>
              </a:rPr>
              <a:t>), </a:t>
            </a:r>
            <a:br>
              <a:rPr sz="2400"/>
            </a:br>
            <a:r>
              <a:rPr b="0" lang="en-US" sz="2400" spc="-1" strike="noStrike" u="sng">
                <a:solidFill>
                  <a:srgbClr val="000000"/>
                </a:solidFill>
                <a:uFillTx/>
                <a:latin typeface="Arial"/>
              </a:rPr>
              <a:t>Distributed computation from genomics(</a:t>
            </a:r>
            <a:r>
              <a:rPr b="1" i="1" lang="en-US" sz="2400" spc="-1" strike="noStrike" u="sng">
                <a:solidFill>
                  <a:srgbClr val="000000"/>
                </a:solidFill>
                <a:uFillTx/>
                <a:latin typeface="Arial"/>
              </a:rPr>
              <a:t>cats</a:t>
            </a:r>
            <a:r>
              <a:rPr b="0" lang="en-US" sz="2400" spc="-1" strike="noStrike" u="sng">
                <a:solidFill>
                  <a:srgbClr val="000000"/>
                </a:solidFill>
                <a:uFillTx/>
                <a:latin typeface="Arial"/>
              </a:rPr>
              <a:t>)</a:t>
            </a:r>
            <a:br>
              <a:rPr sz="2400"/>
            </a:br>
            <a:r>
              <a:rPr b="0" lang="en-US" sz="2400" spc="-1" strike="noStrike" u="sng">
                <a:solidFill>
                  <a:srgbClr val="000000"/>
                </a:solidFill>
                <a:uFillTx/>
                <a:latin typeface="Arial"/>
              </a:rPr>
              <a:t>General web+acess grid traffic (</a:t>
            </a:r>
            <a:r>
              <a:rPr b="1" i="1" lang="en-US" sz="2400" spc="-1" strike="noStrike" u="sng">
                <a:solidFill>
                  <a:srgbClr val="000000"/>
                </a:solidFill>
                <a:uFillTx/>
                <a:latin typeface="Arial"/>
              </a:rPr>
              <a:t>mice</a:t>
            </a:r>
            <a:r>
              <a:rPr b="0" lang="en-US" sz="2400" spc="-1" strike="noStrike" u="sng">
                <a:solidFill>
                  <a:srgbClr val="000000"/>
                </a:solidFill>
                <a:uFillTx/>
                <a:latin typeface="Arial"/>
              </a:rPr>
              <a:t>).</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we are trying  to characterise these from 20,000 feet, and discuss some of the resource management</a:t>
            </a:r>
            <a:br>
              <a:rPr sz="2400"/>
            </a:br>
            <a:r>
              <a:rPr b="0" lang="en-US" sz="2400" spc="-1" strike="noStrike">
                <a:solidFill>
                  <a:srgbClr val="000000"/>
                </a:solidFill>
                <a:latin typeface="Arial"/>
              </a:rPr>
              <a:t>consequences for this complex ecosystem.</a:t>
            </a:r>
            <a:br>
              <a:rPr sz="2400"/>
            </a:br>
            <a:br>
              <a:rPr sz="2400"/>
            </a:br>
            <a:r>
              <a:rPr b="1" lang="en-US" sz="2400" spc="-1" strike="noStrike">
                <a:solidFill>
                  <a:srgbClr val="000000"/>
                </a:solidFill>
                <a:latin typeface="Arial"/>
              </a:rPr>
              <a:t>W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52280"/>
            <a:ext cx="8686800" cy="66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e need Traffic Characteristics.</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does not offer protection of one user from another. (hence term “best effort”). If the net is overloaded, and there are some legitimate reason to give some users decent performance rather than others, we would like to have some mechanisms for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 road system, this is like having the California ”Car Pool Lane” or the London Bus La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we need to - e.g. tele-surgery, etc, this is clear. In others (e.g. voice over IP, video conference) it may be necessary too. In others, more ”elastic” behaviour (i.e. adaptation and tolerance) may su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st, we had a network based on ATM (Asynchronous Transfer Mode switches) which could dynamically be programmed (managed/configured) to partition the network capacity into such separate chunks. Now we do not have this capability in the underlying transmission system; we have to re-implement it in the Internet Protocol Lay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BNG is looking at how to do this using a technology called Differentiated Services and MPLS, with help from a small company called Cis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Sojourn-time aware dynamic online routing”  (Su/Veciana) for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304920"/>
            <a:ext cx="8153280" cy="67597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ities:  Measurements</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at we really want to know is ”what are the real traffic patterns” and what are the real requirements? Right now, net traffic is mainly made up out of two types of traffic, known colloquially as mice and elephan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re your typical web browser - small (&lt;&lt;14 packets total exchanged) and interactive, but fairly delay tolerant (most userid can stand about 1 second web download de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phants are your large downloads - FTP of a new Redhat release....many megabytes (therefore thousands of packets) - these are very delay tolerant - we don’t really care if the rate or delay vary even by orders of magnitude during the download so long as the FTP completes with in some broadly reasonable timefra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nd Elephants co-exist quite nicely, as typically there are millions of mice, and only a handful of elephants, and the collective behaviour of many mice looks pretty much like an elephant (central limit theorem, or even statistical thermodynamics math can be used to show this). The behaviour of many humans driving the mice, and a few FTP servers have well behaved long term stability due to a mix of luck, economics, network structures and the design of the TCP congestion avoidance algorith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some data from Sprint, courtesy Dina Papagiannak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685800"/>
            <a:ext cx="8153280" cy="55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by PPARC +EPSR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UCL: Prof. Pete Clark. Department of Physic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Saleem Bhatti, Soren Sorenson, Computer Sci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ucl.ac.uk/staff/S.Bhatti/g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www.cs.ucl.ac.uk/staff/jon/mbng/</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ng GRID tools to build a computing resource broker: activities of DataGrid WP1, Authors M. Ruda et al</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eb.datagrid.cnr.it/pls/portal30/GRID.RPT ATAGRIDPAPERS</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cs.nwu.edu/ jms/sched-w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ts look at some dat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na Papagiannaki at SPrintLabs with Christophe Diot, looked at the Sprint core inter-pop traffic</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ents about 10 years effor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provisioning/prediction/protec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Dynamic multi-path routing: Asymptotic approximation and simulations'',  ACM Sigmetrics 2001. </a:t>
            </a:r>
            <a:endParaRPr b="0" lang="en-US" sz="28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 Sojourn-time aware dynamic online  routing: Aflow perspective '', submitted review.</a:t>
            </a:r>
            <a:r>
              <a:rPr b="0" lang="en-GB" sz="1600" spc="-1" strike="noStrike">
                <a:solidFill>
                  <a:srgbClr val="000000"/>
                </a:solidFill>
                <a:latin typeface="Times New Roman"/>
              </a:rPr>
              <a:t>http://www.ece.utexas.edu/%7Exsu/publication.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1" descr=""/>
          <p:cNvPicPr/>
          <p:nvPr/>
        </p:nvPicPr>
        <p:blipFill>
          <a:blip r:embed="rId1"/>
          <a:stretch/>
        </p:blipFill>
        <p:spPr>
          <a:xfrm>
            <a:off x="1714680" y="936720"/>
            <a:ext cx="5715000" cy="49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2" descr=""/>
          <p:cNvPicPr/>
          <p:nvPr/>
        </p:nvPicPr>
        <p:blipFill>
          <a:blip r:embed="rId1"/>
          <a:stretch/>
        </p:blipFill>
        <p:spPr>
          <a:xfrm>
            <a:off x="1690560" y="1028880"/>
            <a:ext cx="576108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3" descr=""/>
          <p:cNvPicPr/>
          <p:nvPr/>
        </p:nvPicPr>
        <p:blipFill>
          <a:blip r:embed="rId1"/>
          <a:stretch/>
        </p:blipFill>
        <p:spPr>
          <a:xfrm>
            <a:off x="1674720" y="754200"/>
            <a:ext cx="5794560" cy="53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4" descr=""/>
          <p:cNvPicPr/>
          <p:nvPr/>
        </p:nvPicPr>
        <p:blipFill>
          <a:blip r:embed="rId1"/>
          <a:stretch/>
        </p:blipFill>
        <p:spPr>
          <a:xfrm>
            <a:off x="1703520" y="861840"/>
            <a:ext cx="5736960" cy="513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y to find mice/elephan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rst try simple thrreshold (byte/packet rate from/to prefix pair about a certain amou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xt try Markov Mode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s actually quite tricky, but in the end can get a reasonable mat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Allows automatic placement of mice on low delay and elephants on high capacity paths (or MPLS FEC or DiffServe Que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5" descr=""/>
          <p:cNvPicPr/>
          <p:nvPr/>
        </p:nvPicPr>
        <p:blipFill>
          <a:blip r:embed="rId1"/>
          <a:stretch/>
        </p:blipFill>
        <p:spPr>
          <a:xfrm>
            <a:off x="1679400" y="776160"/>
            <a:ext cx="5783400" cy="530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6" descr=""/>
          <p:cNvPicPr/>
          <p:nvPr/>
        </p:nvPicPr>
        <p:blipFill>
          <a:blip r:embed="rId1"/>
          <a:stretch/>
        </p:blipFill>
        <p:spPr>
          <a:xfrm>
            <a:off x="1754280" y="896760"/>
            <a:ext cx="5635440" cy="506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7" descr=""/>
          <p:cNvPicPr/>
          <p:nvPr/>
        </p:nvPicPr>
        <p:blipFill>
          <a:blip r:embed="rId1"/>
          <a:stretch/>
        </p:blipFill>
        <p:spPr>
          <a:xfrm>
            <a:off x="1531800" y="611280"/>
            <a:ext cx="6080400" cy="563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8" descr=""/>
          <p:cNvPicPr/>
          <p:nvPr/>
        </p:nvPicPr>
        <p:blipFill>
          <a:blip r:embed="rId1"/>
          <a:stretch/>
        </p:blipFill>
        <p:spPr>
          <a:xfrm>
            <a:off x="1617840" y="760320"/>
            <a:ext cx="5908320" cy="533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533520"/>
            <a:ext cx="7924680" cy="555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 continued</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id Applications make use of significant quantities of resources, whether it be CPU cycles, number of CPUs (whether clustered or distributed over a wide area), storage (whether local, remote, structured or at, central or distributed), and network capacity. Historically, there has been research into scheduling in distributed systems, but often the assumption has been that a network is largely in the local area, and is dedicated to the task in hand. Even in that constrained environment, scheduling is an NP-hard proble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GRID, the resources are almost all shared, including the network. This talk is about the work in the GRS project which is trying to provide an ”application cradle” into which the range of different GRID middleware can sit, that gives a simple API to requesting, and being granted, or denied access to a set of distributed resources, including networking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t>
            </a:r>
            <a:r>
              <a:rPr b="0" i="1" lang="en-US" sz="2000" spc="-1" strike="noStrike">
                <a:solidFill>
                  <a:srgbClr val="000000"/>
                </a:solidFill>
                <a:latin typeface="Arial"/>
              </a:rPr>
              <a:t>Supply Chain</a:t>
            </a:r>
            <a:r>
              <a:rPr b="0" lang="en-US" sz="2000" spc="-1" strike="noStrike">
                <a:solidFill>
                  <a:srgbClr val="000000"/>
                </a:solidFill>
                <a:latin typeface="Arial"/>
              </a:rPr>
              <a:t> Econom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9" descr=""/>
          <p:cNvPicPr/>
          <p:nvPr/>
        </p:nvPicPr>
        <p:blipFill>
          <a:blip r:embed="rId1"/>
          <a:stretch/>
        </p:blipFill>
        <p:spPr>
          <a:xfrm>
            <a:off x="1789200" y="988920"/>
            <a:ext cx="5565600" cy="488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 descr=""/>
          <p:cNvPicPr/>
          <p:nvPr/>
        </p:nvPicPr>
        <p:blipFill>
          <a:blip r:embed="rId1"/>
          <a:stretch/>
        </p:blipFill>
        <p:spPr>
          <a:xfrm>
            <a:off x="1531800" y="851040"/>
            <a:ext cx="6080400" cy="5154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1" descr=""/>
          <p:cNvPicPr/>
          <p:nvPr/>
        </p:nvPicPr>
        <p:blipFill>
          <a:blip r:embed="rId1"/>
          <a:stretch/>
        </p:blipFill>
        <p:spPr>
          <a:xfrm>
            <a:off x="1805040" y="1050840"/>
            <a:ext cx="5532480" cy="475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 what might we do with th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want separation of traffic types so that we can provide </a:t>
            </a:r>
            <a:r>
              <a:rPr b="0" i="1" lang="en-GB" sz="3200" spc="-1" strike="noStrike">
                <a:solidFill>
                  <a:srgbClr val="000000"/>
                </a:solidFill>
                <a:latin typeface="Times New Roman"/>
              </a:rPr>
              <a:t>pro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g. latency/jitter for inte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Minimum throughput for bulk tx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Responsiveness for c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source characteristics as well as traffic matrix…then can provide virtual pi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0"/>
            <a:ext cx="8305920" cy="67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 Win - Control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may be introducing a third type which is a tad trickier to comprehend, which I have termed “cats”, after the famous quote about the difficulty of herding c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eat mice. They are not scared of elephants (note elephants are famously scared of mice, which leads to some rather lame jokes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medium term, do need care and feeding (i.e. live on the edge, need low latency) and come and go as they ple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a luxu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HO, the only way to accommodate cats is through economics. We have a mechanism due to Kelly et all, called Congestion Pric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must pay its way. (fin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838080"/>
            <a:ext cx="8153280" cy="532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stice for Mice</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presence of a cat means that a mouse dies, or an elephant forgets, then the cat must learn guilt.</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done through</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Congestion Notification (a.k.a packet shadow pricing)</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N counting is done by the edge devic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accrues an ECN Bill. It is sent to their project or their institute (or their tutor:-)</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yment of bills leads to being blocked for prowling, but ALSO for mice and elephant like mimic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1467000"/>
            <a:ext cx="7543800" cy="385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iti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needs deploy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billing needs a AAA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Arial"/>
              </a:rPr>
              <a:t>MUST</a:t>
            </a:r>
            <a:r>
              <a:rPr b="0" lang="en-US" sz="2400" spc="-1" strike="noStrike">
                <a:solidFill>
                  <a:srgbClr val="000000"/>
                </a:solidFill>
                <a:latin typeface="Arial"/>
              </a:rPr>
              <a:t> have user route choice (R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S is deploying such an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us we have the pieces. But cats make it ha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11016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533520"/>
            <a:ext cx="8001000" cy="482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GRID?</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Grid : Blueprint for a New Computing Infrastructure”, by Ian Foster (Editor), Carl Kesselman (Editor) Morgan Kaufmann Publishers; (November 1998) ISBN: 155860475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a:t>
            </a:r>
            <a:r>
              <a:rPr b="1" i="1" lang="en-US" sz="2400" spc="-1" strike="noStrike">
                <a:solidFill>
                  <a:srgbClr val="000000"/>
                </a:solidFill>
                <a:latin typeface="Arial"/>
              </a:rPr>
              <a:t>metaphor</a:t>
            </a:r>
            <a:r>
              <a:rPr b="0" lang="en-US" sz="2400" spc="-1" strike="noStrike">
                <a:solidFill>
                  <a:srgbClr val="000000"/>
                </a:solidFill>
                <a:latin typeface="Arial"/>
              </a:rPr>
              <a:t> - you plug in a toaster or a matter transmitter to a 13Amp socket on the wall. You don’t care how the electricity is generated or distribu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533520"/>
            <a:ext cx="769608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a GRID For?</a:t>
            </a:r>
            <a:br>
              <a:rPr sz="2800"/>
            </a:br>
            <a:br>
              <a:rPr sz="2400"/>
            </a:br>
            <a:r>
              <a:rPr b="0" lang="en-US" sz="2400" spc="-1" strike="noStrike">
                <a:solidFill>
                  <a:srgbClr val="000000"/>
                </a:solidFill>
                <a:latin typeface="Arial"/>
              </a:rPr>
              <a:t>The idea is you have some scientific problem to solve,</a:t>
            </a:r>
            <a:br>
              <a:rPr sz="2400"/>
            </a:br>
            <a:r>
              <a:rPr b="0" lang="en-US" sz="2400" spc="-1" strike="noStrike">
                <a:solidFill>
                  <a:srgbClr val="000000"/>
                </a:solidFill>
                <a:latin typeface="Arial"/>
              </a:rPr>
              <a:t>for example:</a:t>
            </a:r>
            <a:br>
              <a:rPr sz="2400"/>
            </a:br>
            <a:br>
              <a:rPr sz="2400"/>
            </a:br>
            <a:r>
              <a:rPr b="0" lang="en-US" sz="2400" spc="-1" strike="noStrike">
                <a:solidFill>
                  <a:srgbClr val="000000"/>
                </a:solidFill>
                <a:latin typeface="Arial"/>
              </a:rPr>
              <a:t>• Where is the Dark Matter?</a:t>
            </a:r>
            <a:br>
              <a:rPr sz="2400"/>
            </a:br>
            <a:r>
              <a:rPr b="0" lang="en-US" sz="2400" spc="-1" strike="noStrike">
                <a:solidFill>
                  <a:srgbClr val="000000"/>
                </a:solidFill>
                <a:latin typeface="Arial"/>
              </a:rPr>
              <a:t>• How does this protein fold?</a:t>
            </a:r>
            <a:br>
              <a:rPr sz="2400"/>
            </a:br>
            <a:r>
              <a:rPr b="0" lang="en-US" sz="2400" spc="-1" strike="noStrike">
                <a:solidFill>
                  <a:srgbClr val="000000"/>
                </a:solidFill>
                <a:latin typeface="Arial"/>
              </a:rPr>
              <a:t>• Is there a likely causal link between MMR and</a:t>
            </a:r>
            <a:r>
              <a:rPr b="0" lang="en-US" sz="2400" spc="-1" strike="noStrike">
                <a:solidFill>
                  <a:srgbClr val="000000"/>
                </a:solidFill>
                <a:latin typeface="Arial"/>
              </a:rPr>
              <a:t>	</a:t>
            </a:r>
            <a:r>
              <a:rPr b="0" lang="en-US" sz="2400" spc="-1" strike="noStrike">
                <a:solidFill>
                  <a:srgbClr val="000000"/>
                </a:solidFill>
                <a:latin typeface="Arial"/>
              </a:rPr>
              <a:t>Autism?</a:t>
            </a:r>
            <a:br>
              <a:rPr sz="2400"/>
            </a:br>
            <a:r>
              <a:rPr b="0" lang="en-US" sz="2400" spc="-1" strike="noStrike">
                <a:solidFill>
                  <a:srgbClr val="000000"/>
                </a:solidFill>
                <a:latin typeface="Arial"/>
              </a:rPr>
              <a:t>• Is the average temperature of the sea or</a:t>
            </a:r>
            <a:br>
              <a:rPr sz="2400"/>
            </a:br>
            <a:r>
              <a:rPr b="0" lang="en-US" sz="2400" spc="-1" strike="noStrike">
                <a:solidFill>
                  <a:srgbClr val="000000"/>
                </a:solidFill>
                <a:latin typeface="Arial"/>
              </a:rPr>
              <a:t>  atmosphere increasing?</a:t>
            </a:r>
            <a:br>
              <a:rPr sz="2400"/>
            </a:br>
            <a:r>
              <a:rPr b="0" lang="en-US" sz="2400" spc="-1" strike="noStrike">
                <a:solidFill>
                  <a:srgbClr val="000000"/>
                </a:solidFill>
                <a:latin typeface="Arial"/>
              </a:rPr>
              <a:t>• Will this shape wing lift this much mass?</a:t>
            </a:r>
            <a:br>
              <a:rPr sz="2400"/>
            </a:br>
            <a:r>
              <a:rPr b="0" lang="en-US" sz="2400" spc="-1" strike="noStrike">
                <a:solidFill>
                  <a:srgbClr val="000000"/>
                </a:solidFill>
                <a:latin typeface="Arial"/>
              </a:rPr>
              <a:t>• When does turbulence break bits off this turbine</a:t>
            </a:r>
            <a:br>
              <a:rPr sz="2400"/>
            </a:br>
            <a:r>
              <a:rPr b="0" lang="en-US" sz="2400" spc="-1" strike="noStrike">
                <a:solidFill>
                  <a:srgbClr val="000000"/>
                </a:solidFill>
                <a:latin typeface="Arial"/>
              </a:rPr>
              <a:t>  bl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533520"/>
            <a:ext cx="8001000" cy="567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hard about these GRID Problem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computationally expensive, and may even require large amounts of storage for intermediate stages (or rely on large amounts of telemmetry data). They may benefit from enlisting computers and people from many places in many organisations (distributed virtual information societies, formed on an ad hoc basis to solve urgent, or important probl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is to this what the Web is to sharing documents (in fact, the web is just a component of the GR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457200"/>
            <a:ext cx="7924680" cy="59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you want to use MY computer?</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erver, Systolic Array, P2P – Patterns…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lots of peer2peer systems out there (Yes, LOTS) napster, gnutella, kazaa, morpheus, fastraqck, directconnect, edonkey, freenet But these all just do file shar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here’s: SETI@home....versus real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have in the Open Source wor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right now, we have ssh. While this is ok for closed communities it is just that: it relies on a at user id space, and a single accounting domain.What about sharing CPU cycles across multiple administrative domai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hard problem, entailing, authorisation, access control, authentication, accounting, and so far we’ve only got as far as the letter ’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09480"/>
            <a:ext cx="8077320" cy="523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definiti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ze doesn’t fit all e.g. PPARC problems different from NERC, BBSRC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era op machines versus 1 million 100MIPS P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tle, High Cost, High Availability v. Highly Organised Tolera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verus broker/bourse/market organis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al: KI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762120"/>
            <a:ext cx="7467840" cy="46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ed Properti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of existing re sourc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entive to offer resources to other      organis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Guarantees” that if I pay for resources, I get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9:14:49Z</dcterms:created>
  <dc:creator>Jon Crowcroft</dc:creator>
  <dc:description/>
  <dc:language>en-US</dc:language>
  <cp:lastModifiedBy>WSG</cp:lastModifiedBy>
  <dcterms:modified xsi:type="dcterms:W3CDTF">2002-07-17T13:57:34Z</dcterms:modified>
  <cp:revision>10</cp:revision>
  <dc:subject/>
  <dc:title>PowerPoint Presentation</dc:title>
</cp:coreProperties>
</file>