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7A1-7A67-4715-8727-8545F74B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2CB-9E0F-4290-A910-4542F13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CAA-139B-42C5-8600-2E0C7FE2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4CC-210F-432F-A6E3-53B5F26A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0E1-CD91-49A5-8D96-292876B0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026-AE88-4849-B682-AB25E7FA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4D1-F8E1-474B-A146-2B2EE73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0FD-E354-454D-8FA7-70F4DD0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660-6824-4C0C-B7DF-E61575D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608-6F3C-4D03-8B1A-EE0C8B8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B9F-888D-48BA-8F61-C00EB54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A81-0832-4D44-8E87-CAA93AD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6A6-0819-43AA-A5FB-4BFAE98E8B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41120"/>
            <a:ext cx="80755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homson.net/" TargetMode="External"/><Relationship Id="rId2" Type="http://schemas.openxmlformats.org/officeDocument/2006/relationships/hyperlink" Target="http://www.thomson.net/" TargetMode="External"/><Relationship Id="rId3" Type="http://schemas.openxmlformats.org/officeDocument/2006/relationships/hyperlink" Target="http://www.thomson.net/" TargetMode="External"/><Relationship Id="rId4" Type="http://schemas.openxmlformats.org/officeDocument/2006/relationships/hyperlink" Target="http://www.thomson.net/" TargetMode="External"/><Relationship Id="rId5" Type="http://schemas.openxmlformats.org/officeDocument/2006/relationships/hyperlink" Target="http://www.thomson.net/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036880"/>
            <a:ext cx="843588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Haggle: a Networking Architecture Designed</a:t>
            </a:r>
            <a:br>
              <a:rPr sz="4100"/>
            </a:b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Around Mobile Users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89360" y="4749840"/>
            <a:ext cx="579744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Intel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B. Asynchronous operation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s can indicate network actions when natural to them; actual transfers can happen asynchronously when suitable connectivity occu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ate binding of user-level names to network-level addresses means that up-to-date context information can be used, e.g. dynamic IP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 non-contemporaneous, store-and-forward connection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. Empower intermediate nod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ch content is public/sharable – e.g. webp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us any intermediate node may also be a valid destination, e.g. it’s user might also be interested in the webpage la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ditionally, the intermediate node can be a source for that data too – e.g. it meets another node who is interested in the webpag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. Message switch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 switching is useful for principles A,B,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 layer forwarding information applies to whole mess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th variability inherent in non-contemporaneous data paths, packet switching would result in lots of useless half-messages arriving, wasting bandwidth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termediate nodes cannot gain benefits unless entire data units are made available to the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E. All user data kept network visibl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ata should not be stored privately by applications, but kept in the Haggle framework where it can be shared with other device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ven your most personal data can be shared – with your other devices.  Encryption can be used to prevent unauthorised parties snooping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inful data synchronisation systems (e.g. phone/PC) can be made obsolete!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ublic data is often popular and duplicated locally, so making this visible allows us to find more sources for 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F. Build request-response into the network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r-level tasks are sometimes inherently two-way, e.g. a request for content and the response including the cont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ing this in the network framework itself rather than in apps allows all nodes to be used for the “turnaround point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.e. all nodes can cache application data (even if they do not run any app that can understand it), and respond to a request for that dat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G. Exploit all data transfer method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ifferent transfer methods have different proper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ynchronous (Bluetooth), asynchronous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Zero cost (neighbourhood), cost-per-hour (WiFi hotspot), zero cost till monthly limit hit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-layer bandwidths, latencies, loss rates,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given transmission may be sent using multiple diverse paths, e.g. by email and later by Bluetooth directly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H. Take advantage of brief connection opportunitie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nnection opportunities can be fleet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driving past an AP or another ca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st optimise transmissions to maximum user benef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.B. current protocols such as Web, SMTP, are really bad at this (work to be presented in WMCSA 2006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I. Empowered and informed resource management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 has the potential to use up all your device’s resources and really piss you off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t also has the potential to do resource management correctly, something today’s devices don’t d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torage: your disk is not full, why not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etworking: your WiFi interface has one queue, why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attery: why use static levels for “plenty” and “little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must be put centre stage in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J. Use and integrate with existing application infrastructure where possib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cremental deployability if a Haggle node can interact with another node’s legacy app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an reuse existing (familiar and complex) apps via pretending to be a legacy protocol rather than having to push out new on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verage vast infrastructures that are already deployed – e.g. email servers, IM servers, the Google index, e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ing up in the next few mins…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tivation for doing mobile networking diffe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for mobile networking: “Pocket Switched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set of guiding principles behind our PSN solution, named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39000 feet overview of Haggle’s initial desig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cool dem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framework desig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305080" y="479592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6160" y="2492280"/>
            <a:ext cx="158760" cy="2452680"/>
          </a:xfrm>
          <a:custGeom>
            <a:avLst/>
            <a:gdLst>
              <a:gd name="textAreaLeft" fmla="*/ 101520 w 158760"/>
              <a:gd name="textAreaRight" fmla="*/ 159120 w 158760"/>
              <a:gd name="textAreaTop" fmla="*/ 63720 h 2452680"/>
              <a:gd name="textAreaBottom" fmla="*/ 23889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680" y="343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Haggl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8194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440" y="2276640"/>
            <a:ext cx="2664000" cy="2555640"/>
          </a:xfrm>
          <a:prstGeom prst="ellipse">
            <a:avLst/>
          </a:prstGeom>
          <a:solidFill>
            <a:srgbClr val="9ad6a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419200"/>
            <a:ext cx="2664000" cy="2556000"/>
          </a:xfrm>
          <a:prstGeom prst="ellipse">
            <a:avLst/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49080" y="4076640"/>
            <a:ext cx="647640" cy="33804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04720" y="3774960"/>
            <a:ext cx="662040" cy="3492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7080" y="3260880"/>
            <a:ext cx="28764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1080" y="3260880"/>
            <a:ext cx="23976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4560" y="335772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Resource Mgmt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547200">
            <a:off x="2368440" y="2787480"/>
            <a:ext cx="815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296400">
            <a:off x="3560760" y="2819880"/>
            <a:ext cx="15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Delivery (Names)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4307040"/>
            <a:ext cx="158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Protocols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3139920"/>
            <a:ext cx="1152720" cy="115272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800" y="4005360"/>
            <a:ext cx="647640" cy="409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3716280"/>
            <a:ext cx="718920" cy="432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73440" y="2420640"/>
            <a:ext cx="0" cy="733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84720" y="2421000"/>
            <a:ext cx="0" cy="738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3789360"/>
            <a:ext cx="21600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9440" y="3730680"/>
            <a:ext cx="225360" cy="2728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940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132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197000"/>
            <a:ext cx="2772000" cy="863640"/>
          </a:xfrm>
          <a:prstGeom prst="wedgeRectCallout">
            <a:avLst>
              <a:gd name="adj1" fmla="val -114888"/>
              <a:gd name="adj2" fmla="val 7150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work for new app developer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357720"/>
            <a:ext cx="2772000" cy="865080"/>
          </a:xfrm>
          <a:prstGeom prst="wedgeRectCallout">
            <a:avLst>
              <a:gd name="adj1" fmla="val -142324"/>
              <a:gd name="adj2" fmla="val -16375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ynchronous,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2772000" cy="936720"/>
          </a:xfrm>
          <a:prstGeom prst="wedgeRectCallout">
            <a:avLst>
              <a:gd name="adj1" fmla="val -160768"/>
              <a:gd name="adj2" fmla="val -4916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ied to one app; exposed meta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4437000"/>
            <a:ext cx="2772000" cy="863640"/>
          </a:xfrm>
          <a:prstGeom prst="wedgeRectCallout">
            <a:avLst>
              <a:gd name="adj1" fmla="val -126861"/>
              <a:gd name="adj2" fmla="val -113787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mponent missing befor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5516640"/>
            <a:ext cx="2735280" cy="865080"/>
          </a:xfrm>
          <a:prstGeom prst="wedgeRectCallout">
            <a:avLst>
              <a:gd name="adj1" fmla="val -138101"/>
              <a:gd name="adj2" fmla="val -13165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 usable for each tas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User Data – Application Data Units (ADUs)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any “attributes” each consisting of a “type” “value” 2-tuple.  Type is text, value is text or can be a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etadata of all typ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 system (creation, ownership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ing (to, from, ttl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 metadata (keywords,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type, filename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6720" y="4221000"/>
          <a:ext cx="3888000" cy="174780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on dat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/1/6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me-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/Jpe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is, sunset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jpeg file]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ing user-level nam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crowcroft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@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cl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and some idea of solu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Motivation: Mobile users currently have a very bad experience of networking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s do not work without infrastru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connectivity is plentiful (WiFi, Bluetooth, etc), but very hard to use transpa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messaging/file transfer to others in this room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If I had used a modem to get some cached web content (e.g. news) earlier, and you wanted to access it, how can we share it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60a8"/>
                </a:solidFill>
                <a:latin typeface="Verdana"/>
              </a:rPr>
              <a:t>The wireless networking research community has failed to support our end use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 (PSN)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Scenario for Mobile Human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tudy/define problem before attempting solu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cket Switched Networking: the scenario that the mobile user of consumer IT apps faces every da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s carry one or more devices with them, each with wireless networking capabilities and stor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hese devices experience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neighbourhood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Bluetooth) and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infrastructure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802.11 AP) connection opportunities (with differing bandwidths, costs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mobility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generates these opportunities as they move around with their normal mobility pattern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Application traffic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PSN, we can identify two classes of application traffic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sender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where one node needs to transfer data to a user-level destination (not a network-level address)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other user (who may own many node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s in a certain place/with a certain intere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rs with a certain role (e.g. “police”)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recipient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which a device requires content of some sort, but it is irrelevant where the data comes from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ublicly distributed content such as “current news webp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dia files, e.g. “songs by the Scissor Sisters”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cally generated information, e.g. traffic new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 known-sender, there may be many recipients; for known-recipient, there may be many sour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Why status quo (IP) does badly in PS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doesn’t handle many-recipient well, and does not handle many-source at al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’s strict layering means infrastructure lookups to find endpoint addresses before data transmission begin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CP/IP’s stream abstraction means that apps have to implement app-layer protocols; these rely on access to specific infrastructur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.g. email user wants “message to James” but email client implements “message to IP address of MX DNS record of James’s email domain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cannot handle non-contemporaneous connectivity, e.g. use of human mobility as data transfer opport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cket switching means that app-layer data is lost to the network; further exchanges of the same data means insertion of the data into the network by an applic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modular network architecture designed around the needs of mobile use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ssage switch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ll user data kept network-vi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uild request-response into the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Use and integrate with existing application infrastructure where pos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A. Forward using application layer informatio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 names meaningful to apps, e.g. human names, keywords for documents, parameters for content wanted (mime-type, etc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elivery of data is accomplished by using the data itself to choose forwarding path, rather than artificial meaningless-to-the-user addresses such as IP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03-19T19:51:11Z</dcterms:modified>
  <cp:revision>219</cp:revision>
  <dc:subject/>
  <dc:title>Haggle Work </dc:title>
</cp:coreProperties>
</file>