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3DC0-641D-48EC-91EF-FE341BAB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BA9E-C32F-4487-A533-C6FBFA85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0B28-6B97-41BB-916A-3A211937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864C-2EF0-4981-AE0D-28F5C9E7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6176-E44F-4CC2-8E02-032FA949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5C8-3938-42DE-A909-130CEF82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2336-4576-4EE1-B365-6BC9A100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9DA6-C08C-45DB-A520-A7CCBE62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0ABA-FF0D-4E80-B6FB-15BBAAAE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2C8C-4717-412E-91AA-4A7FEC94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CC23-646D-4BD1-A6C1-B8037712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553A-DD36-4791-8DED-590D9238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4BFF-D3B5-4767-A1E6-CE710B2E25E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841120"/>
            <a:ext cx="807552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3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thomson.net/" TargetMode="External"/><Relationship Id="rId2" Type="http://schemas.openxmlformats.org/officeDocument/2006/relationships/hyperlink" Target="http://www.thomson.net/" TargetMode="External"/><Relationship Id="rId3" Type="http://schemas.openxmlformats.org/officeDocument/2006/relationships/hyperlink" Target="http://www.thomson.net/" TargetMode="External"/><Relationship Id="rId4" Type="http://schemas.openxmlformats.org/officeDocument/2006/relationships/hyperlink" Target="http://www.thomson.net/" TargetMode="External"/><Relationship Id="rId5" Type="http://schemas.openxmlformats.org/officeDocument/2006/relationships/hyperlink" Target="http://www.thomson.net/" TargetMode="External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036880"/>
            <a:ext cx="8435880" cy="19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860a8"/>
                </a:solidFill>
                <a:latin typeface="Verdana"/>
              </a:rPr>
              <a:t>Haggle: a Networking Architecture Designed</a:t>
            </a:r>
            <a:br>
              <a:rPr sz="4100"/>
            </a:br>
            <a:r>
              <a:rPr b="0" lang="en-GB" sz="4100" spc="-1" strike="noStrike">
                <a:solidFill>
                  <a:srgbClr val="0860a8"/>
                </a:solidFill>
                <a:latin typeface="Verdana"/>
              </a:rPr>
              <a:t>Around Mobile Users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889360" y="4749840"/>
            <a:ext cx="579744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James Scott (Intel Research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n Hui University of Cambridge)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hristophe Diot (Thoms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B. Asynchronous operation</a:t>
            </a:r>
            <a:br>
              <a:rPr sz="2800"/>
            </a:b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pps can indicate network actions when natural to them; actual transfers can happen asynchronously when suitable connectivity occu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ate binding of user-level names to network-level addresses means that up-to-date context information can be used, e.g. dynamic IP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upport non-contemporaneous, store-and-forward connection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. Empower intermediate node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ch content is public/sharable – e.g. webpag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us any intermediate node may also be a valid destination, e.g. it’s user might also be interested in the webpage la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ditionally, the intermediate node can be a source for that data too – e.g. it meets another node who is interested in the webpag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. Message switching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 switching is useful for principles A,B,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pplication layer forwarding information applies to whole messag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th variability inherent in non-contemporaneous data paths, packet switching would result in lots of useless half-messages arriving, wasting bandwidth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Intermediate nodes cannot gain benefits unless entire data units are made available to the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E. All user data kept network visibl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Data should not be stored privately by applications, but kept in the Haggle framework where it can be shared with other devices.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ven your most personal data can be shared – with your other devices.  Encryption can be used to prevent unauthorised parties snooping.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inful data synchronisation systems (e.g. phone/PC) can be made obsolete!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ublic data is often popular and duplicated locally, so making this visible allows us to find more sources for i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F. Build request-response into the network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User-level tasks are sometimes inherently two-way, e.g. a request for content and the response including the conten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upporting this in the network framework itself rather than in apps allows all nodes to be used for the “turnaround point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I.e. all nodes can cache application data (even if they do not run any app that can understand it), and respond to a request for that data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G. Exploit all data transfer method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Different transfer methods have different properti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ynchronous (Bluetooth), asynchronous (SM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Zero cost (neighbourhood), cost-per-hour (WiFi hotspot), zero cost till monthly limit hit (SM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hysical-layer bandwidths, latencies, loss rates,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 given transmission may be sent using multiple diverse paths, e.g. by email and later by Bluetooth directly.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H. Take advantage of brief connection opportunitie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onnection opportunities can be fleet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driving past an AP or another ca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st optimise transmissions to maximum user benefi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N.B. current protocols such as Web, SMTP, are really bad at this (work to be presented in WMCSA 2006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I. Empowered and informed resource management</a:t>
            </a:r>
            <a:br>
              <a:rPr sz="2800"/>
            </a:b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 has the potential to use up all your device’s resources and really piss you off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It also has the potential to do resource management correctly, something today’s devices don’t d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torage: your disk is not full, why not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etworking: your WiFi interface has one queue, why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attery: why use static levels for “plenty” and “little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must be put centre stage in Hagg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J. Use and integrate with existing application infrastructure where possib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Incremental deployability if a Haggle node can interact with another node’s legacy app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an reuse existing (familiar and complex) apps via pretending to be a legacy protocol rather than having to push out new on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verage vast infrastructures that are already deployed – e.g. email servers, IM servers, the Google index, e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oming up in the next few mins…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tivation for doing mobile networking differentl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blem definition for mobile networking: “Pocket Switched Networking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 set of guiding principles behind our PSN solution, named Hagg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 39000 feet overview of Haggle’s initial desig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 cool dem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framework design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2305080" y="479592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46160" y="2492280"/>
            <a:ext cx="158760" cy="2452680"/>
          </a:xfrm>
          <a:custGeom>
            <a:avLst/>
            <a:gdLst>
              <a:gd name="textAreaLeft" fmla="*/ 101520 w 158760"/>
              <a:gd name="textAreaRight" fmla="*/ 159120 w 158760"/>
              <a:gd name="textAreaTop" fmla="*/ 63720 h 2452680"/>
              <a:gd name="textAreaBottom" fmla="*/ 2388960 h 24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0680" y="343836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Haggl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2200" y="181944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49440" y="2276640"/>
            <a:ext cx="2664000" cy="2555640"/>
          </a:xfrm>
          <a:prstGeom prst="ellipse">
            <a:avLst/>
          </a:prstGeom>
          <a:solidFill>
            <a:srgbClr val="9ad6a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33440" y="2419200"/>
            <a:ext cx="2664000" cy="2556000"/>
          </a:xfrm>
          <a:prstGeom prst="ellipse">
            <a:avLst/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449080" y="4076640"/>
            <a:ext cx="647640" cy="33804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304720" y="3774960"/>
            <a:ext cx="662040" cy="34920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97080" y="3260880"/>
            <a:ext cx="287640" cy="312480"/>
          </a:xfrm>
          <a:prstGeom prst="rect">
            <a:avLst/>
          </a:prstGeom>
          <a:solidFill>
            <a:srgbClr val="b9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21080" y="3260880"/>
            <a:ext cx="239760" cy="312480"/>
          </a:xfrm>
          <a:prstGeom prst="rect">
            <a:avLst/>
          </a:prstGeom>
          <a:solidFill>
            <a:srgbClr val="b9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4560" y="3357720"/>
            <a:ext cx="129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860a8"/>
                </a:solidFill>
                <a:latin typeface="Times New Roman"/>
              </a:rPr>
              <a:t>Resource Mgmt</a:t>
            </a:r>
            <a:endParaRPr b="0" lang="en-US" sz="21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8547200">
            <a:off x="2368440" y="2787480"/>
            <a:ext cx="815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1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3296400">
            <a:off x="3560760" y="2819880"/>
            <a:ext cx="151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860a8"/>
                </a:solidFill>
                <a:latin typeface="Times New Roman"/>
              </a:rPr>
              <a:t>Delivery (Names)</a:t>
            </a:r>
            <a:endParaRPr b="0" lang="en-US" sz="21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09800" y="4307040"/>
            <a:ext cx="1584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860a8"/>
                </a:solidFill>
                <a:latin typeface="Times New Roman"/>
              </a:rPr>
              <a:t>Protocols</a:t>
            </a:r>
            <a:endParaRPr b="0" lang="en-US" sz="21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0508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52720" y="3139920"/>
            <a:ext cx="1152720" cy="1152720"/>
          </a:xfrm>
          <a:prstGeom prst="ellipse">
            <a:avLst/>
          </a:pr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33800" y="4005360"/>
            <a:ext cx="647640" cy="40932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05440" y="3716280"/>
            <a:ext cx="718920" cy="43200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673440" y="2420640"/>
            <a:ext cx="0" cy="73332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384720" y="2421000"/>
            <a:ext cx="0" cy="73800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52720" y="3789360"/>
            <a:ext cx="216000" cy="287280"/>
          </a:xfrm>
          <a:prstGeom prst="rect">
            <a:avLst/>
          </a:prstGeom>
          <a:solidFill>
            <a:srgbClr val="b9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89440" y="3730680"/>
            <a:ext cx="225360" cy="272880"/>
          </a:xfrm>
          <a:prstGeom prst="rect">
            <a:avLst/>
          </a:prstGeom>
          <a:solidFill>
            <a:srgbClr val="b9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89400" y="3068640"/>
            <a:ext cx="217440" cy="287280"/>
          </a:xfrm>
          <a:prstGeom prst="rect">
            <a:avLst/>
          </a:prstGeom>
          <a:solidFill>
            <a:srgbClr val="b9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51320" y="3068640"/>
            <a:ext cx="217440" cy="287280"/>
          </a:xfrm>
          <a:prstGeom prst="rect">
            <a:avLst/>
          </a:prstGeom>
          <a:solidFill>
            <a:srgbClr val="b9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84720" y="1197000"/>
            <a:ext cx="2772000" cy="863640"/>
          </a:xfrm>
          <a:prstGeom prst="wedgeRectCallout">
            <a:avLst>
              <a:gd name="adj1" fmla="val -114888"/>
              <a:gd name="adj2" fmla="val 7150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ss work for new app developer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84720" y="3357720"/>
            <a:ext cx="2772000" cy="865080"/>
          </a:xfrm>
          <a:prstGeom prst="wedgeRectCallout">
            <a:avLst>
              <a:gd name="adj1" fmla="val -142324"/>
              <a:gd name="adj2" fmla="val -16375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ynchronous,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84720" y="2205000"/>
            <a:ext cx="2772000" cy="936720"/>
          </a:xfrm>
          <a:prstGeom prst="wedgeRectCallout">
            <a:avLst>
              <a:gd name="adj1" fmla="val -160768"/>
              <a:gd name="adj2" fmla="val -4916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tied to one app; exposed meta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84720" y="4437000"/>
            <a:ext cx="2772000" cy="863640"/>
          </a:xfrm>
          <a:prstGeom prst="wedgeRectCallout">
            <a:avLst>
              <a:gd name="adj1" fmla="val -126861"/>
              <a:gd name="adj2" fmla="val -113787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ey component missing befor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5516640"/>
            <a:ext cx="2735280" cy="865080"/>
          </a:xfrm>
          <a:prstGeom prst="wedgeRectCallout">
            <a:avLst>
              <a:gd name="adj1" fmla="val -138101"/>
              <a:gd name="adj2" fmla="val -131652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ple protocols usable for each tas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User Data – Application Data Units (ADUs)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Us contain many “attributes” each consisting of a “type” “value” 2-tuple.  Type is text, value is text or can be a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Us contain metadata of all typ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ile system (creation, ownership, etc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orwarding (to, from, ttl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 metadata (keywords,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iletype, filename, etc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076720" y="4221000"/>
          <a:ext cx="3888000" cy="1747800"/>
        </p:xfrm>
        <a:graphic>
          <a:graphicData uri="http://schemas.openxmlformats.org/drawingml/2006/table">
            <a:tbl>
              <a:tblPr/>
              <a:tblGrid>
                <a:gridCol w="1944720"/>
                <a:gridCol w="1943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ation date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/1/6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me-type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age/Jpeg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ywords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is, sunset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[jpeg file]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ing user-level name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jon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2"/>
              </a:rPr>
              <a:t>.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3"/>
              </a:rPr>
              <a:t>crowcroft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4"/>
              </a:rPr>
              <a:t>@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5"/>
              </a:rPr>
              <a:t>cl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blem definition and some idea of solution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20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Motivation: Mobile users currently have a very bad experience of networking</a:t>
            </a:r>
            <a:br>
              <a:rPr sz="2800"/>
            </a:b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pplications do not work without infrastru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ocal connectivity is plentiful (WiFi, Bluetooth, etc), but very hard to use transparentl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.g. messaging/file transfer to others in this room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.g. If I had used a modem to get some cached web content (e.g. news) earlier, and you wanted to access it, how can we share it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860a8"/>
                </a:solidFill>
                <a:latin typeface="Verdana"/>
              </a:rPr>
              <a:t>The wireless networking research community has failed to support our end use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Pocket Switched Networking (PSN):</a:t>
            </a:r>
            <a:br>
              <a:rPr sz="2800"/>
            </a:b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 Scenario for Mobile Human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tudy/define problem before attempting solu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ocket Switched Networking: the scenario that the mobile user of consumer IT apps faces every da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umans carry one or more devices with them, each with wireless networking capabilities and storag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hese devices experience </a:t>
            </a:r>
            <a:r>
              <a:rPr b="0" i="1" lang="en-GB" sz="2000" spc="-1" strike="noStrike">
                <a:solidFill>
                  <a:srgbClr val="0860a8"/>
                </a:solidFill>
                <a:latin typeface="Verdana"/>
              </a:rPr>
              <a:t>neighbourhood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 (e.g. Bluetooth) and </a:t>
            </a:r>
            <a:r>
              <a:rPr b="0" i="1" lang="en-GB" sz="2000" spc="-1" strike="noStrike">
                <a:solidFill>
                  <a:srgbClr val="0860a8"/>
                </a:solidFill>
                <a:latin typeface="Verdana"/>
              </a:rPr>
              <a:t>infrastructure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 (e.g. 802.11 AP) connection opportunities (with differing bandwidths, costs, etc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uman </a:t>
            </a:r>
            <a:r>
              <a:rPr b="0" i="1" lang="en-GB" sz="2000" spc="-1" strike="noStrike">
                <a:solidFill>
                  <a:srgbClr val="0860a8"/>
                </a:solidFill>
                <a:latin typeface="Verdana"/>
              </a:rPr>
              <a:t>mobility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 generates these opportunities as they move around with their normal mobility pattern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Pocket Switched Networking:</a:t>
            </a:r>
            <a:br>
              <a:rPr sz="2800"/>
            </a:b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 Application traffic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In PSN, we can identify two classes of application traffic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860a8"/>
                </a:solidFill>
                <a:latin typeface="Verdana"/>
              </a:rPr>
              <a:t>known-sender 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where one node needs to transfer data to a user-level destination (not a network-level address), e.g.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other user (who may own many node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s in a certain place/with a certain intere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rs with a certain role (e.g. “police”)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860a8"/>
                </a:solidFill>
                <a:latin typeface="Verdana"/>
              </a:rPr>
              <a:t>known-recipient 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in which a device requires content of some sort, but it is irrelevant where the data comes from, e.g.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ublicly distributed content such as “current news webpage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dia files, e.g. “songs by the Scissor Sisters”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cally generated information, e.g. traffic new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or known-sender, there may be many recipients; for known-recipient, there may be many source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Why status quo (IP) does badly in PSN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IP doesn’t handle many-recipient well, and does not handle many-source at al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IP’s strict layering means infrastructure lookups to find endpoint addresses before data transmission begin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CP/IP’s stream abstraction means that apps have to implement app-layer protocols; these rely on access to specific infrastructur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.g. email user wants “message to James” but email client implements “message to IP address of MX DNS record of James’s email domain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IP cannot handle non-contemporaneous connectivity, e.g. use of human mobility as data transfer opportun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cket switching means that app-layer data is lost to the network; further exchanges of the same data means insertion of the data into the network by an applica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Our approach: Haggl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modular network architecture designed around the needs of mobile use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essage switching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ll user data kept network-visi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uild request-response into the networ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Use and integrate with existing application infrastructure where possi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A. Forward using application layer information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Use names meaningful to apps, e.g. human names, keywords for documents, parameters for content wanted (mime-type, etc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Delivery of data is accomplished by using the data itself to choose forwarding path, rather than artificial meaningless-to-the-user addresses such as IP.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6-03-19T19:51:11Z</dcterms:modified>
  <cp:revision>219</cp:revision>
  <dc:subject/>
  <dc:title>Haggle Work </dc:title>
</cp:coreProperties>
</file>