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C1B-E196-4968-828E-EC72B217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51E-C2C1-4C69-ADA2-FAA90332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0AB2-4A40-4D0F-B5CD-EB2D48A3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8AF-9EDD-4B92-A35D-66F1B7DF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8EB5-E3E1-4912-8AB4-EC07195C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6D39-9C0F-4798-928A-C570C169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2DD5-4DB7-4D5A-B055-FDC468DA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97BE-5F89-492E-B474-40E694E2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EA25-7EB2-4081-8758-73D40C37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B3C8-4C16-4445-A84F-AEBBF65D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8D43-A2F8-4487-A90A-3BB12ADE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4A7-224E-4C0C-AFF5-D2400AE1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43C2-085B-405D-8D25-51BB2840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838A-B174-4696-9BF8-C29EED7C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F259-72A8-4838-A143-0313E960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FF80-7264-415F-B753-22A7E5AC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F794-0863-4D54-8348-C9D9183A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A3F-BC57-4AB8-87B3-E1DA41EB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971-947B-406B-9964-71F1B2F4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7ECF-E41D-4B0F-A633-882C8B50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FA5-3555-4712-91D0-0ABF0A5A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3CBB-D6FE-4FFB-A805-B2F7F07A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92A-F9AC-480D-A52C-84CD14DA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8A3-1598-4A84-9269-D20F71B6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E04E-C4D9-4475-B3C3-E0B0B251A0A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28F6-5AF9-4FDC-9EBF-9FF64ECD983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rchitectural Principles for Architectures - an elicitatio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 Crowcro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uter Laborato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versity of Cambrid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400800" y="6093000"/>
            <a:ext cx="27432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1: What are the architectural problems in the Internet &amp; why are they showing up now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sure if there are any - the Internet works for 95% of what people want it to do, and I don’t want to replace gsm in my phone with vo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r do I want to fit TCP/IP to anything else quite frankly…s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am going to ignore the Internet for the purposes of Architectural Elicit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stead, move to (and modify) Q2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2: A Clean Sla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for the Internet Applications or Usage, but for new stuff - e.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portunistic Networking, related 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lay Tolerant Networ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ruption Tolerant Networ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these, what 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2a: Requirement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2b Usage assumption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2a&amp;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portunitistic Nets (Ons) are partly an instance of DT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n’t have e2e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nectiv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ET,DTNs,ONs all share this, and also, typically, lack of seperation of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ay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es this tell us about architectur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al Elici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P, X.25, XNS, DNS, SNA… all OSI mo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en Systems Interconnection used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organising principl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laye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principle is not useful in 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e2e principle is 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.g. in extreme (have no network layer so no routing in net - but can have end system routing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hn Wroclawski’s point…partial re-use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3: Evolve or Overla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, and No, at least not for ON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P is alien to 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verlays are alien to 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 some definition of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interesting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’s no interesting research in these new requirement areas that can be done in IP or Overlay (but see next for mitigating commen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side: Plea for Internet Experimental Ethics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’s still a lot of interesting Internet Architecture Evolution work to do - much of it is in scaling routing, DOS resistence, better worm prevention, etc 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not test any hypothesis in today’s Internet is governed by short term, litigious-minded, and often inappropriate knee-jerk respon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to fix this URGENT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keh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 requirements need new architectures that deviate radically from Intern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architectural principles reus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you must do evolution of Internet Arch, need to be able to test ideas - need a richer world than todays to let you do it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3:09:27Z</dcterms:created>
  <dc:creator>e l g a n</dc:creator>
  <dc:description/>
  <dc:language>en-US</dc:language>
  <cp:lastModifiedBy>Jon Crowcroft</cp:lastModifiedBy>
  <dcterms:modified xsi:type="dcterms:W3CDTF">2004-08-30T18:19:35Z</dcterms:modified>
  <cp:revision>67</cp:revision>
  <dc:subject/>
  <dc:title>Ultra Wideband Radio Technology: Potential &amp; Challenges Ahead</dc:title>
</cp:coreProperties>
</file>