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93E-6DAF-44C8-A54B-6C6F9F75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4B4-022B-4BA8-B916-6B56B85D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AC0-69E2-4C2B-A025-E6592351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A30-4060-4CA6-95F8-343DE761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6F4E-7A08-4806-8D63-2A86D38F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283B-1195-4485-B845-2B0A562F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ABEA-B288-4FCF-8D8D-A60DE0DB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3F4F-FB21-43FF-871D-36191C8A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0F72-CBDA-4C53-BD5A-CDBC43EF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22C8-0B1E-4BFB-9CFC-9A9BFF6D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C2D6-717E-4A64-85A3-15EC1C7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7A2-6A84-49BF-BB9B-04809140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C600-0DF8-40E9-83EE-692997C8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1BF3-CD68-491C-AE13-530F721B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BB58-6E6F-44C6-A01C-CF794CBA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360B-FAE1-4EA8-942F-809F77A3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CB2E-DF22-4241-B837-9D545011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57D-C955-4CBE-964D-4F16BB69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2FE-A8CF-463C-BBD1-97584261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DE3-6EA2-48CE-882B-DCBC7A7D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7E0-B609-49EB-B04D-8304F083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9FE-DFD2-42D4-B35B-37A71F4D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73E-9F2A-4A01-9164-875B1C36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DEB-8EF9-49A9-A500-AF742102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49E6-1446-4E9F-A1D6-5F2F214BB8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A351-4509-40D3-9B93-07CD233EDC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rchitectural Principles for Architectures - an elicita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 Crowcro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uter Labora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ity of Cambrid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6093000"/>
            <a:ext cx="2743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1: What are the architectural problems in the Internet &amp; why are they showing up n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sure if there are any - the Internet works for 95% of what people want it to do, and I don’t want to replace gsm in my phone with vo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r do I want to fit TCP/IP to anything else quite frankly…s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am going to ignore the Internet for the purposes of Architectural Elici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stead, move to (and modify) Q2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: A Clean Sl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for the Internet Applications or Usage, but for new stuff - e.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portunistic Networking, related 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ay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ruption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these, what 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a: Requirement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b Usage assumption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a&amp;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portunitistic Nets (Ons) are partly an instance of DT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have e2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nectiv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ET,DTNs,ONs all share this, and also, typically, lack of seperation of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y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is tell us about architectur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al Elici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P, X.25, XNS, DNS, SNA… all OSI mo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en Systems Interconnection use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organising princip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lay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principle is not useful in 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e2e principle is 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.g. in extreme (have no network layer so no routing in net - but can have end system routi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 Wroclawski’s point…partial re-use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3: Evolve or Overla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, and No, at least not for ON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P is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verlays are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 some definition of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interesting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’s no interesting research in these new requirement areas that can be done in IP or Overlay (but see next for mitigating commen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ide: Plea for Internet Experimental Ethics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’s still a lot of interesting Internet Architecture Evolution work to do - much of it is in scaling routing, DOS resistence, better worm prevention, etc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not test any hypothesis in today’s Internet is governed by short term, litigious-minded, and often inappropriate knee-jerk respon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fix this URGENT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keh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requirements need new architectures that deviate radically from 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architectural principles reus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must do evolution of Internet Arch, need to be able to test ideas - need a richer world than todays to let you do it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3:09:27Z</dcterms:created>
  <dc:creator>e l g a n</dc:creator>
  <dc:description/>
  <dc:language>en-US</dc:language>
  <cp:lastModifiedBy>Jon Crowcroft</cp:lastModifiedBy>
  <dcterms:modified xsi:type="dcterms:W3CDTF">2004-08-30T18:19:35Z</dcterms:modified>
  <cp:revision>67</cp:revision>
  <dc:subject/>
  <dc:title>Ultra Wideband Radio Technology: Potential &amp; Challenges Ahead</dc:title>
</cp:coreProperties>
</file>