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753-AB71-4A10-B12B-2E582366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3F5-A245-4A48-A91E-09DE1C7C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61F-6CDF-453E-BC9A-934ACDEE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0DD-A067-407A-89C6-F4DA7595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949-9D99-45E6-9520-46B005D7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24D-A113-4C88-9478-BDADB00E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A4F-DA28-4000-9134-972AAB55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868-10EF-4B22-AC3A-C8186A2D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E35-1BA1-450C-9593-6801BF97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7F4-84B6-4302-99D8-151CD6A1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3AE-7D22-4596-94F8-0512610C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648-D5EA-4BF0-88DC-5AB5BB90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432-1146-4E95-A938-D7333ECF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 for Decentralised Spectrum Co-Al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jac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an be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, social, political, geographic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community trust much higher than in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ties align social and ge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are not just abo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cales vary from minutes t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time of use o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 of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rain, Vehicles,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ther, mobility, traffic matric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yment/tokens need to be unfor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nimity versus trac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ed Reservation v. Decentralised Congestio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 Reserva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reline networks (rsvp, q2931) interfa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ssion control,  policy management, traff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ct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tekeep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source (which is 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gestion Control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ed dual optimisation (TCP/ECN or A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systems adapt t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signals end systems (through loss or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protocols traditionally resourc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ion, hidden terminal 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 considerations (not gr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MA/CA is quite like TCP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cales of feedback quit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dio and software defined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modulation, coding, CRC,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ed, or selected, based 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e environment (congnitive) or ask ora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antennae, power budge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undrum: where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logy: give me all the capacity for my download then go to next user, or give me 1/nth of the capacity all the ti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ngle optimum operating point for give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timescales mean that sensing is not going to detect future (or recent) potential contend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ntinu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 Need to kee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Need infrastructure for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ost, but given geograph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also use repository for (signed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oken validation (ecash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ole for incumbent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haul (c.f. multihop horizon limi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-- Hybridiz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ntralised managed thru central neutral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then use reservation protocols and auctions and other mechanisms to allocate 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center to offer checks and balances (polices spectrum “bill of right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fully decentralised techniques within power budget and spectrum allocation for re-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7:09Z</dcterms:created>
  <dc:creator>daniel</dc:creator>
  <dc:description/>
  <dc:language>en-US</dc:language>
  <cp:lastModifiedBy>daniel</cp:lastModifiedBy>
  <dcterms:modified xsi:type="dcterms:W3CDTF">2005-11-06T14:56:53Z</dcterms:modified>
  <cp:revision>11</cp:revision>
  <dc:subject/>
  <dc:title>Protocols for Decentralised Spectrum Co-Allocation </dc:title>
</cp:coreProperties>
</file>