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12.pct" ContentType="image/x-pict"/>
  <Override PartName="/ppt/media/image1.png" ContentType="image/png"/>
  <Override PartName="/ppt/media/image9.pct" ContentType="image/x-pict"/>
  <Override PartName="/ppt/media/image8.gif" ContentType="image/gif"/>
  <Override PartName="/ppt/media/image7.gif" ContentType="image/gif"/>
  <Override PartName="/ppt/media/image23.pct" ContentType="image/x-pict"/>
  <Override PartName="/ppt/media/image6.pct" ContentType="image/x-pict"/>
  <Override PartName="/ppt/media/image15.jpeg" ContentType="image/jpeg"/>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2.png" ContentType="image/pn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89AB-6DC8-4100-8D6E-2B53CF0927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6D6F72-019E-4439-B698-4750AD89FC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1671E53D-725C-441B-A7B4-71117E6970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119F6009-19AD-4178-969B-2CC3B885A5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5D6E807D-5DD7-45CE-AB69-C4A50F52B8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17D6077B-EE2B-48C3-9625-F45F66AE56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CA8956ED-8C6F-43FA-BEFB-3135A89F15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D05AC657-A0D9-4BC4-8824-CC2E6C38DE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053B6840-8707-4CE9-A74F-10B03B853A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C2A7C79C-875A-46D0-84A5-54CCCB8E2F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73846E36-476D-49EE-83F1-5D3992307A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C4C0694B-F9C0-497A-9730-77A5A35E0A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9F1FD20D-A789-47F0-A23A-603C46D62B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FAFC-6B11-467C-B094-0D00DE2F9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pct"/><Relationship Id="rId8" Type="http://schemas.openxmlformats.org/officeDocument/2006/relationships/image" Target="../media/image10.pct"/><Relationship Id="rId9" Type="http://schemas.openxmlformats.org/officeDocument/2006/relationships/image" Target="../media/image11.pct"/><Relationship Id="rId10" Type="http://schemas.openxmlformats.org/officeDocument/2006/relationships/image" Target="../media/image12.pct"/><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990360" y="2742840"/>
            <a:ext cx="7189560" cy="2801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ggle EU Strep Project)</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w Thomson Research, Pari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7" name="" descr=""/>
          <p:cNvPicPr/>
          <p:nvPr/>
        </p:nvPicPr>
        <p:blipFill>
          <a:blip r:embed="rId1"/>
          <a:stretch/>
        </p:blipFill>
        <p:spPr>
          <a:xfrm>
            <a:off x="324000" y="1916280"/>
            <a:ext cx="4176720" cy="3519360"/>
          </a:xfrm>
          <a:prstGeom prst="rect">
            <a:avLst/>
          </a:prstGeom>
          <a:ln w="0">
            <a:noFill/>
          </a:ln>
        </p:spPr>
      </p:pic>
      <p:pic>
        <p:nvPicPr>
          <p:cNvPr id="98"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102"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4" name="" descr=""/>
          <p:cNvPicPr/>
          <p:nvPr/>
        </p:nvPicPr>
        <p:blipFill>
          <a:blip r:embed="rId1"/>
          <a:stretch/>
        </p:blipFill>
        <p:spPr>
          <a:xfrm>
            <a:off x="0" y="1773360"/>
            <a:ext cx="8964720" cy="3892320"/>
          </a:xfrm>
          <a:prstGeom prst="rect">
            <a:avLst/>
          </a:prstGeom>
          <a:ln w="0">
            <a:noFill/>
          </a:ln>
        </p:spPr>
      </p:pic>
      <p:sp>
        <p:nvSpPr>
          <p:cNvPr id="105"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6"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9" name="" descr=""/>
          <p:cNvPicPr/>
          <p:nvPr/>
        </p:nvPicPr>
        <p:blipFill>
          <a:blip r:embed="rId1"/>
          <a:stretch/>
        </p:blipFill>
        <p:spPr>
          <a:xfrm>
            <a:off x="755640" y="1341360"/>
            <a:ext cx="7632720" cy="3411720"/>
          </a:xfrm>
          <a:prstGeom prst="rect">
            <a:avLst/>
          </a:prstGeom>
          <a:ln w="0">
            <a:noFill/>
          </a:ln>
        </p:spPr>
      </p:pic>
      <p:sp>
        <p:nvSpPr>
          <p:cNvPr id="110"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12" name="" descr=""/>
          <p:cNvPicPr/>
          <p:nvPr/>
        </p:nvPicPr>
        <p:blipFill>
          <a:blip r:embed="rId1"/>
          <a:stretch/>
        </p:blipFill>
        <p:spPr>
          <a:xfrm>
            <a:off x="179280" y="1916280"/>
            <a:ext cx="8569440" cy="3624120"/>
          </a:xfrm>
          <a:prstGeom prst="rect">
            <a:avLst/>
          </a:prstGeom>
          <a:ln w="0">
            <a:noFill/>
          </a:ln>
        </p:spPr>
      </p:pic>
      <p:sp>
        <p:nvSpPr>
          <p:cNvPr id="11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20"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ow generic is this result?</a:t>
            </a:r>
            <a:endParaRPr b="0" lang="en-US" sz="35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odes (bluetooth phone/pd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ets (WiFi)</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communities (kids, random, HK)</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cliques in the set/community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ght-knit sub-communi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pular people/pla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6"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jectures</a:t>
            </a:r>
            <a:endParaRPr b="0" lang="en-US" sz="35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vy tail is sum of lots of cyclic journeys of</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small set of frequency and phase differences</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tor for simulation data?</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ding infrastructure nodes will create hyperspace shortcuts</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increase the effective coefficient to allow connectivity</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modling the _effect_ of mobility, rather than mobility itself directly</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need to get some mobility traces (car/pedestrian routes) and see how they generate the contact duration/interval distribution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8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8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gt;Gupta/Kuma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e.g. Tschudi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Jon Crowcroft</cp:lastModifiedBy>
  <dcterms:modified xsi:type="dcterms:W3CDTF">2005-09-23T11:59:53Z</dcterms:modified>
  <cp:revision>52</cp:revision>
  <dc:subject/>
  <dc:title>Pocket Switched Networks:  Real-world Mobility and its Consequences for Opportunistic Forwarding</dc:title>
</cp:coreProperties>
</file>