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9A19-284C-4CD8-9658-EA35AB17B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55BA-6173-45D4-A234-8B187BE52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B61-4DA6-4DC7-B8D3-6AA53405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0CF7-FAF3-421D-A8B7-57F3ACD9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276-5D35-48C1-8D4F-2769C543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6CC6-ACF8-43AA-85A5-9D371DC8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5BE2-0103-46A1-A03E-6C6334FD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1B0-82CD-4502-A5AE-6401F4D2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E3E-AF7E-406B-B189-2F7200B6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5FED-83D0-4B62-9B26-8FC8DE72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8EF9-74CA-4210-84C7-0067AF2D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E4DE-439E-4BF1-8E0E-A685EC9B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DDDF-E05D-4B64-B3BD-8BBAD94F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F94-6FAA-47F4-9F1A-9FB3911F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7720" y="6324120"/>
            <a:ext cx="752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14 June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TU Darmstad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7F97-74C8-48EB-A47E-5952F7A7A54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3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Or The Internet Conspiracy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47440" y="4212720"/>
            <a:ext cx="5797800" cy="278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James Scott (xxx Research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n Hui (University of Cambridge)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hristophe Diot (Thoms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othy Roscoe (ETH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79BB-1095-4C47-8487-C726A35558F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F19D1-7616-4E18-AD43-4336520894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The alternativ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ere is no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Just a bunch of computers with lin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moves “semantic bottleneck” from application writer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mbrace “radically heterogeneous networking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wo end-systems should be able to communicate even if they have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nothing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in common: protocols, address realms, semantic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C07D-AB54-4DF4-BBDF-80654E5859C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49076-4321-42BA-95C4-0D6BC7618F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Surely something must be common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Of course: but it is only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the application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at what is common is that which is application-specifi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ven DTN has single overlay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(bundle routing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F1E-09BF-4855-9C0A-5DEAD477ED0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A6026-CF0F-4F54-BC61-72DC2C2A44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8DEE-D64A-4063-B316-95AF9FA9814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3C919-0546-4649-8253-4E4372DB75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Our approach: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73BC-E4DC-4BFE-9655-F0244396A9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66BC7-5845-4037-8DFD-2BB5320815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7C0E-2EDB-4F6F-A293-81EC7CFF972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40E5D-D46C-4C12-BB48-40447E99B9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6CB8-BB80-457B-AB8E-3FA538372AD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B4433-3565-48F0-BCBE-F9FDDCA754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51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8122400">
              <a:off x="5420160" y="258588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95E1-8305-4ED9-B76E-BB6EE0FFBBC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77008-DC83-4AF6-8AD6-CF43BF3743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22320" y="119700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6200" y="37638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59C6-8D95-4EFE-B30D-F897D387B0C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1DC70-F250-43A0-B7B7-CBFA44578E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B990-4CCD-423C-89A8-0460529C281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B61BA-5F87-4441-94DE-3FC1B65FE0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(ex cambridge, sprint, intel, berkeley, oz, now ETH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 (Wenjun Hu, Jon, Mothy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 to FIND/GENI? - n.b. my abstract’s comments(*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rchitectures emerge (ANSA/Herbert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294-A305-4F54-A3C2-E9151FC3358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E1A45-B9EC-4838-B582-0FAA43CD9E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54A1-BE1C-4C84-81A9-DBF6B27DF2D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D6DB1-F32F-4CC2-827F-280B28D6B8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8309-B12B-464A-8356-481530CF5C1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CD9F0-A02D-47DA-8666-3CD3BB244A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C96-07EA-42AF-8942-08EF536D053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F1C1D-2C41-4DF4-A431-33D29E156C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Back to FIND/GENI &amp; Architecture/Testbeds &amp; EU v. U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s per my contentious (*) abstract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ND and GENI are to fill a funding gap US h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U doesn’t have g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chitecture research is philosophy, not science or enginee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e devil is in the details, s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 1000 architectures bl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orld will pick a winn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ego will declare it the new architecture and beco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other-in-law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the Next Generation Inter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P7 should fund good communications systems research as usual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4B10-F3B7-4F8C-9080-90551DC5080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C2986-AFE5-41CB-8AC1-092D4ADA43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obrigado …ciao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cknowledgements: James Scott, Mothy Roscoe, Mark Handley, Richard Mortier, Steve Hand, Keshav, Nick Feamster, Kevin Fall, for arguments about architecture, post modern or otherwise :-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2374-2F59-4495-85D0-118CD646A61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CB027-8245-41EF-9267-33052BEB8B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y have an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What does an Internet Architecture hope to achieve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nteroperability across networ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Easier for applications to code t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ramework for providers to compe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oes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any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Internet architecture really address these issues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E871-26A0-4343-9F30-BB87C2FFFD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5AE75-A60C-4F72-A952-37F26D0638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A830-3A58-439F-B697-C2A7892F17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A7EEC-9EB1-4563-8F7F-16E05ABEE2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operability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o – not really</a:t>
            </a:r>
            <a:r>
              <a:rPr b="0" lang="en-US" sz="2000" spc="-1" strike="noStrike">
                <a:solidFill>
                  <a:srgbClr val="0860a8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form API: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Bad thing: hides useful features of the underlying network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.f. cross layer optimisations and other oxymor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rovider framework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as any tier-1 ISP ever made significant profit from offering IP service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et Neutrality Debate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9C8-5625-4E7C-80FE-53A4C6BE7E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00308-4DE1-407D-91D3-78AC72381E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used to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enable rapid innov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im: lack of attention to value flow &amp; economics was a Good Thing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igh commercial value blunts innovation (c.f. other industrie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isruption is bad for busines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dea: goal of networking research should be to enable surprising thing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DD3-2DFA-419F-A73F-A72542B775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25240-1E18-4B29-880A-FFB9A2292E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3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39AF-163D-4D60-992A-8B7E6B639BC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347CC-65B6-466D-A55F-30437B5289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11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F7C9-258C-4DE0-8085-6171B2E5269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B47DB-D7DE-4A27-ACD1-A5931F9F30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32800" y="4684680"/>
            <a:ext cx="36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9080" y="2017800"/>
            <a:ext cx="30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AB5C-05BD-41AA-BCDF-8F56ACA427B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90A96-65BE-48EA-8110-D7D203E870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7-06-12T09:03:31Z</dcterms:modified>
  <cp:revision>250</cp:revision>
  <dc:subject/>
  <dc:title>Haggle Work </dc:title>
</cp:coreProperties>
</file>