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DC1C-1EBD-4ADA-B301-4697074B4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59E5-D777-4A17-9155-58382853A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3915-4801-4A37-B0BB-AE99AE39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9A8-8E12-4713-ADED-968151A3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8A80-B9BC-42B2-885B-F83CFDE0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21E-77FC-4C9B-B92B-7ADB1FD5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5359-3F4E-4EDD-9E5F-6862E809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682D-DE50-4AD6-AF8D-F1BEA3D3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586-5502-4DEA-911A-0EA7493C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763-D566-4278-8293-A1421053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CC40-6C6F-4606-97F9-11B3F369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F20-40F4-431D-A745-54829802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E3D4-F695-4B58-8991-DBDDBAE6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5CDD-6F38-413F-8AE6-4E01D0CD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7720" y="6324120"/>
            <a:ext cx="752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14 June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TU Darmsta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4D2D-AC33-4841-A850-351D91B5613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3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Or The Internet Conspiracy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47440" y="4212720"/>
            <a:ext cx="5797800" cy="278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James Scott (xxx Research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n Hui (University of Cambridge)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hristophe Diot (Thoms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othy Roscoe (ETH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E1A2-B7EA-4B2F-AD9F-5D6D44EFB2E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872FF-1CFF-4F58-8109-F8F1E9140F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The alternativ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ere is no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ust a bunch of computers with lin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moves “semantic bottleneck” from application writer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mbrace “radically heterogeneous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wo end-systems should be able to communicate even if they hav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nothing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in common: protocols, address realms, semantic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003B-3B2D-4B1D-8889-41444AF4790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3194F-EBF3-407C-B44F-F56461270E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Surely something must be common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Of course: but it is only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the application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at what is common is that which is application-specifi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ven DTN has single overlay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bundle routing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5EE-D606-4A21-AB55-879EC3A1729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F8F1E-F0A8-4ED7-AD8E-7759013BCD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3AAF-C264-45C9-B922-1EE4788701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630ED-1695-4DAA-B831-693CF7B10C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FA4-AAD2-47C7-AE9A-B8DC031F34E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7C58B-BB24-45A6-9535-6F8EE63C01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2BFB-824E-460D-A60F-11C928515E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15497-3F0A-47C0-BB29-0EF68A84C1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769F-9FEB-4DB6-9346-ABAC7F0BDC4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F6739-78ED-4571-B6E1-CEF562C690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51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8122400">
              <a:off x="5420160" y="258588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12B-DC85-4663-BC04-E6E7D7940C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75DF4-E6C7-4CBB-99C9-AEBB77E08B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22320" y="11970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6200" y="37638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866-33A6-45C2-ABF3-8A060DE17C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02048-2F5C-4066-90EC-815B7B3795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C78-911B-4774-AEFF-BF98785CFA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E7969-995C-4079-9531-85C7731819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(ex cambridge, sprint, intel, berkeley, oz, now ETH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 (Wenjun Hu, Jon, Mothy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 to FIND/GENI? - n.b. my abstract’s comments(*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rchitectures emerge (ANSA/Herbert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B169-963C-4593-ADF7-16DBF3D0DBE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E561E-A232-476C-8C8F-FB7D7DC855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5E25-638D-49CA-9E5C-CAC81EC10D7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B9A37-CCE9-4805-84CF-ABF6837E75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B199-2F4F-420D-A7EC-819B9E2A31A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A139A-F270-41C2-B900-060937EF2F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AA8F-3108-4291-8119-FF693812270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16AED-46B4-43DA-82DB-7BD1E0D2F1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Back to FIND/GENI &amp; Architecture/Testbeds &amp; EU v. U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s per my contentious (*) abstract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ND and GENI are to fill a funding gap US h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U doesn’t have g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chitecture research is philosophy, not science or enginee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e devil is in the details, s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 1000 architectures bl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orld will pick a winn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ego will declare it the new architecture and beco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ther-in-law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the Next Generation Inter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should fund good communications systems research as usual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057-152F-4F7C-B183-C3D08A18A1E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EE39E-19F9-4689-ABA2-650FFCC3AC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obrigado …ciao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cknowledgements: James Scott, Mothy Roscoe, Mark Handley, Richard Mortier, Steve Hand, Keshav, Nick Feamster, Kevin Fall, for arguments about architecture, post modern or otherwise :-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5FD9-252A-4FE0-88FB-36E26F02E17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33914-4AA9-4047-8EFB-4DF22B9D35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y have an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hat does an Internet Architecture hope to achieve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teroperability across networ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asier for applications to code t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ramework for providers to compe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oes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Internet architecture really address these issues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60D-5A0B-45EA-BA61-A889893B52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29A06-7125-4A84-9737-2C3FFF10E8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789-3B86-4C2A-AFA3-D486E61FB9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FFB60-6B24-4F8F-8AB2-70561B343B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operability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o – not really</a:t>
            </a:r>
            <a:r>
              <a:rPr b="0" lang="en-US" sz="2000" spc="-1" strike="noStrike">
                <a:solidFill>
                  <a:srgbClr val="0860a8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form API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Bad thing: hides useful features of the underlying network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.f. cross layer optimisations and other oxymor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rovider framework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as any tier-1 ISP ever made significant profit from offering IP servic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et Neutrality Debate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2B89-FC8E-43B5-8C02-EDDEECB6BD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15969-CCDF-4539-A99E-10F69BCB3E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used to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enable rapid innov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im: lack of attention to value flow &amp; economics was a Good Thing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igh commercial value blunts innovation (c.f. other industrie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ruption is bad for busines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dea: goal of networking research should be to enable surprising thing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3A54-B6BB-4001-8F49-477D94E5F1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A3204-1ECC-40C9-B3DF-DD73001F79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3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CEC-6557-4AB0-860B-828B2303C64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72907-D208-4A8C-8C70-43A693BD4F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11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DC73-9393-4FD8-83B2-E2B4D922142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54AD8-1CB8-41B1-A6CF-7986A1A348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32800" y="4684680"/>
            <a:ext cx="36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9080" y="2017800"/>
            <a:ext cx="30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F76D-57A4-4CAF-A9CC-A8F260B804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08413-CBF2-4A62-BDA9-34FF530337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7-06-12T09:03:31Z</dcterms:modified>
  <cp:revision>250</cp:revision>
  <dc:subject/>
  <dc:title>Haggle Work </dc:title>
</cp:coreProperties>
</file>