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C91F-C72A-4DDE-8308-6A0BE9AF2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s already have 500 computers in (40% of car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85E-0E7D-4ECE-8E24-0247A7D2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0B1-CE8B-4C0F-8E9F-C04EEA78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072-81A7-45B3-8398-FE9DFDCD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49E-02FD-4946-A76D-B4C312D5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E3D-17FB-4750-9EF9-AB6D1ACE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0F0-3352-4D7A-8828-8B1AE7D4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F86-65FB-40C7-984D-ADBDDD03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974-646F-40E0-99DB-17D0D7CD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364-C68F-43D1-856D-29BF0E8D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C3F-79E1-4D55-8439-F523463F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BE7-03A7-4CE2-8085-664FE3F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1B3-77EE-45E9-A4D7-F93E827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dcen School for Girls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747-9C0D-4BDF-9060-BC0CE4333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Future of Computing and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mpute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586728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898-B5BA-4C5C-902A-83DFB14C588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 of interaction without phys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put the computer away from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all of the h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door of the c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heel of a sho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ve it into your shir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will you interact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Victoria Bellotti at Ap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ch, gesture, context - no keyboard, no mouse, no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1EB-E74F-4CD1-B19D-165B208D85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 havnt mention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ould like to empower every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and control the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how the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use/configure/re-purpo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ans we need an accesible program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like VCR, DVD, Skybox, Windo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new? Yes, but what ? Any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9B1-5A76-45A1-8CE4-E26992A6794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(or 2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+5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(or 1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 again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thinking, logic or comp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3CC-F5DC-469B-9AAA-CA53F2DA2F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9, Computer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BA in Natural Sciences in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 years as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Sc at U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0 years sentence t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back to Cambridge…sin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0EC-A32A-4204-A3D8-AF32107335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ing: the Science of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t on a formal, but also practical fo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is the business of build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just gadgets, but the world (ecosystem) that supports ga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he Internet, The Web, Google, iTunes, Amazon,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s, Browsers, Searching/Maps, MP3, secure online payment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AD7-0CC6-4EAE-87CD-C25D303E62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eople think CS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eople want to cross a narrow rope bridge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1 torch, and only 2 people can fit on the bridge safel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west takes 10 mins, the next slowest 5, the next slowest 2, and the fastest 1 min. You need to take the torch back for the next 2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et everyone across in 17 mins.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4A5-262E-4214-B1AC-8CB151702E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lot of Computing is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ol Goble (A Prof at Manchester) s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ever we do something right in computing, it becomes invisible to the 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wireless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music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cell phones or ipods, or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653-00B8-4BDA-95DB-426C3D721F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ensible to en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s that computer, storage and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n capacity every year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ost 1/2 as much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10 years, will have hand held movie device with 15000 fil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arry it? Why not have 100 of them if they cost 1 eu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lse will we dream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39F-39BA-48C4-B931-BD8515FA8F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going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hig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 and point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health/wellbe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v. Psychology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computing in the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alk about just these 3 exampl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20A-6DAD-4CC8-BD34-AB10D19B11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 High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00 people a year die in the UK on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ccidents don’t have to happen if car does collision avoidance-  simpler is to control gap betwee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rs don’t like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 even worse habits (viz ABS, Airbag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urance companies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ot put a pointy stick in the middle of the steering whe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 people don’t learn much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A84-229D-4AF0-91A9-6F1E284418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ust in online medical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you let a machine make decisions about your medical treat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nother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a “human in the lo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trust the doctor, and the doctor trusts the program, should I trust the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dy Hall (prof at Southampton) sa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 meets psychology (math loses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4EE-2373-448C-B912-46C338DE47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Jon Crowcroft</cp:lastModifiedBy>
  <dcterms:modified xsi:type="dcterms:W3CDTF">2006-03-19T19:43:30Z</dcterms:modified>
  <cp:revision>29</cp:revision>
  <dc:subject/>
  <dc:title>Scaleable Ubiquitous Systems</dc:title>
</cp:coreProperties>
</file>