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C03A-2DAF-4535-B138-305B18E2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15A5-06CF-4792-B4A6-499F283C7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F47-2319-4C8D-A557-BAAC72A7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8F2-E4EE-4748-9F3A-3FF52AEA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2EB-F20D-46C9-BE55-FCE9B6B2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9D9-3F0B-4D55-836F-813A0EE2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515-34B3-4424-8534-15F2695D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95B-0382-44DF-8899-5F6277B0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2B8-44D0-4149-AD1D-7F1AC675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B74-C877-46EC-8173-67E26EA3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4FE-4084-4E4B-9293-29A9A0A5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507-91BB-4948-9D40-9BA0AB71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C3C-7681-41DE-A609-3E6A11E0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7DD-1302-4A22-8331-58E8A7C3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C438-D0A8-453C-A9C7-91473152E51F}" type="datetime">
              <a:rPr b="1" lang="en-US" sz="8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2B8E-AC89-4087-946B-673821CF440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36640" y="4212720"/>
            <a:ext cx="58006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323-76BE-4EA7-9F6C-BE3CD2C02D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6A2F0-951D-43C2-BEC1-EEE8B10B1D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6CE-9E7F-41D9-8F0A-CB294129DE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61F61-7695-446B-95BE-FF8C46A9B7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E80-8409-4D87-8984-A3511233A2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F4FD5-082E-4B45-A6DB-110EEFD28A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6F3-EA6E-421F-92B4-E29CDDABD0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70BA7-C8D0-4604-9F4A-C293B6B3C3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9F6-3636-4D92-9E62-258DA2D8AF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2D863-465C-48BA-96DB-974A1A4889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811-FC37-40EF-AE09-943FD8010C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D6624-6E89-41EE-AF77-959730FCAA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023-0B1E-412A-B7FA-7603D45AF6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875BE-9E16-409D-831A-9ACC36297A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2E7-BC51-4D2C-B594-3DF703AA01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2048F-4D32-4DAD-B4A7-17188AF818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83A-721A-47D8-BDA2-685C5159E1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3AC86-5D1F-41BB-8D49-367C03267D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884-C55A-4C2B-A7DC-D421732AB6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4AF65-5347-49CA-8DFA-76B78609FF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F30-7CF2-4599-8165-7A973C5042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333FA-1DBA-48F0-A8F6-74D8060437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A69-FC7B-41F0-969A-3211224B02F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1CA86-FCE9-4B5F-9CAE-FAFB5C4A4E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8E2-D64E-42EC-8F72-E435BC98EE8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67D35-F674-46B8-A10F-9EFF8B32EE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FC1-85F3-4B11-8268-7E2E9BEFFD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386E0-67D5-477A-BCA7-14CBA4306C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44F-C47B-4919-9F11-0154DC2823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B9C94-AD2B-4D83-9633-0D0FBCFCE1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F55-0B27-4C5D-BE7E-47512F7AF6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19FEF-1A10-4E62-9514-06072829B2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9EC-2EE5-4318-8634-D4269329D3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FFE7E-2C86-44A8-BFA9-9583BE44CD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69A-6B67-4CCA-BF44-7AAA23539C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0940D-1D49-4136-A774-DE41D25BDC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36F-C3C4-4F2E-B73A-13A62AFCE5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9634D-3F74-48EE-B88F-C57B493ED8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EA5-0820-4650-8DA8-7C5A5AC15C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51F28-77E7-4E86-A43A-37D4461967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B44-639A-4C2F-BB61-38BC2DAE95B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3F8C9-DDDF-46EC-8ECC-1214CB4E84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D8A-AA40-49C3-A8F9-5CEE44C1B4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62D73-89A2-40A8-8010-6F97DD30B1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367-CBBC-4F2A-B7DC-CB3402BA6F2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64F4B-E680-4DB2-B094-6596C277D1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5T14:35:44Z</dcterms:modified>
  <cp:revision>249</cp:revision>
  <dc:subject/>
  <dc:title>Haggle Work </dc:title>
</cp:coreProperties>
</file>