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5D7-2C1D-43FB-A2DE-03836A8C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D0D-F1AB-499E-8371-726EAE78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9C1-0DD6-49E5-8876-2C1D4707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012-9951-410E-A2CD-ED938EA1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25C-C493-4327-BEA1-1945C5EC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3A7-82E3-465D-88AB-48453393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A6E-622E-469D-B6FF-E0302FA2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279-D7AD-49A6-B05C-558FD443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1C7-F285-4B92-8111-C3BCB32B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F1B-9194-4F94-BCF0-1DF6C4DE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D1F-6742-42C3-82A3-B42037B0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E38-7BE0-4D4C-9783-0FB4C840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5B33-5561-490F-9AD8-6B1036885AC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oNeXt/COST ARCADIA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Future Internet Workshop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Panel Session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809520"/>
            <a:ext cx="620856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Christophe Dio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Serge Fdid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Kenjiro Ch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The Flo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4754520" y="662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ote of the da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 “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nyone who isn't dead or from another plane of existence would do well to cover their ears right about now.”, Smith, et al…1999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88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9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e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No, but seriousl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1 we’ve seen a lot of actual technical work going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specially the student posters !!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europe is a live and well and happen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I am asking people to decide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trategy&amp; Prior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activ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lus coordinating with new places  - vi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ina, Japan, Korea e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xample Topics for prioritisation from this workshop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Virtualisation (or is i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Virtualizati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Xen, Xorp, XCP and XI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ed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r is it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ubsidiarity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nitoring/Measur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Day in the Life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Last Bit Txe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n the Interne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ireless&amp;Security&amp;Nam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wher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urop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has distinguishing streng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IP over Voice Networks… …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re Workshops… … …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just wanna go to Rehab, baby” (apols to Amy Winehouse :-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4T16:43:48Z</dcterms:modified>
  <cp:revision>241</cp:revision>
  <dc:subject/>
  <dc:title>Haggle Work </dc:title>
</cp:coreProperties>
</file>