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EFA6-8798-4756-8BDB-490073B99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FA6E-10FE-4C8B-83A8-2442DBC6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63BB-C38A-41E7-ADAF-3B23FD07F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136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14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316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136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14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3DB6-ACC5-4A6A-8005-4B3E4C233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31640" y="79560"/>
            <a:ext cx="73454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10F2-64DF-46D4-9CC3-E708A783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136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314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16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136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314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D214-56D7-45E0-99FC-53FC132B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3A3B-55F5-4BED-9ECD-C1050F3F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73AF-B0AF-4AF1-8E2E-0CD50FE2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31640" y="79560"/>
            <a:ext cx="73454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FB1A-3C99-4F05-BD10-03E0FB89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C2C3-A457-4E66-83C3-E4F70FA3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36D5-276F-4051-A751-15AD9E83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371E-6DED-4A7D-8B18-4EF1827F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5478" r="0" b="68472"/>
          <a:stretch/>
        </p:blipFill>
        <p:spPr>
          <a:xfrm>
            <a:off x="0" y="0"/>
            <a:ext cx="9144000" cy="1789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60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2" marL="987480" indent="-179280">
              <a:spcBef>
                <a:spcPts val="601"/>
              </a:spcBef>
              <a:buClr>
                <a:srgbClr val="00008a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3" marL="1257480" indent="-90720">
              <a:spcBef>
                <a:spcPts val="601"/>
              </a:spcBef>
              <a:buClr>
                <a:srgbClr val="00008a"/>
              </a:buClr>
              <a:buFont typeface="Trebuchet MS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4" marL="1523880" indent="-87120">
              <a:spcBef>
                <a:spcPts val="601"/>
              </a:spcBef>
              <a:buClr>
                <a:srgbClr val="00008a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5" marL="1523880" indent="-87120">
              <a:spcBef>
                <a:spcPts val="601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6" marL="1523880" indent="-87120">
              <a:spcBef>
                <a:spcPts val="601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rcRect l="4108" t="5478" r="49299" b="73949"/>
          <a:stretch/>
        </p:blipFill>
        <p:spPr>
          <a:xfrm>
            <a:off x="7848720" y="81000"/>
            <a:ext cx="1238040" cy="4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12000" y="6597720"/>
            <a:ext cx="234000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808080"/>
                </a:solidFill>
                <a:latin typeface="Futura Lt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31280" y="6597720"/>
            <a:ext cx="55803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808080"/>
                </a:solidFill>
                <a:latin typeface="Futura Lt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51640" y="6597720"/>
            <a:ext cx="3603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808080"/>
                </a:solidFill>
                <a:latin typeface="Futura Lt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p. </a:t>
            </a:r>
            <a:fld id="{4F5DE3A7-DECE-41F3-9CA7-FCAF43A276C5}" type="slidenum"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136000" y="0"/>
            <a:ext cx="865080" cy="512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cc"/>
                </a:solidFill>
                <a:latin typeface="Verdana"/>
              </a:rPr>
              <a:t>Communications</a:t>
            </a:r>
            <a:br>
              <a:rPr sz="800"/>
            </a:br>
            <a:r>
              <a:rPr b="0" lang="en-US" sz="800" spc="-1" strike="noStrike">
                <a:solidFill>
                  <a:srgbClr val="ffffcc"/>
                </a:solidFill>
                <a:latin typeface="Verdana"/>
              </a:rPr>
              <a:t>Research </a:t>
            </a:r>
            <a:br>
              <a:rPr sz="800"/>
            </a:br>
            <a:r>
              <a:rPr b="0" lang="en-US" sz="800" spc="-1" strike="noStrike">
                <a:solidFill>
                  <a:srgbClr val="ffffcc"/>
                </a:solidFill>
                <a:latin typeface="Verdana"/>
              </a:rPr>
              <a:t>Network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57240" y="3048120"/>
            <a:ext cx="4876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Md BT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7" name=""/>
          <p:cNvSpPr/>
          <p:nvPr/>
        </p:nvSpPr>
        <p:spPr>
          <a:xfrm>
            <a:off x="431640" y="6597720"/>
            <a:ext cx="4140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© 2005 The Communications Research Network.  All rights reserved.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55640" y="512640"/>
            <a:ext cx="2952720" cy="1297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ommunications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Research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Networ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4460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2" marL="808200" algn="ctr">
              <a:spcBef>
                <a:spcPts val="400"/>
              </a:spcBef>
              <a:buClr>
                <a:srgbClr val="00008a"/>
              </a:buClr>
              <a:buSzPct val="13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Md BT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3" marL="1166760" algn="ctr">
              <a:spcBef>
                <a:spcPts val="349"/>
              </a:spcBef>
              <a:buClr>
                <a:srgbClr val="00008a"/>
              </a:buClr>
              <a:buFont typeface="Trebuchet MS"/>
              <a:buChar char="◦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Md B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Futura Md BT"/>
            </a:endParaRPr>
          </a:p>
          <a:p>
            <a:pPr lvl="4" marL="1436760" algn="ctr">
              <a:spcBef>
                <a:spcPts val="300"/>
              </a:spcBef>
              <a:buClr>
                <a:srgbClr val="00008a"/>
              </a:buClr>
              <a:buFont typeface="Trebuchet MS"/>
              <a:buChar char="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Futura Md BT"/>
            </a:endParaRPr>
          </a:p>
          <a:p>
            <a:pPr lvl="5" marL="1436760">
              <a:spcBef>
                <a:spcPts val="300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Futura Md BT"/>
            </a:endParaRPr>
          </a:p>
          <a:p>
            <a:pPr lvl="6" marL="1436760">
              <a:spcBef>
                <a:spcPts val="300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68360" y="3047760"/>
            <a:ext cx="7166160" cy="20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Md BT"/>
              </a:rPr>
              <a:t>The Communications Research Network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Futura Md BT"/>
              </a:rPr>
              <a:t>Review, 26/2/06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Futura Md BT"/>
              </a:rPr>
              <a:t>Jon Crowcroft</a:t>
            </a:r>
            <a:endParaRPr b="1" lang="en-US" sz="2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7" name=""/>
          <p:cNvSpPr/>
          <p:nvPr/>
        </p:nvSpPr>
        <p:spPr>
          <a:xfrm>
            <a:off x="4067280" y="5877000"/>
            <a:ext cx="44956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Outline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1640" y="1520640"/>
            <a:ext cx="82807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Md BT"/>
              </a:rPr>
              <a:t>A CMI* and Industry led initiative to:</a:t>
            </a:r>
            <a:endParaRPr b="0" lang="en-US" sz="2800" spc="-1" strike="noStrike">
              <a:solidFill>
                <a:srgbClr val="000000"/>
              </a:solidFill>
              <a:latin typeface="Futura Md BT"/>
            </a:endParaRPr>
          </a:p>
          <a:p>
            <a:pPr marL="242640" indent="-242640">
              <a:spcBef>
                <a:spcPts val="700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Md BT"/>
              </a:rPr>
              <a:t>Create the definitive forum for research and study into the future of the telecommunications industry; taking into account, economic, legal, regulatory and social aspects in addition to technology.</a:t>
            </a:r>
            <a:endParaRPr b="0" lang="en-US" sz="2800" spc="-1" strike="noStrike">
              <a:solidFill>
                <a:srgbClr val="000000"/>
              </a:solidFill>
              <a:latin typeface="Futura Md BT"/>
            </a:endParaRPr>
          </a:p>
          <a:p>
            <a:pPr marL="242640" indent="-242640">
              <a:spcBef>
                <a:spcPts val="700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Md BT"/>
              </a:rPr>
              <a:t>Become the focus of strategic thinking in communications</a:t>
            </a:r>
            <a:endParaRPr b="0" lang="en-US" sz="2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90" name=""/>
          <p:cNvSpPr/>
          <p:nvPr/>
        </p:nvSpPr>
        <p:spPr>
          <a:xfrm>
            <a:off x="383760" y="5408640"/>
            <a:ext cx="648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Supported by a CRN led academic research programm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with leading European and US Universiti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3880" y="6340320"/>
            <a:ext cx="239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The Cambridge MIT Institut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5D6E-A75B-4065-A4C7-0C0C575C89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 rot="5400000">
            <a:off x="6877080" y="2205000"/>
            <a:ext cx="71928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7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5508720" y="3500280"/>
            <a:ext cx="1008000" cy="719280"/>
          </a:xfrm>
          <a:prstGeom prst="rightArrow">
            <a:avLst>
              <a:gd name="adj1" fmla="val 50000"/>
              <a:gd name="adj2" fmla="val 35035"/>
            </a:avLst>
          </a:prstGeom>
          <a:solidFill>
            <a:srgbClr val="e7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5508720" y="5013360"/>
            <a:ext cx="1008000" cy="719280"/>
          </a:xfrm>
          <a:prstGeom prst="rightArrow">
            <a:avLst>
              <a:gd name="adj1" fmla="val 50000"/>
              <a:gd name="adj2" fmla="val 35035"/>
            </a:avLst>
          </a:prstGeom>
          <a:solidFill>
            <a:srgbClr val="e7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2932200"/>
            <a:ext cx="1800000" cy="3286080"/>
          </a:xfrm>
          <a:prstGeom prst="rect">
            <a:avLst/>
          </a:prstGeom>
          <a:solidFill>
            <a:srgbClr val="e7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2924280"/>
            <a:ext cx="4753080" cy="3717720"/>
          </a:xfrm>
          <a:prstGeom prst="rect">
            <a:avLst/>
          </a:prstGeom>
          <a:solidFill>
            <a:srgbClr val="e7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1619280" y="2205000"/>
            <a:ext cx="71928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7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2560" y="1413000"/>
            <a:ext cx="7921800" cy="1195200"/>
          </a:xfrm>
          <a:prstGeom prst="rect">
            <a:avLst/>
          </a:prstGeom>
          <a:solidFill>
            <a:srgbClr val="e7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-1080"/>
            <a:ext cx="7667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CRN – a major vehicle for Strategic thinking in Communications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0" name=""/>
          <p:cNvSpPr/>
          <p:nvPr/>
        </p:nvSpPr>
        <p:spPr>
          <a:xfrm>
            <a:off x="1233360" y="3249720"/>
            <a:ext cx="154008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Research Programm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Long term, shared IPR for Found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16720" y="4975200"/>
            <a:ext cx="153972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Suppor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Web sit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Newslet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DTI workshop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90840" y="5481720"/>
            <a:ext cx="154008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Ad Hoc Research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Projects for specific organisa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90840" y="3249720"/>
            <a:ext cx="154008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Events &amp; Cours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Open to Members &amp; Non-Me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59200" y="1467000"/>
            <a:ext cx="153972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Non-Member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Ad hoc researc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Quota for events &amp;cour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5840" y="2889360"/>
            <a:ext cx="43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Context for Innovation, Research and Networkin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16720" y="3429000"/>
            <a:ext cx="153972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Mone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Membership Fees,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Government Gra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Ad Hoc Researc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42920" y="1467000"/>
            <a:ext cx="154008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Member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Founders  Associa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Access to IPR et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75560" y="1467000"/>
            <a:ext cx="153972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Government Grant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28400" y="29973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Resource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82080" y="1108080"/>
            <a:ext cx="192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Industry Participant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33360" y="5481720"/>
            <a:ext cx="154008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Working</a:t>
            </a:r>
            <a:br>
              <a:rPr sz="1600"/>
            </a:b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Group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Regular industry academic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4365720"/>
            <a:ext cx="172872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Communications</a:t>
            </a:r>
            <a:br>
              <a:rPr sz="1600"/>
            </a:b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Roadmap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Regular flagship</a:t>
            </a:r>
            <a:br>
              <a:rPr sz="1200"/>
            </a:b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publica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EB60-7B97-4F3A-BD97-971326C5FE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Working Groups…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31280" y="1449000"/>
            <a:ext cx="4064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utura Md BT"/>
              </a:rPr>
              <a:t>Are interface between research and industry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Research mostly in University partners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Mainly PhD students so far plus collab with other projects in Unis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Industry/Governemnt/Academia Together, set agenda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Avoid Academic being too short term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Lets industry have say in long term and access output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utura Md BT"/>
              </a:rPr>
              <a:t>Outputs are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Roadmap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Requirements for research projects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Reports from research projects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449000"/>
            <a:ext cx="4064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utura Md BT"/>
              </a:rPr>
              <a:t>Modus Operandi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Not one size fits all, but mainly:-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F2F meetings every couple of months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Telecon every couple of weeks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utura Md BT"/>
              </a:rPr>
              <a:t>Current active group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DOS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Spectrum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Inter-domain routing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Photonics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utura Md BT"/>
              </a:rPr>
              <a:t>Current Projects (examples)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Input (e.g. via GENI to revised Internet Architecture 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Spectrum roadmap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BGP replacement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Internet Pricing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utura Md BT"/>
              </a:rPr>
              <a:t>Explorations in Car and Care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4E5B-0000-4B60-9825-E5D2CB7E42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Spectrum work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Cambridge work on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Mobile Ad Hoc Routing (LGF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Practical Ad Hoc Deployment (Taxi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Incentive routing and deployment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Cambridge/MIT work on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Spectrum Policy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Opportunistic Coding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07B1-2E91-4857-8458-D9D345727C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Interdomain Routing Work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LINX v. Tim Griffin &amp; Sid Chau, Kengo Nagasaki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Measurement work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Meta-routing relation algebra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Use for VPN, Overlay, Multipath, TE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Liason with Gadi et al in Routese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59A7-2CA0-43F8-8FDB-A7D95C841E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Publications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31280" y="1449000"/>
            <a:ext cx="4064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17064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ndmark Guided Forwarding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m Meng How, Adam Greenhalgh, Julian Chesterfield, Jon Crowcroft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CNP 2005: 169-178, Boston, USA, Nov 2005.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170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n Spectrum:. Economic and Policy Research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lliam Lehr, Jon Crowcroft, DySpan 2005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170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wards commercial mobile ad hoc network applications: a radio dispatch system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gan Huang, Wenjun Hu, Jon Crowcroft, Ian Wassell: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biHoc 2005: 355-365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170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igilante: end-to-end containment of internet worms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uel Costa, Jon Crowcroft, Miguel Castro, Antony I. T. Rowstron, Lidong Zhou, Lintao Zhang, Paul T. Barham: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SP 2005: 133-147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170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Practical Approach for 4G Systems: Deployment of Overlay Networks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blo Vidales, Glenford Mapp, Frank Stajano, Jon Crowcroft, Carlos Jesus Bernardos  TRIDENTCOM 2005: 172-181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2" marL="631800" indent="-114480">
              <a:lnSpc>
                <a:spcPct val="90000"/>
              </a:lnSpc>
              <a:spcBef>
                <a:spcPts val="300"/>
              </a:spcBef>
              <a:buClr>
                <a:srgbClr val="00008a"/>
              </a:buClr>
              <a:buSzPct val="13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endParaRPr b="0" lang="en-US" sz="1200" spc="-1" strike="noStrike">
              <a:solidFill>
                <a:srgbClr val="000000"/>
              </a:solidFill>
              <a:latin typeface="Futura Md BT"/>
            </a:endParaRPr>
          </a:p>
          <a:p>
            <a:pPr lvl="3" marL="804600" indent="-57960">
              <a:lnSpc>
                <a:spcPct val="90000"/>
              </a:lnSpc>
              <a:spcBef>
                <a:spcPts val="249"/>
              </a:spcBef>
              <a:buClr>
                <a:srgbClr val="00008a"/>
              </a:buClr>
              <a:buFont typeface="Trebuchet MS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Symbol"/>
                <a:ea typeface="Symbol"/>
              </a:rPr>
              <a:t></a:t>
            </a:r>
            <a:r>
              <a:rPr b="1" lang="en-GB" sz="1000" spc="-1" strike="noStrike">
                <a:solidFill>
                  <a:srgbClr val="ffffcc"/>
                </a:solidFill>
                <a:latin typeface="Arial"/>
              </a:rPr>
              <a:t>Internet Routing Policies and Round-Trip-Times</a:t>
            </a: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1000"/>
            </a:b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Han Zheng, Eng Keong Lua, Marcelo Pias, and Timothy G. Griffin </a:t>
            </a:r>
            <a:br>
              <a:rPr sz="1000"/>
            </a:b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in the Proceedings of the Passive &amp; Active Measurement Workshop 2005 March 2005, Boston, MA </a:t>
            </a:r>
            <a:br>
              <a:rPr sz="1000"/>
            </a:b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(to appear)</a:t>
            </a:r>
            <a:endParaRPr b="0" lang="en-US" sz="1000" spc="-1" strike="noStrike">
              <a:solidFill>
                <a:srgbClr val="000000"/>
              </a:solidFill>
              <a:latin typeface="Futura Md BT"/>
            </a:endParaRPr>
          </a:p>
          <a:p>
            <a:pPr lvl="3" marL="804600" indent="-5796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0008a"/>
              </a:buClr>
              <a:buFont typeface="Trebuchet MS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BarterRoam: A Novel Mobile and Wireless Roaming Settlement Model. 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ng Keong Lua, Alex Lin, Jon Crowcroft, Valerie Tan: 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ofIS 2004: 348-357 </a:t>
            </a:r>
            <a:endParaRPr b="0" lang="en-US" sz="1000" spc="-1" strike="noStrike">
              <a:solidFill>
                <a:srgbClr val="000000"/>
              </a:solidFill>
              <a:latin typeface="Futura Md BT"/>
            </a:endParaRPr>
          </a:p>
          <a:p>
            <a:pPr lvl="3" marL="804600" indent="-57960">
              <a:lnSpc>
                <a:spcPct val="90000"/>
              </a:lnSpc>
              <a:spcBef>
                <a:spcPts val="249"/>
              </a:spcBef>
              <a:buClr>
                <a:srgbClr val="00008a"/>
              </a:buClr>
              <a:buFont typeface="Trebuchet MS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 case for all-wireless, dual-radio virtual sinks. 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hieh-Yih Wan, Andrew T. Campbell, Jon Crowcroft: 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CM SynSys 2004: 267-268 </a:t>
            </a:r>
            <a:endParaRPr b="0" lang="en-US" sz="1000" spc="-1" strike="noStrike">
              <a:solidFill>
                <a:srgbClr val="000000"/>
              </a:solidFill>
              <a:latin typeface="Futura Md BT"/>
            </a:endParaRPr>
          </a:p>
          <a:p>
            <a:pPr lvl="3" marL="804600" indent="-57960">
              <a:lnSpc>
                <a:spcPct val="90000"/>
              </a:lnSpc>
              <a:spcBef>
                <a:spcPts val="249"/>
              </a:spcBef>
              <a:buClr>
                <a:srgbClr val="00008a"/>
              </a:buClr>
              <a:buFont typeface="Trebuchet MS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thinking incentives for mobile ad hoc networks 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lgan Huang, Jon Crowcroft, Ian Wassell 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ceedings of the ACM SIGCOMM workshop on Practice and theory of incentives in networked systems, Portland, Oregon, USA , August 2004 </a:t>
            </a:r>
            <a:endParaRPr b="0" lang="en-US" sz="1000" spc="-1" strike="noStrike">
              <a:solidFill>
                <a:srgbClr val="000000"/>
              </a:solidFill>
              <a:latin typeface="Futura Md BT"/>
            </a:endParaRPr>
          </a:p>
          <a:p>
            <a:pPr marL="170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7960" y="1449000"/>
            <a:ext cx="4064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26440" indent="-22644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Importance of Being Opportunistic: Practical Network Coding For Wireless Environment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chin Katti, Dina Katabi, Wenjun Hu, Hariharan Rahul, and Muriel Medard, Allerton, 2005.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2644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tical Network Packet Error-Rate due to Physical Layer Cod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rew W. Moore, Laura B. James, Madeleine Glick, Adrian Wonfor, Richard Plumb, Ian H. White, Derek McAuley, and Richard V. Penty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EEE/OSA Journal of Lightwave Technology,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olume 23, Number 10, Oct, 2005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26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Main Name System: An exercise in centralized comput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 Deegan, Jon Crowcroft and Andrew Warfield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M SIGCOMM CCR, Vol. 35, No. 5, Pages 5-13, October 2005.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26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9DE6-5F48-47FC-B285-3ECCA7E713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More Publications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31280" y="1449000"/>
            <a:ext cx="4064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05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timizing data layout for delay-line memor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on Crowcroft and Tim Deegan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ctronics Letters Vol. 41, No. 6, Pages 358-359, March 2005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05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ploiting Diversity to Enhance Multimedia Streaming Over Cellular Link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lian Chesterfield, Rajiv Chakravorty, Ian Pratt, Suman Banerjee, Pablo Rodriguez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e proceedings of IEEE INFOCOM, March 2005, Miami, FL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052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(t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timizing data layout for delay-line memor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on Crowcroft and Tim Deegan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ctronics Letters Vol. 41, No. 6, Pages 358-359, March 2005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483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xploiting Diversity to Enhance Multimedia Streaming Over Cellular Link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ulian Chesterfield, Rajiv Chakravorty, Ian Pratt, Suman Banerjee, Pablo Rodriguez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the proceedings of IEEE INFOCOM, March 2005, Miami, FL 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</a:rPr>
              <a:t>pear)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3" marL="968040" indent="-6984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0008a"/>
              </a:buClr>
              <a:buFont typeface="Trebuchet MS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BarterRoam: A Novel Mobile and Wireless Roaming Settlement Model. 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ng Keong Lua, Alex Lin, Jon Crowcroft, Valerie Tan: 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ofIS 2004: 348-357 </a:t>
            </a:r>
            <a:endParaRPr b="0" lang="en-US" sz="1000" spc="-1" strike="noStrike">
              <a:solidFill>
                <a:srgbClr val="000000"/>
              </a:solidFill>
              <a:latin typeface="Futura Md BT"/>
            </a:endParaRPr>
          </a:p>
          <a:p>
            <a:pPr lvl="3" marL="968040" indent="-69840">
              <a:lnSpc>
                <a:spcPct val="90000"/>
              </a:lnSpc>
              <a:spcBef>
                <a:spcPts val="249"/>
              </a:spcBef>
              <a:buClr>
                <a:srgbClr val="00008a"/>
              </a:buClr>
              <a:buFont typeface="Trebuchet MS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000" spc="-1" strike="noStrike">
              <a:solidFill>
                <a:srgbClr val="000000"/>
              </a:solidFill>
              <a:latin typeface="Futura Md BT"/>
            </a:endParaRPr>
          </a:p>
          <a:p>
            <a:pPr marL="205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7960" y="1449000"/>
            <a:ext cx="4064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0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case for all-wireless, dual-radio virtual sinks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ieh-Yih Wan, Andrew T. Campbell, Jon Crowcroft: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M SynSys 2004: 267-268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50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thinking incentives for mobile ad hoc networks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gan Huang, Jon Crowcroft, Ian Wassell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ceedings of the ACM SIGCOMM workshop on Practice and theory of incentives in networked systems, Portland, Oregon, USA , August 2004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50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LTACAST - Efficient File Reconciliation in Wireless Broadcast System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lian Chesterfield and Pablo Rodriguez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e Proceedings of MOBISYS, June 2005, Seattle, WA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50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0D4B-2FE7-4467-9A95-1F488869C2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Agenda Setting &amp; Influence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31280" y="1449000"/>
            <a:ext cx="4064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E.g. Dyspan panel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Running Sruti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Running Ubicomp Security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Running WiOpt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Etc. etc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7960" y="1449000"/>
            <a:ext cx="4064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Talking to Pitcom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Press release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Liason with other similar inst.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MVCE, SFI, etc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D1A5-84D9-4F0E-A31A-92C62374D3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10:14:09Z</dcterms:created>
  <dc:creator>has27</dc:creator>
  <dc:description/>
  <dc:language>en-US</dc:language>
  <cp:lastModifiedBy>Jon Crowcroft</cp:lastModifiedBy>
  <dcterms:modified xsi:type="dcterms:W3CDTF">2006-02-19T09:26:57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38666097</vt:r8>
  </property>
  <property fmtid="{D5CDD505-2E9C-101B-9397-08002B2CF9AE}" pid="3" name="_AuthorEmail">
    <vt:lpwstr>ejmurphy@ntlworld.com</vt:lpwstr>
  </property>
  <property fmtid="{D5CDD505-2E9C-101B-9397-08002B2CF9AE}" pid="4" name="_AuthorEmailDisplayName">
    <vt:lpwstr>Eddie Murphy</vt:lpwstr>
  </property>
  <property fmtid="{D5CDD505-2E9C-101B-9397-08002B2CF9AE}" pid="5" name="_EmailSubject">
    <vt:lpwstr>CRN member recruitment</vt:lpwstr>
  </property>
</Properties>
</file>