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6B7-7EEB-4C08-A854-360D8CDD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54B-BAF2-44E4-95FD-8B10C57E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5FE-666D-4930-9295-E1FF1196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BCD-5AF2-4765-8F75-B9F204E0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C70A-76B4-409D-AA4C-B4D5849A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C91-1518-437D-82A9-26F50204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8D7-0160-4744-8602-D742D7EB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013-4CFD-4E8C-B575-7D678349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672-DA94-479B-A73D-34065537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7DE-691C-4265-83B4-732372A3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577-643E-4192-9B2F-1128C1F0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DC2-9446-4B57-B88D-4ED3CBD8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78" r="0" b="68472"/>
          <a:stretch/>
        </p:blipFill>
        <p:spPr>
          <a:xfrm>
            <a:off x="0" y="0"/>
            <a:ext cx="9144000" cy="178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2" marL="987480" indent="-179280">
              <a:spcBef>
                <a:spcPts val="601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3" marL="1257480" indent="-90720">
              <a:spcBef>
                <a:spcPts val="601"/>
              </a:spcBef>
              <a:buClr>
                <a:srgbClr val="00008a"/>
              </a:buClr>
              <a:buFont typeface="Trebuchet MS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4" marL="1523880" indent="-87120">
              <a:spcBef>
                <a:spcPts val="601"/>
              </a:spcBef>
              <a:buClr>
                <a:srgbClr val="00008a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5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6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4108" t="5478" r="49299" b="73949"/>
          <a:stretch/>
        </p:blipFill>
        <p:spPr>
          <a:xfrm>
            <a:off x="7848720" y="81000"/>
            <a:ext cx="123804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12000" y="6597720"/>
            <a:ext cx="23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1280" y="6597720"/>
            <a:ext cx="55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1640" y="6597720"/>
            <a:ext cx="36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p. </a:t>
            </a:r>
            <a:fld id="{396FA8F6-4B61-448D-86E0-6F70DE42FB3D}" type="slidenum"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136000" y="0"/>
            <a:ext cx="865080" cy="512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Verdana"/>
              </a:rPr>
              <a:t>Communications</a:t>
            </a:r>
            <a:br>
              <a:rPr sz="800"/>
            </a:br>
            <a:r>
              <a:rPr b="0" lang="en-US" sz="800" spc="-1" strike="noStrike">
                <a:solidFill>
                  <a:srgbClr val="ffffcc"/>
                </a:solidFill>
                <a:latin typeface="Verdana"/>
              </a:rPr>
              <a:t>Research </a:t>
            </a:r>
            <a:br>
              <a:rPr sz="800"/>
            </a:br>
            <a:r>
              <a:rPr b="0" lang="en-US" sz="800" spc="-1" strike="noStrike">
                <a:solidFill>
                  <a:srgbClr val="ffffcc"/>
                </a:solidFill>
                <a:latin typeface="Verdana"/>
              </a:rPr>
              <a:t>Network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7" name=""/>
          <p:cNvSpPr/>
          <p:nvPr/>
        </p:nvSpPr>
        <p:spPr>
          <a:xfrm>
            <a:off x="431640" y="6597720"/>
            <a:ext cx="4140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© 2005 The Communications Research Network.  All rights reserved.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55640" y="512640"/>
            <a:ext cx="2952720" cy="1297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ommunications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Research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4460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2" marL="808200" algn="ctr">
              <a:spcBef>
                <a:spcPts val="4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1166760" algn="ctr">
              <a:spcBef>
                <a:spcPts val="349"/>
              </a:spcBef>
              <a:buClr>
                <a:srgbClr val="00008a"/>
              </a:buClr>
              <a:buFont typeface="Trebuchet MS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utura Md BT"/>
            </a:endParaRPr>
          </a:p>
          <a:p>
            <a:pPr lvl="4" marL="1436760" algn="ctr">
              <a:spcBef>
                <a:spcPts val="300"/>
              </a:spcBef>
              <a:buClr>
                <a:srgbClr val="00008a"/>
              </a:buClr>
              <a:buFont typeface="Trebuchet MS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5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6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8360" y="3047760"/>
            <a:ext cx="7166160" cy="20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The Communications Research Network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Review, 26/2/0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Jon Crowcrof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5877000"/>
            <a:ext cx="4495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Outlin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1640" y="1520640"/>
            <a:ext cx="8280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A CMI* and Industry led initiative to: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242640" indent="-242640">
              <a:spcBef>
                <a:spcPts val="700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Create the definitive forum for research and study into the future of the telecommunications industry; taking into account, economic, legal, regulatory and social aspects in addition to technology.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242640" indent="-242640">
              <a:spcBef>
                <a:spcPts val="700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Become the focus of strategic thinking in communications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0" name=""/>
          <p:cNvSpPr/>
          <p:nvPr/>
        </p:nvSpPr>
        <p:spPr>
          <a:xfrm>
            <a:off x="383760" y="5408640"/>
            <a:ext cx="64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Supported by a CRN led academic research program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with leading European and US Universit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880" y="634032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The Cambridge MIT Institu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94A-36B3-4F44-9A51-806D47D2AC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5400000">
            <a:off x="6877080" y="2205000"/>
            <a:ext cx="719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5508720" y="3500280"/>
            <a:ext cx="1008000" cy="719280"/>
          </a:xfrm>
          <a:prstGeom prst="rightArrow">
            <a:avLst>
              <a:gd name="adj1" fmla="val 50000"/>
              <a:gd name="adj2" fmla="val 35035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5508720" y="5013360"/>
            <a:ext cx="1008000" cy="719280"/>
          </a:xfrm>
          <a:prstGeom prst="rightArrow">
            <a:avLst>
              <a:gd name="adj1" fmla="val 50000"/>
              <a:gd name="adj2" fmla="val 35035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932200"/>
            <a:ext cx="1800000" cy="3286080"/>
          </a:xfrm>
          <a:prstGeom prst="rect">
            <a:avLst/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2924280"/>
            <a:ext cx="4753080" cy="3717720"/>
          </a:xfrm>
          <a:prstGeom prst="rect">
            <a:avLst/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1619280" y="2205000"/>
            <a:ext cx="719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1413000"/>
            <a:ext cx="7921800" cy="1195200"/>
          </a:xfrm>
          <a:prstGeom prst="rect">
            <a:avLst/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1080"/>
            <a:ext cx="7667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RN – a major vehicle for Strategic thinking in Communicatio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0" name=""/>
          <p:cNvSpPr/>
          <p:nvPr/>
        </p:nvSpPr>
        <p:spPr>
          <a:xfrm>
            <a:off x="1233360" y="3249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search Programm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Long term, shared IPR for Found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49752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Suppor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Web si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Newsle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DTI worksh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90840" y="5481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d Hoc Researc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Projects for specific organis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840" y="3249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Events &amp; Cours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Open to Members &amp; Non-Me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59200" y="14670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Non-Member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d hoc resear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Quota for events &amp;cour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5840" y="2889360"/>
            <a:ext cx="43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Context for Innovation, Research and Network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34290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Mone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Membership Fees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Government Gra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d Hoc Resear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46700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Member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Founders  Associ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ccess to IPR et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75560" y="14670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Government Grant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28400" y="29973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sourc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82080" y="11080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Industry Participan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33360" y="5481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Working</a:t>
            </a:r>
            <a:br>
              <a:rPr sz="1600"/>
            </a:b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Group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gular industry academic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4365720"/>
            <a:ext cx="1728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Communications</a:t>
            </a:r>
            <a:br>
              <a:rPr sz="1600"/>
            </a:b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oadma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gular flagship</a:t>
            </a:r>
            <a:br>
              <a:rPr sz="1200"/>
            </a:b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public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5BE-8471-46D4-B0B5-52D6E0B9C9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Working Groups…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Are interface between research and industry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esearch mostly in University partner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Mainly PhD students so far plus collab with other projects in Uni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dustry/Governemnt/Academia Together, set agenda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Avoid Academic being too short term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Lets industry have say in long term and access output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Outputs are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equirements for research project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eports from research project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Modus Operandi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Not one size fits all, but mainly:-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F2F meetings every couple of month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Telecon every couple of week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Current active group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DO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Spectrum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ter-domain routing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Photonic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Current Projects (examples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put (e.g. via GENI to revised Internet Architecture 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Spectrum roadmap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BGP replacement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ternet Pricing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Explorations in Car and Care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DCC-5083-4D9C-9FCF-8EDAA94732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Spectrum work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mbridge work o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obile Ad Hoc Routing (LGF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ractical Ad Hoc Deployment (Taxi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Incentive routing and deploymen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mbridge/MIT work o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pectrum Polic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Opportunistic Coding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B4A-A083-4703-9728-731F47374D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terdomain Routing Work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LINX v. Tim Griffin &amp; Sid Chau, Kengo Nagasaki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asurement work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ta-routing relation algebra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Use for VPN, Overlay, Multipath, T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Liason with Gadi et al in Routese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3EA-CA1A-4172-AB49-721B8B1F78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Publicatio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17064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dmark Guided Forwarding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 Meng How, Adam Greenhalgh, Julian Chesterfield, Jon Crowcroft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NP 2005: 169-178, Boston, USA, Nov 2005.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n Spectrum:. Economic and Policy Research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iam Lehr, Jon Crowcroft, DySpan 2005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wards commercial mobile ad hoc network applications: a radio dispatch system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gan Huang, Wenjun Hu, Jon Crowcroft, Ian Wassell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Hoc 2005: 355-365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gilante: end-to-end containment of internet worms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uel Costa, Jon Crowcroft, Miguel Castro, Antony I. T. Rowstron, Lidong Zhou, Lintao Zhang, Paul T. Barham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SP 2005: 133-147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Practical Approach for 4G Systems: Deployment of Overlay Networks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blo Vidales, Glenford Mapp, Frank Stajano, Jon Crowcroft, Carlos Jesus Bernardos  TRIDENTCOM 2005: 172-181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2" marL="631800" indent="-114480">
              <a:lnSpc>
                <a:spcPct val="90000"/>
              </a:lnSpc>
              <a:spcBef>
                <a:spcPts val="3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ffffcc"/>
                </a:solidFill>
                <a:latin typeface="Arial"/>
              </a:rPr>
              <a:t>Internet Routing Policies and Round-Trip-Times</a:t>
            </a: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1000"/>
            </a:b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Han Zheng, Eng Keong Lua, Marcelo Pias, and Timothy G. Griffin </a:t>
            </a:r>
            <a:br>
              <a:rPr sz="1000"/>
            </a:b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in the Proceedings of the Passive &amp; Active Measurement Workshop 2005 March 2005, Boston, MA </a:t>
            </a:r>
            <a:br>
              <a:rPr sz="1000"/>
            </a:b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(to appear)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arterRoam: A Novel Mobile and Wireless Roaming Settlement Model.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g Keong Lua, Alex Lin, Jon Crowcroft, Valerie Tan: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ofIS 2004: 348-357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case for all-wireless, dual-radio virtual sinks.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hieh-Yih Wan, Andrew T. Campbell, Jon Crowcroft: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CM SynSys 2004: 267-268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hinking incentives for mobile ad hoc networks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lgan Huang, Jon Crowcroft, Ian Wassell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ceedings of the ACM SIGCOMM workshop on Practice and theory of incentives in networked systems, Portland, Oregon, USA , August 2004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26440" indent="-22644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Importance of Being Opportunistic: Practical Network Coding For Wireless Environmen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chin Katti, Dina Katabi, Wenjun Hu, Hariharan Rahul, and Muriel Medard, Allerton, 2005.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2644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cal Network Packet Error-Rate due to Physical Layer Co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rew W. Moore, Laura B. James, Madeleine Glick, Adrian Wonfor, Richard Plumb, Ian H. White, Derek McAuley, and Richard V. Pent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EEE/OSA Journal of Lightwave Technology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ume 23, Number 10, Oct, 2005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2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ain Name System: An exercise in centralized compu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 Deegan, Jon Crowcroft and Andrew Warfield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M SIGCOMM CCR, Vol. 35, No. 5, Pages 5-13, October 2005.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2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333-7417-4448-9A53-BDC1D28CA5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re Publicatio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05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izing data layout for delay-line memo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n Crowcroft and Tim Deegan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nics Letters Vol. 41, No. 6, Pages 358-359, March 2005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05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oiting Diversity to Enhance Multimedia Streaming Over Cellular Link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ian Chesterfield, Rajiv Chakravorty, Ian Pratt, Suman Banerjee, Pablo Rodriguez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proceedings of IEEE INFOCOM, March 2005, Miami, FL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052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(t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izing data layout for delay-line memo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n Crowcroft and Tim Deegan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nics Letters Vol. 41, No. 6, Pages 358-359, March 2005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48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ploiting Diversity to Enhance Multimedia Streaming Over Cellular Link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ulian Chesterfield, Rajiv Chakravorty, Ian Pratt, Suman Banerjee, Pablo Rodriguez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e proceedings of IEEE INFOCOM, March 2005, Miami, FL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pear)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968040" indent="-69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arterRoam: A Novel Mobile and Wireless Roaming Settlement Model.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g Keong Lua, Alex Lin, Jon Crowcroft, Valerie Tan: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ofIS 2004: 348-357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968040" indent="-6984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marL="205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case for all-wireless, dual-radio virtual sinks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ieh-Yih Wan, Andrew T. Campbell, Jon Crowcroft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M SynSys 2004: 267-268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thinking incentives for mobile ad hoc network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gan Huang, Jon Crowcroft, Ian Wassell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edings of the ACM SIGCOMM workshop on Practice and theory of incentives in networked systems, Portland, Oregon, USA , August 2004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LTACAST - Efficient File Reconciliation in Wireless Broadcast Syste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ian Chesterfield and Pablo Rodriguez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Proceedings of MOBISYS, June 2005, Seattle, WA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A1F-04B5-4FEC-9A4E-AD2FB5F484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Agenda Setting &amp; Influenc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.g. Dyspan pan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Running Sruti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Running Ubicomp Securit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Running WiOp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tc. et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Talking to Pitcom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ress releas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Liason with other similar inst.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MVCE, SFI, etc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99F-00BD-47B3-9450-EBD62971B6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6-02-19T09:26:57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38666097</vt:r8>
  </property>
  <property fmtid="{D5CDD505-2E9C-101B-9397-08002B2CF9AE}" pid="3" name="_AuthorEmail">
    <vt:lpwstr>ejmurphy@ntlworld.com</vt:lpwstr>
  </property>
  <property fmtid="{D5CDD505-2E9C-101B-9397-08002B2CF9AE}" pid="4" name="_AuthorEmailDisplayName">
    <vt:lpwstr>Eddie Murphy</vt:lpwstr>
  </property>
  <property fmtid="{D5CDD505-2E9C-101B-9397-08002B2CF9AE}" pid="5" name="_EmailSubject">
    <vt:lpwstr>CRN member recruitment</vt:lpwstr>
  </property>
</Properties>
</file>