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81B-CE05-4E0F-8566-00B1680F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204E-A452-452F-AE9C-57EB8F6B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2DDF-69B7-42A3-BF0F-B2562149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0FC-ED24-462A-A1F4-15EFA2EB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862B-F848-469B-9DE5-8E0F6156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07D4-0897-4B16-A8B9-8C1D9DEA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8DEB-C358-45CB-8FF1-52B0CD63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907B-579F-4552-9E23-16AE7362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0062-B47E-43E6-A6AD-1A52691B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F3E3-0BB7-4AF9-A778-1D13EB9A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C962-E261-4C69-A313-AD953327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3F6C-ACE8-4D78-8089-142560D5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E060-C1C2-4586-93B3-2CE37540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8EFF-D695-449A-A1D3-B1D32351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DD11-B2BC-4F4F-8323-836AEF88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B724-B6E9-4521-AE4E-5B12C111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71F1-5F23-4ED6-AC55-2909406B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3D4-FD67-467A-AA94-0353471C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E02-0F52-4B1A-89A1-AFD6DC51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0BE-057F-4C76-8AE2-76580DA3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3093-CF91-4D2F-8F38-45DF2E40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01E0-A20C-4679-9130-7B93156D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A69-FDE5-4C01-9763-0EB7306D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7F5-C858-453B-BFED-84C9849A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2547-09BB-4FF5-9B62-2D89B47F015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E4D4-6640-41D8-98BA-DFA35A382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97F0-D177-404B-9A3E-DA8A2ACCAE0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A8D0-E1AC-4366-81F6-3C226178F0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(Nearly) MAC-less MANETs?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’s proposal -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s when we got rid of x.25 layer 3 and 2 reliabilty and flow control when we found TCP over IP over X.25 was very, very b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e for TCP/IP over A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gnore MPLS:-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lso, amateur packet radio X.25 (phil karn’s KA9Q code) could disable tcp functions if ax25 layer did work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blem of 2 different Timescal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(alt) TCP-less MA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B139-BC1E-4BD2-9613-FD4B9760BD2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3B63C-33F4-450C-9B00-C190F65F026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Broadband ques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teby, a hamlet about 15km outside Katrineholm, Sörm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ia, versus Tyfon versus SB Broadban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L v. WiMAX v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ideas … :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flashearth.com/?lat=58.994309&amp;lon=16.404535&amp;z=14.7&amp;r=0&amp;src=gg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n.crowcroft@cl.cam.ac.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109-49C2-480E-BFDA-605636D6F85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F8A6E-069E-4DC3-AA7E-75667109BA3B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jon crowcroft</cp:lastModifiedBy>
  <cp:lastPrinted>1904-01-01T00:00:00Z</cp:lastPrinted>
  <dcterms:modified xsi:type="dcterms:W3CDTF">2007-05-02T15:41:55Z</dcterms:modified>
  <cp:revision>14</cp:revision>
  <dc:subject/>
  <dc:title>General</dc:title>
</cp:coreProperties>
</file>