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939EC-C425-428A-9723-2437B7196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8A2D3-D27B-4C80-B5AD-52DFDB1D6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94041-B897-45F7-8137-F83279BF4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222BE-2023-4953-9278-09C73B0B8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AFBE3-9482-4D7B-897B-370E525E0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AC4F3-5011-4148-9F0F-29A92E65A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1D80F-C848-4150-8D66-331217FAF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DD718-512D-4FF8-B06E-E3848BEA4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8C9F8-88DE-4DAB-AA71-6A3B3A33C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88FD2-5373-4D00-8D35-EB1030A4F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84075-BF89-479A-A106-D4BCDAC29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AD0F9-AE3D-4FCC-B323-04D21734C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BCE6B-F72A-467D-A155-07C227E78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BA3C5-CFF6-4758-B666-70C314622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9FB65-7959-4D84-95F8-4BE419186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CB8C8-67AD-4A1D-AD1B-100777EA4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6E2A2-6D98-4DDA-835F-5E20DC368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D149C-481D-4B4F-8622-2A35571DE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7D152-2665-4719-9DA8-DA57C4868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75C46-53B0-47A6-97D5-EB8367D1F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AAE22-65AB-465F-8BFF-48B4AAFC9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4D22D-B01E-43C6-A630-64DA518B6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9525C-E63D-410A-A3DB-E06A3F0A7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C26A9-C5ED-4088-BC8E-6F3B4C989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6920" y="843120"/>
            <a:ext cx="5793840" cy="1202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E596F-DEA9-4FBC-B189-75487402A4BD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12FC8-E746-4FA1-AE1F-4635641AAB8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6920" y="843120"/>
            <a:ext cx="5793840" cy="1202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1" lang="en-US" sz="6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4FC26-D2C2-4AFA-995C-801306CA0D1F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AA574-2013-4D9D-B6F2-63364D7C528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(Nearly) MAC-less MANETs?</a:t>
            </a: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on’s proposal -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as when we got rid of x.25 layer 3 and 2 reliabilty and flow control when we found TCP over IP over X.25 was very, very ba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ame for TCP/IP over ATM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ignore MPLS:-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e also, amateur packet radio X.25 (phil karn’s KA9Q code) could disable tcp functions if ax25 layer did work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problem of 2 different Timescales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r (alt) TCP-less MANE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C87D5-F1D6-4F92-BFA3-AA138CAED9EC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F5A629-501F-44CA-B411-C64A942C7B6E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Broadband question</a:t>
            </a: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peteby, a hamlet about 15km outside Katrineholm, Sörml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lia, versus Tyfon versus SB Broadband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SL v. WiMAX v 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y ideas … :-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ttp://www.flashearth.com/?lat=58.994309&amp;lon=16.404535&amp;z=14.7&amp;r=0&amp;src=gg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on.crowcroft@cl.cam.ac.u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84159-EA20-4CCB-B74F-E2323B3DFF55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B8AE27-E45C-40A2-A3C9-0E22A6019591}" type="datetime1">
              <a:rPr lang="en-US"/>
              <a:t>07/29/26</a:t>
            </a:fld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04-01-01T00:00:00Z</dcterms:created>
  <dc:creator/>
  <dc:description/>
  <dc:language>en-US</dc:language>
  <cp:lastModifiedBy>jon crowcroft</cp:lastModifiedBy>
  <cp:lastPrinted>1904-01-01T00:00:00Z</cp:lastPrinted>
  <dcterms:modified xsi:type="dcterms:W3CDTF">2007-05-02T15:41:55Z</dcterms:modified>
  <cp:revision>14</cp:revision>
  <dc:subject/>
  <dc:title>General</dc:title>
</cp:coreProperties>
</file>