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9449-5C6B-4744-BE9E-60D7EB5B0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AEF9-DC56-4AD0-820F-814FF296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752E-8FCE-4A25-B4A9-962829554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3DAB-2968-40FF-97E6-93004E2A8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68AE-95F1-4A07-8DD2-9E1A8A90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A659-F4B5-499E-BF45-352F84B5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96AB-2B4C-471B-AA2E-14A80ECB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E066-8165-40A4-B611-D6215F83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5CB2-86CE-462F-9F16-6FC2252E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ED46-D52F-4386-AC23-E6B0C0D2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BEE7-25FB-46C6-B432-E87F6AEA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3BCF-5D48-4128-B544-FB46EF38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59E1-9D60-4DA9-92B6-B2435DD79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l.cam.ac.uk/~jac22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055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G Workshop Panel</a:t>
            </a:r>
            <a:br>
              <a:rPr sz="4400"/>
            </a:b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l.cam.ac.uk/~jac2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n.crowcroft@cl.cam.ac.u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Generation Internet: Services, technical challenges;impact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isation &amp;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FIND/GENI programme is very very weak in wireless (and only so-so in photon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radical work in Europe is also leapfrogging 3G/4G (e.g. cognitive radio and software defined radio, cooperative mimo etc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’s a disconnect between these eff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uded by ease of past:-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dimensions of tension:- next 3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+Internet ea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cellular is just another access network, 2G and 3G convergence with IP is easy (so is IPTV since multicast is d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next generation wireless is no longer architecturally an access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its own architecture (well, will hav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ensions #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DoS is quite a bad problem in today’s wired internet, but is a minor problem in telephone n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ill be a critical problem, potentially disastrous, in 4G and Next Gen 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terrorists jamming london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being blackmailed to pay money to get money out at cash point :-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tensions #2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sioning of multihomed mobile, users and assurance, when P2P, MANET, Mesh or similar cooperative wireless net is a VERY HARD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it isn’t optional - in future services, it is crucial (if we want to charge people for low latency games, VOD, music/skype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budget ceiling in data centers means content services must be P2P, not server ba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tensions #3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relationships are both horizontal and vertical. To date, ISPs only do horizontal (BGP) and CDNs do verti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dynamic bundling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ransparency and parsimonious regulatory contr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 needs to take a lead on doing the wireless, but needs to underpin architectural work that US will do in IP, not just fol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 is a mess with massive costs and vulnerabil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1:24:31Z</dcterms:created>
  <dc:creator>jon crowcroft</dc:creator>
  <dc:description/>
  <dc:language>en-US</dc:language>
  <cp:lastModifiedBy>jon crowcroft</cp:lastModifiedBy>
  <dcterms:modified xsi:type="dcterms:W3CDTF">2007-04-17T11:41:29Z</dcterms:modified>
  <cp:revision>1</cp:revision>
  <dc:subject/>
  <dc:title>4G Workshop Panel http://www.cl.cam.ac.uk/~jac22 jon.crowcroft@cl.cam.ac.uk</dc:title>
</cp:coreProperties>
</file>