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ED35-F3AF-4D2B-8A71-B078B9FC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6E03-0EF2-45A1-9471-9A60A4A9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29A0-6673-41A4-AE31-318B30AD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D5F-4908-47D1-B17A-5596AA47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985-3C56-4727-8D67-1695103F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A92-60DC-4301-9F0F-8C87D8BA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A53-2822-4B62-874E-980F78AE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254-9808-41F0-A065-70793273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3B9-4676-4E4B-B3F7-367F4012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9697-A5DE-4E64-89FC-6F8534AE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1706-1320-449C-B964-EBBF634C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8EB-B9A6-41A2-9107-FE3498C6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83F0-CCAF-41EB-8F4D-38133CE6F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.cam.ac.uk/~jac2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G Workshop Panel</a:t>
            </a:r>
            <a:br>
              <a:rPr sz="4400"/>
            </a:b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l.cam.ac.uk/~jac2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n.crowcroft@cl.cam.ac.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 Internet: Services, technical challenges;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sation &amp;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FIND/GENI programme is very very weak in wireless (and only so-so in photon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radical work in Europe is also leapfrogging 3G/4G (e.g. cognitive radio and software defined radio, cooperative mimo etc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disconnect between these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uded by ease of past:-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dimensions of tension:- next 3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+Internet ea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cellular is just another access network, 2G and 3G convergence with IP is easy (so is IPTV since multicast is do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ext generation wireless is no longer architecturally an acc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its own architecture (well, will hav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ensions #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oS is quite a bad problem in today’s wired internet, but is a minor problem in telephone 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a critical problem, potentially disastrous, in 4G and Next Gen 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errorists jamming london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being blackmailed to pay money to get money out at cash point :-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2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sioning of multihomed mobile, users and assurance, when P2P, MANET, Mesh or similar cooperative wireless net is a VERY HAR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it isn’t optional - in future services, it is crucial (if we want to charge people for low latency games, VOD, music/skype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budget ceiling in data centers means content services must be P2P, not server b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the tensions #3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relationships are both horizontal and vertical. To date, ISPs only do horizontal (BGP) and CDNs do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dynamic bundl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ransparency and parsimonious regulatory contr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needs to take a lead on doing the wireless, but needs to underpin architectural work that US will do in IP, not just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is a mess with massive costs and vulnerabil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7T11:24:31Z</dcterms:created>
  <dc:creator>jon crowcroft</dc:creator>
  <dc:description/>
  <dc:language>en-US</dc:language>
  <cp:lastModifiedBy>jon crowcroft</cp:lastModifiedBy>
  <dcterms:modified xsi:type="dcterms:W3CDTF">2007-04-17T11:41:29Z</dcterms:modified>
  <cp:revision>1</cp:revision>
  <dc:subject/>
  <dc:title>4G Workshop Panel http://www.cl.cam.ac.uk/~jac22 jon.crowcroft@cl.cam.ac.uk</dc:title>
</cp:coreProperties>
</file>