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ng" ContentType="image/png"/>
  <Override PartName="/ppt/media/image8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BE35-4BCF-45A0-BA99-BF8FE082A7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t how does a node know what packets its neighbors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port to its neighbors the packets it s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owever, at times of severe congestion, report may get lost in collisions. They also may arrive too late after the coding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first way and the third way are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gap between theory of network coding and practical network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AC5-A844-4A96-B83B-E53915E8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535-6CE7-4559-A62C-C9E20F39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D67-1056-4CC0-A4EB-7121169B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AE8-2D3F-48E8-9659-B1BEC116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C71-0E42-49B4-A448-5072E25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951-4FC0-44CD-ACDA-21FCA234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336-2766-4AC8-944E-E8BC1BEB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495-2B79-48EE-BD86-CEC9E934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F51-AF44-423B-B0C0-A758820F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C5C-5C92-468B-8664-7A1A73E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8CE-672B-4F7C-A826-2A84D412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216-0574-45E4-95DA-8226DDAC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7DB6-EFBF-4E4B-AAF3-40D6A4301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 Black"/>
              </a:rPr>
              <a:t>XORs in The Air: Practical Wireless Network Coding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chin Katti, Dina Katabi, Wenjun Hu, Jon Crowcroft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lides borrowed from MIT Collaborators including Yan 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to get neighb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ETX metric (delivery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probability that packets are over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ighbor is the previous hop of the pac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’s Gai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ice-and-Bob example gains 4/3 (maximum is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+MA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ue to Mac allocation, relay node is the bottleneck and throughput is 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COPE, throughput i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ing+Mac Gain =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ke the packet at the head of its outpu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ver delay packets (if can not code, simply se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egorize larger packets and small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e packets headed for the different next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wo virtual queues for each neighbor: large and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 neighbors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2M virtual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200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743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1840" y="2300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360" y="2286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4880" y="2286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6560" y="334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5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41911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6560" y="5043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54280" y="5119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952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4240" y="4267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1676160" cy="18288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209680"/>
            <a:ext cx="1676520" cy="2743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638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6760" y="5867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6186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2209680"/>
            <a:ext cx="167652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06960" y="5715000"/>
            <a:ext cx="1055160" cy="368280"/>
            <a:chOff x="5106960" y="5715000"/>
            <a:chExt cx="1055160" cy="368280"/>
          </a:xfrm>
        </p:grpSpPr>
        <p:sp>
          <p:nvSpPr>
            <p:cNvPr id="173" name=""/>
            <p:cNvSpPr/>
            <p:nvPr/>
          </p:nvSpPr>
          <p:spPr>
            <a:xfrm>
              <a:off x="5106960" y="57150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9120" y="57150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97240" y="6019920"/>
            <a:ext cx="1055160" cy="368280"/>
            <a:chOff x="5097240" y="6019920"/>
            <a:chExt cx="1055160" cy="368280"/>
          </a:xfrm>
        </p:grpSpPr>
        <p:sp>
          <p:nvSpPr>
            <p:cNvPr id="176" name=""/>
            <p:cNvSpPr/>
            <p:nvPr/>
          </p:nvSpPr>
          <p:spPr>
            <a:xfrm>
              <a:off x="5097240" y="601992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9400" y="601992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6960" y="6338880"/>
            <a:ext cx="1043640" cy="368280"/>
            <a:chOff x="5106960" y="6338880"/>
            <a:chExt cx="1043640" cy="368280"/>
          </a:xfrm>
        </p:grpSpPr>
        <p:sp>
          <p:nvSpPr>
            <p:cNvPr id="179" name=""/>
            <p:cNvSpPr/>
            <p:nvPr/>
          </p:nvSpPr>
          <p:spPr>
            <a:xfrm>
              <a:off x="5106960" y="6338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68400" y="633888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315200" y="5791320"/>
            <a:ext cx="762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id: A 32-bit hash of src IP and Seq.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OR the encoded packet with the corresponding stored packets to get nativ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the native packet in packet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seudo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ns of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reliable due to 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ck of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ggy back on un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one of intended node a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all others in COPE header (between MAC and IP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eiver: if it is on the list, decode the packet, else store the packet in its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 by hop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ynchronous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ach of native packet schedules an event fo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-enqueue the packet if no Ack within Ta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ks added in COPE h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 what packets are 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sender’s packet pool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what packets the sender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apacity of Multi-hop Wireless Network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pta/Kumar limit (for 1/r^2 far fie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geometry/receiver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glauser/T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(random)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e co-operative MIMO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mart antennae and v. accurate 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oding - originally for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welde result for rateless code/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114800" y="2438280"/>
            <a:ext cx="830160" cy="939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93680" y="3463920"/>
            <a:ext cx="6526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U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54160" y="2286000"/>
            <a:ext cx="661824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6720" y="5797440"/>
            <a:ext cx="835056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arge Sca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fl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ck sender and receiver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size based on actual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low arrival are Po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Large Scale Exp.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0320" cy="323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3800" y="5546880"/>
            <a:ext cx="7089480" cy="62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84520" y="4836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load in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: a new approach to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throughpu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 network coding to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xperiment runs on a hidden node fre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most no gain due to hidden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general (3+ packets coded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ery hard (np) to figure ou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tter (e.g. Luby)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putationall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unter indicated for wireless nodes: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o: Bjorn Scheuermann/Wenjun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hop-by-hop Congestion control &amp;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near optimal coding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target is set to incorporate coding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asting: Gkantsidis/Hu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(e.g. VRR) routing +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near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MAC would be “simpler”/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early impossible t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….please e-mail me and I can forwar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gements to my colleagues, collaborators and student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IT and Microsof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b. some work was funded by the Cambridge MIT Institute (DTI+BT) and some by M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231040" cy="11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45720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4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581280" y="3809880"/>
            <a:ext cx="457200" cy="304920"/>
            <a:chOff x="3581280" y="3809880"/>
            <a:chExt cx="457200" cy="304920"/>
          </a:xfrm>
        </p:grpSpPr>
        <p:sp>
          <p:nvSpPr>
            <p:cNvPr id="88" name=""/>
            <p:cNvSpPr/>
            <p:nvPr/>
          </p:nvSpPr>
          <p:spPr>
            <a:xfrm>
              <a:off x="3581280" y="38098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3048120"/>
            <a:ext cx="457200" cy="304560"/>
            <a:chOff x="5029200" y="3048120"/>
            <a:chExt cx="457200" cy="304560"/>
          </a:xfrm>
        </p:grpSpPr>
        <p:sp>
          <p:nvSpPr>
            <p:cNvPr id="91" name=""/>
            <p:cNvSpPr/>
            <p:nvPr/>
          </p:nvSpPr>
          <p:spPr>
            <a:xfrm>
              <a:off x="5029200" y="304812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3048120"/>
              <a:ext cx="22860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91120" y="380988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4495680"/>
            <a:ext cx="457200" cy="304920"/>
            <a:chOff x="1447920" y="4495680"/>
            <a:chExt cx="457200" cy="304920"/>
          </a:xfrm>
        </p:grpSpPr>
        <p:sp>
          <p:nvSpPr>
            <p:cNvPr id="95" name=""/>
            <p:cNvSpPr/>
            <p:nvPr/>
          </p:nvSpPr>
          <p:spPr>
            <a:xfrm>
              <a:off x="1447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457200" cy="304920"/>
            <a:chOff x="7162920" y="4495680"/>
            <a:chExt cx="457200" cy="30492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86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2578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COPE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(Coding Opportunistically)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sider multiple unicas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eneralize Alice-Bob 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ploits Shared Nature of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Overheard Packets for Sh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se packets are used for decoding perspective p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rst implement Wireless Network Coding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r neighbors’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these packets in a buff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P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hor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packet pool info. to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packets to code based on th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encoded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98640"/>
            <a:ext cx="3733920" cy="305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16369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187720" cy="304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523880"/>
            <a:ext cx="3962160" cy="40388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09680"/>
            <a:ext cx="1523880" cy="2743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447920"/>
            <a:ext cx="2819160" cy="4038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924680" y="2590920"/>
            <a:ext cx="380880" cy="457200"/>
            <a:chOff x="7924680" y="259092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848720" y="3200400"/>
            <a:ext cx="609480" cy="457200"/>
            <a:chOff x="7848720" y="3200400"/>
            <a:chExt cx="609480" cy="457200"/>
          </a:xfrm>
        </p:grpSpPr>
        <p:sp>
          <p:nvSpPr>
            <p:cNvPr id="125" name=""/>
            <p:cNvSpPr/>
            <p:nvPr/>
          </p:nvSpPr>
          <p:spPr>
            <a:xfrm>
              <a:off x="7848720" y="3352680"/>
              <a:ext cx="2286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077320" y="320040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3276720"/>
              <a:ext cx="30456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924680" y="3809880"/>
            <a:ext cx="609840" cy="457200"/>
            <a:chOff x="7924680" y="3809880"/>
            <a:chExt cx="609840" cy="457200"/>
          </a:xfrm>
        </p:grpSpPr>
        <p:sp>
          <p:nvSpPr>
            <p:cNvPr id="129" name=""/>
            <p:cNvSpPr/>
            <p:nvPr/>
          </p:nvSpPr>
          <p:spPr>
            <a:xfrm>
              <a:off x="7924680" y="3962520"/>
              <a:ext cx="22860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153280" y="3809880"/>
              <a:ext cx="38124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6:54:36Z</dcterms:created>
  <dc:creator>gy</dc:creator>
  <dc:description/>
  <dc:language>en-US</dc:language>
  <cp:lastModifiedBy>jon crowcroft</cp:lastModifiedBy>
  <dcterms:modified xsi:type="dcterms:W3CDTF">2007-07-20T17:43:46Z</dcterms:modified>
  <cp:revision>17</cp:revision>
  <dc:subject/>
  <dc:title>XORs in The Air: Practical Wireless Network Coding</dc:title>
</cp:coreProperties>
</file>