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ct" ContentType="image/x-pict"/>
  <Override PartName="/ppt/media/image3.pct" ContentType="image/x-pict"/>
  <Override PartName="/ppt/media/image4.png" ContentType="image/png"/>
  <Override PartName="/ppt/media/image5.pct" ContentType="image/x-pict"/>
  <Override PartName="/ppt/media/image10.pct" ContentType="image/x-pict"/>
  <Override PartName="/ppt/media/image6.pct" ContentType="image/x-pict"/>
  <Override PartName="/ppt/media/image9.png" ContentType="image/png"/>
  <Override PartName="/ppt/media/image11.pct" ContentType="image/x-pict"/>
  <Override PartName="/ppt/media/image7.png" ContentType="image/png"/>
  <Override PartName="/ppt/media/image8.pct" ContentType="image/x-pict"/>
  <Override PartName="/ppt/media/image12.pct" ContentType="image/x-pi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3366ff"/>
              </a:solidFill>
              <a:latin typeface="Arial Black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6A172-90FB-49E1-9EE9-88951A0ED6FE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But how does a node know what packets its neighbors hav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port to its neighbors the packets it stor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owever, at times of severe congestion, report may get lost in collisions. They also may arrive too late after the coding deci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he first way and the third way are reli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dge the gap between theory of network coding and practical network desig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55F2B-01DB-492D-83A3-37AB1EECF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4B81B-0DA4-4FF6-8C4A-C32C4588F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61776-94FA-4325-8AC3-6462C94F8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88BF3-5B3E-4ACE-97DF-C859C621C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ff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4BF12-BEC2-4E53-B929-D230428D0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62A2B-2DE6-4688-BCEF-2A04CACF1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C2315-06DC-4075-B0C1-3E5B924B4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901BD-8522-43CD-BFAE-7861C920D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60D49-E670-44A4-A21C-9725CF079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8CE25-8F38-4CAB-8A77-EC2CA2FC3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EE5CB-2900-4ECE-82DF-DF6762409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60D30-32C3-4A3D-A990-A7A1C6207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3366ff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uly 20, 20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Brunel Univer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147A4-15FF-485E-B53F-635980713CD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image" Target="../media/image4.png"/><Relationship Id="rId4" Type="http://schemas.openxmlformats.org/officeDocument/2006/relationships/image" Target="../media/image8.pct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image" Target="../media/image6.pct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66ff"/>
                </a:solidFill>
                <a:latin typeface="Arial Black"/>
              </a:rPr>
              <a:t>XORs in The Air: Practical Wireless Network Coding</a:t>
            </a:r>
            <a:endParaRPr b="0" lang="en-US" sz="4000" spc="-1" strike="noStrike">
              <a:solidFill>
                <a:srgbClr val="3366ff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Sachin Katti, Dina Katabi, Wenjun Hu, Jon Crowcroft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Presented by Jon Crowcro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Slides borrowed from MIT Collaborators including Yan Ga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66ff"/>
                </a:solidFill>
                <a:latin typeface="Arial Black"/>
              </a:rPr>
              <a:t>Opportunistic Coding</a:t>
            </a:r>
            <a:endParaRPr b="0" lang="en-US" sz="4400" spc="-1" strike="noStrike">
              <a:solidFill>
                <a:srgbClr val="3366ff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ways to get neighbor st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eption re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ues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ed on ETX metric (delivery probabil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timate the probability that packets are overhe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neighbor is the previous hop of the packe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66ff"/>
                </a:solidFill>
                <a:latin typeface="Arial Black"/>
              </a:rPr>
              <a:t>COPE’s Gain</a:t>
            </a:r>
            <a:endParaRPr b="0" lang="en-US" sz="4400" spc="-1" strike="noStrike">
              <a:solidFill>
                <a:srgbClr val="3366ff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Coding 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Alice-and-Bob example gains 4/3 (maximum is 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Coding+MAC 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Due to Mac allocation, relay node is the bottleneck and throughput is 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With COPE, throughput is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Coding+Mac Gain = 2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Arial Black"/>
              </a:rPr>
              <a:t>Outline</a:t>
            </a:r>
            <a:endParaRPr b="0" lang="en-US" sz="4400" spc="-1" strike="noStrike">
              <a:solidFill>
                <a:srgbClr val="3366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PE Over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Arial"/>
              </a:rPr>
              <a:t>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Arial Black"/>
              </a:rPr>
              <a:t>COPE Design</a:t>
            </a:r>
            <a:endParaRPr b="0" lang="en-US" sz="4400" spc="-1" strike="noStrike">
              <a:solidFill>
                <a:srgbClr val="3366ff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Coding Algorith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Take the packet at the head of its output que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Never delay packets (if can not code, simply send i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Categorize larger packets and small pack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Code packets headed for the different nextho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Two virtual queues for each neighbor: large and sm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M neighbors </a:t>
            </a:r>
            <a:r>
              <a:rPr b="0" lang="zh-CN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2M virtual que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66ff"/>
                </a:solidFill>
                <a:latin typeface="Arial Black"/>
              </a:rPr>
              <a:t>COPE Design</a:t>
            </a:r>
            <a:endParaRPr b="0" lang="en-US" sz="4400" spc="-1" strike="noStrike">
              <a:solidFill>
                <a:srgbClr val="3366ff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Coding Algorith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523880" y="2514600"/>
            <a:ext cx="0" cy="342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62120" y="3200400"/>
            <a:ext cx="5486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676520" y="2743200"/>
            <a:ext cx="121896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cket_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352680" y="2743200"/>
            <a:ext cx="121932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cket_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029200" y="2743200"/>
            <a:ext cx="121932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cket_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676520" y="236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895480" y="236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352680" y="236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236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29200" y="236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572000" y="236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671840" y="2300400"/>
            <a:ext cx="122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rtual Q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348360" y="2286000"/>
            <a:ext cx="122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rtual Q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024880" y="2286000"/>
            <a:ext cx="12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rtual Q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916560" y="33415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916560" y="41292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916560" y="49672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890720" y="4191120"/>
            <a:ext cx="55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906560" y="5043600"/>
            <a:ext cx="5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554280" y="3505320"/>
            <a:ext cx="55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554280" y="5119560"/>
            <a:ext cx="5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85800" y="4038480"/>
            <a:ext cx="5638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85800" y="4952880"/>
            <a:ext cx="5638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35560" y="3505320"/>
            <a:ext cx="55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394240" y="4267080"/>
            <a:ext cx="55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447920" y="2209680"/>
            <a:ext cx="1676160" cy="1828800"/>
          </a:xfrm>
          <a:prstGeom prst="rect">
            <a:avLst/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124080" y="2209680"/>
            <a:ext cx="1676520" cy="2743200"/>
          </a:xfrm>
          <a:prstGeom prst="rect">
            <a:avLst/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85800" y="5638680"/>
            <a:ext cx="5715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506760" y="5867280"/>
            <a:ext cx="55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506760" y="6186600"/>
            <a:ext cx="55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800600" y="2209680"/>
            <a:ext cx="1676520" cy="3429000"/>
          </a:xfrm>
          <a:prstGeom prst="rect">
            <a:avLst/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5106960" y="5715000"/>
            <a:ext cx="1055160" cy="368280"/>
            <a:chOff x="5106960" y="5715000"/>
            <a:chExt cx="1055160" cy="368280"/>
          </a:xfrm>
        </p:grpSpPr>
        <p:sp>
          <p:nvSpPr>
            <p:cNvPr id="173" name=""/>
            <p:cNvSpPr/>
            <p:nvPr/>
          </p:nvSpPr>
          <p:spPr>
            <a:xfrm>
              <a:off x="5106960" y="5715000"/>
              <a:ext cx="558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469120" y="5715000"/>
              <a:ext cx="69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×P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3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097240" y="6019920"/>
            <a:ext cx="1055160" cy="368280"/>
            <a:chOff x="5097240" y="6019920"/>
            <a:chExt cx="1055160" cy="368280"/>
          </a:xfrm>
        </p:grpSpPr>
        <p:sp>
          <p:nvSpPr>
            <p:cNvPr id="176" name=""/>
            <p:cNvSpPr/>
            <p:nvPr/>
          </p:nvSpPr>
          <p:spPr>
            <a:xfrm>
              <a:off x="5097240" y="6019920"/>
              <a:ext cx="558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459400" y="6019920"/>
              <a:ext cx="69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×P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3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106960" y="6338880"/>
            <a:ext cx="1043640" cy="368280"/>
            <a:chOff x="5106960" y="6338880"/>
            <a:chExt cx="1043640" cy="368280"/>
          </a:xfrm>
        </p:grpSpPr>
        <p:sp>
          <p:nvSpPr>
            <p:cNvPr id="179" name=""/>
            <p:cNvSpPr/>
            <p:nvPr/>
          </p:nvSpPr>
          <p:spPr>
            <a:xfrm>
              <a:off x="5106960" y="6338880"/>
              <a:ext cx="5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468400" y="6338880"/>
              <a:ext cx="68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×P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1" name=""/>
          <p:cNvSpPr/>
          <p:nvPr/>
        </p:nvSpPr>
        <p:spPr>
          <a:xfrm>
            <a:off x="7315200" y="5791320"/>
            <a:ext cx="76212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Arial Black"/>
              </a:rPr>
              <a:t>COPE Design</a:t>
            </a:r>
            <a:endParaRPr b="0" lang="en-US" sz="4400" spc="-1" strike="noStrike">
              <a:solidFill>
                <a:srgbClr val="3366ff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Packet id: A 32-bit hash of src IP and Seq. n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XOR the encoded packet with the corresponding stored packets to get native pack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Store the native packet in packet po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Arial Black"/>
              </a:rPr>
              <a:t>COPE Design</a:t>
            </a:r>
            <a:endParaRPr b="0" lang="en-US" sz="4400" spc="-1" strike="noStrike">
              <a:solidFill>
                <a:srgbClr val="3366ff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Pseudo Broadc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Cons of broadca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Unreliable due to no 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Lack of back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Piggy back on unica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et one of intended node as Mac add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List  all others in COPE header (between MAC and IP head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Receiver: if it is on the list, decode the packet, else store the packet in its p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Arial Black"/>
              </a:rPr>
              <a:t>COPE Design</a:t>
            </a:r>
            <a:endParaRPr b="0" lang="en-US" sz="4400" spc="-1" strike="noStrike">
              <a:solidFill>
                <a:srgbClr val="3366ff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Hop by hop AC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Asynchronous A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Each of native packet schedules an event for retransmis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Re-enqueue the packet if no Ack within Ta secon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Acks added in COPE head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66ff"/>
                </a:solidFill>
                <a:latin typeface="Arial Black"/>
              </a:rPr>
              <a:t>COPE Design</a:t>
            </a:r>
            <a:endParaRPr b="0" lang="en-US" sz="4400" spc="-1" strike="noStrike">
              <a:solidFill>
                <a:srgbClr val="3366ff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PE hea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icate what packets are encod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port sender’s packet pool inf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knowledge what packets the sender receiv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Arial Black"/>
              </a:rPr>
              <a:t>Outline</a:t>
            </a:r>
            <a:endParaRPr b="0" lang="en-US" sz="4400" spc="-1" strike="noStrike">
              <a:solidFill>
                <a:srgbClr val="3366ff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PE Over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Arial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Arial Black"/>
              </a:rPr>
              <a:t>Capacity of Multi-hop Wireless Networks</a:t>
            </a:r>
            <a:endParaRPr b="0" lang="en-US" sz="4400" spc="-1" strike="noStrike">
              <a:solidFill>
                <a:srgbClr val="3366ff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upta/Kumar limit (for 1/r^2 far field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ed on geometry/receiver interfer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ssglauser/Tse improv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quires (random) mo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se co-operative MIMO improv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quires smart antennae and v. accurate clo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t Coding - originally for broadc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welde result for rateless code/ca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Arial Black"/>
              </a:rPr>
              <a:t>Performance</a:t>
            </a:r>
            <a:endParaRPr b="0" lang="en-US" sz="4400" spc="-1" strike="noStrike">
              <a:solidFill>
                <a:srgbClr val="3366ff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ice and Bob (TC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1447920" y="2209680"/>
            <a:ext cx="1030320" cy="1160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6629400" y="2209680"/>
            <a:ext cx="990720" cy="116064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4114800" y="2438280"/>
            <a:ext cx="830160" cy="93996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4"/>
          <a:stretch/>
        </p:blipFill>
        <p:spPr>
          <a:xfrm>
            <a:off x="1093680" y="3463920"/>
            <a:ext cx="6526440" cy="33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Arial Black"/>
              </a:rPr>
              <a:t>Performance</a:t>
            </a:r>
            <a:endParaRPr b="0" lang="en-US" sz="4400" spc="-1" strike="noStrike">
              <a:solidFill>
                <a:srgbClr val="3366ff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ice and Bob (UD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1154160" y="2286000"/>
            <a:ext cx="6618240" cy="346716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396720" y="5797440"/>
            <a:ext cx="8350560" cy="67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Arial Black"/>
              </a:rPr>
              <a:t>Performance</a:t>
            </a:r>
            <a:endParaRPr b="0" lang="en-US" sz="4400" spc="-1" strike="noStrike">
              <a:solidFill>
                <a:srgbClr val="3366ff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Large Scale Experi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20 no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2 flo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Pick sender and receiver random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Packet size based on actual measur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Flow arrival are Pos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Arial Black"/>
              </a:rPr>
              <a:t>Large Scale Exp.</a:t>
            </a:r>
            <a:endParaRPr b="0" lang="en-US" sz="4400" spc="-1" strike="noStrike">
              <a:solidFill>
                <a:srgbClr val="3366ff"/>
              </a:solidFill>
              <a:latin typeface="Arial Black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1752480" y="1523880"/>
            <a:ext cx="5710320" cy="323064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1063800" y="5546880"/>
            <a:ext cx="7089480" cy="62532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3584520" y="4836960"/>
            <a:ext cx="223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fered load in Mb/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Arial Black"/>
              </a:rPr>
              <a:t>Conclusion</a:t>
            </a:r>
            <a:endParaRPr b="0" lang="en-US" sz="4400" spc="-1" strike="noStrike">
              <a:solidFill>
                <a:srgbClr val="3366ff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PE: a new approach to wir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 throughput incre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implement network coding to wireless netwo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Arial Black"/>
              </a:rPr>
              <a:t>Problems</a:t>
            </a:r>
            <a:endParaRPr b="0" lang="en-US" sz="4400" spc="-1" strike="noStrike">
              <a:solidFill>
                <a:srgbClr val="3366ff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The experiment runs on a hidden node free net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Almost no gain due to hidden termi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More general (3+ packets coded togeth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Very hard (np) to figure out schedu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Better (e.g. Luby) co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Computationally expensiv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counter indicated for wireless nodes:-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Arial Black"/>
              </a:rPr>
              <a:t>Future work</a:t>
            </a:r>
            <a:endParaRPr b="0" lang="en-US" sz="4400" spc="-1" strike="noStrike">
              <a:solidFill>
                <a:srgbClr val="3366ff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Co: Bjorn Scheuermann/Wenjun H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hop-by-hop Congestion control &amp; co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hieves near optimal coding advant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target is set to incorporate coding improv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Casting: Gkantsidis/Hu et 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ath (e.g. VRR) routing + co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ain near opti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al MAC would be “simpler”/bet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nearly impossible to de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Arial Black"/>
              </a:rPr>
              <a:t>Questions?</a:t>
            </a:r>
            <a:endParaRPr b="0" lang="en-US" sz="4400" spc="-1" strike="noStrike">
              <a:solidFill>
                <a:srgbClr val="3366ff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y questions….please e-mail me and I can forward &amp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gements to my colleagues, collaborators and students 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mbridge, MIT and Microsoft resear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.b. some work was funded by the Cambridge MIT Institute (DTI+BT) and some by MS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Arial Black"/>
              </a:rPr>
              <a:t>Problem</a:t>
            </a:r>
            <a:endParaRPr b="0" lang="en-US" sz="4400" spc="-1" strike="noStrike">
              <a:solidFill>
                <a:srgbClr val="3366ff"/>
              </a:solidFill>
              <a:latin typeface="Arial Black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57200" y="2971800"/>
            <a:ext cx="8231040" cy="11001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895480" y="4572000"/>
            <a:ext cx="342900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work 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Arial Black"/>
              </a:rPr>
              <a:t>Background</a:t>
            </a:r>
            <a:endParaRPr b="0" lang="en-US" sz="4400" spc="-1" strike="noStrike">
              <a:solidFill>
                <a:srgbClr val="3366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b and Al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447920" y="2666880"/>
            <a:ext cx="1030320" cy="1160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629400" y="2666880"/>
            <a:ext cx="990720" cy="11606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4114800" y="2895480"/>
            <a:ext cx="830160" cy="9399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4117320" y="245268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514600" y="3048120"/>
            <a:ext cx="457200" cy="3045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47920" y="3886200"/>
            <a:ext cx="457200" cy="3049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162920" y="3886200"/>
            <a:ext cx="4572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095880" y="3809880"/>
            <a:ext cx="4572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514600" y="342900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029200" y="3048120"/>
            <a:ext cx="457200" cy="3045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029200" y="342900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5029200" y="36576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2590920" y="36576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581280" y="3809880"/>
            <a:ext cx="4572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981080" y="4876920"/>
            <a:ext cx="4953240" cy="990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 4 transmis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Arial Black"/>
              </a:rPr>
              <a:t>Background</a:t>
            </a:r>
            <a:endParaRPr b="0" lang="en-US" sz="4400" spc="-1" strike="noStrike">
              <a:solidFill>
                <a:srgbClr val="3366ff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b and Al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447920" y="2666880"/>
            <a:ext cx="1030320" cy="11606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6629400" y="2666880"/>
            <a:ext cx="990720" cy="116064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4114800" y="2895480"/>
            <a:ext cx="830160" cy="93996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4117320" y="245268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14600" y="3048120"/>
            <a:ext cx="457200" cy="3045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447920" y="3886200"/>
            <a:ext cx="457200" cy="3049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162920" y="3886200"/>
            <a:ext cx="4572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095880" y="3809880"/>
            <a:ext cx="4572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514600" y="342900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029200" y="342900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5029200" y="36576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2590920" y="36576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81080" y="4876920"/>
            <a:ext cx="4953240" cy="990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ransmis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3581280" y="3809880"/>
            <a:ext cx="457200" cy="304920"/>
            <a:chOff x="3581280" y="3809880"/>
            <a:chExt cx="457200" cy="304920"/>
          </a:xfrm>
        </p:grpSpPr>
        <p:sp>
          <p:nvSpPr>
            <p:cNvPr id="88" name=""/>
            <p:cNvSpPr/>
            <p:nvPr/>
          </p:nvSpPr>
          <p:spPr>
            <a:xfrm>
              <a:off x="3581280" y="3809880"/>
              <a:ext cx="457200" cy="304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09880" y="3809880"/>
              <a:ext cx="228600" cy="30492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5029200" y="3048120"/>
            <a:ext cx="457200" cy="304560"/>
            <a:chOff x="5029200" y="3048120"/>
            <a:chExt cx="457200" cy="304560"/>
          </a:xfrm>
        </p:grpSpPr>
        <p:sp>
          <p:nvSpPr>
            <p:cNvPr id="91" name=""/>
            <p:cNvSpPr/>
            <p:nvPr/>
          </p:nvSpPr>
          <p:spPr>
            <a:xfrm>
              <a:off x="5029200" y="3048120"/>
              <a:ext cx="457200" cy="3045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257800" y="3048120"/>
              <a:ext cx="228600" cy="3045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"/>
          <p:cNvSpPr/>
          <p:nvPr/>
        </p:nvSpPr>
        <p:spPr>
          <a:xfrm>
            <a:off x="4191120" y="3809880"/>
            <a:ext cx="609480" cy="5335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 Black"/>
              </a:rPr>
              <a:t>X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1447920" y="4495680"/>
            <a:ext cx="457200" cy="304920"/>
            <a:chOff x="1447920" y="4495680"/>
            <a:chExt cx="457200" cy="304920"/>
          </a:xfrm>
        </p:grpSpPr>
        <p:sp>
          <p:nvSpPr>
            <p:cNvPr id="95" name=""/>
            <p:cNvSpPr/>
            <p:nvPr/>
          </p:nvSpPr>
          <p:spPr>
            <a:xfrm>
              <a:off x="1447920" y="4495680"/>
              <a:ext cx="457200" cy="304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676520" y="4495680"/>
              <a:ext cx="228600" cy="30492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7162920" y="4495680"/>
            <a:ext cx="457200" cy="304920"/>
            <a:chOff x="7162920" y="4495680"/>
            <a:chExt cx="457200" cy="304920"/>
          </a:xfrm>
        </p:grpSpPr>
        <p:sp>
          <p:nvSpPr>
            <p:cNvPr id="98" name=""/>
            <p:cNvSpPr/>
            <p:nvPr/>
          </p:nvSpPr>
          <p:spPr>
            <a:xfrm>
              <a:off x="7162920" y="4495680"/>
              <a:ext cx="457200" cy="304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391520" y="4495680"/>
              <a:ext cx="228600" cy="30492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7086600" y="4114800"/>
            <a:ext cx="609480" cy="5335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 Black"/>
              </a:rPr>
              <a:t>X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371600" y="4114800"/>
            <a:ext cx="609480" cy="5335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 Black"/>
              </a:rPr>
              <a:t>X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600200" y="49528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752480" y="49528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315200" y="49528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467480" y="49528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447920" y="5257800"/>
            <a:ext cx="4572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162920" y="5257800"/>
            <a:ext cx="457200" cy="3049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Arial Black"/>
              </a:rPr>
              <a:t>Outline</a:t>
            </a:r>
            <a:endParaRPr b="0" lang="en-US" sz="4400" spc="-1" strike="noStrike">
              <a:solidFill>
                <a:srgbClr val="3366ff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PE Over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66ff"/>
                </a:solidFill>
                <a:latin typeface="Arial Black"/>
              </a:rPr>
              <a:t>COPE</a:t>
            </a:r>
            <a:br>
              <a:rPr sz="4000"/>
            </a:br>
            <a:r>
              <a:rPr b="0" lang="en-US" sz="4000" spc="-1" strike="noStrike">
                <a:solidFill>
                  <a:srgbClr val="3366ff"/>
                </a:solidFill>
                <a:latin typeface="Arial Black"/>
              </a:rPr>
              <a:t>(Coding Opportunistically)</a:t>
            </a:r>
            <a:endParaRPr b="0" lang="en-US" sz="4000" spc="-1" strike="noStrike">
              <a:solidFill>
                <a:srgbClr val="3366ff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Consider multiple unicast flo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Generalize Alice-Bob scenar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Exploits Shared Nature of Wireless Medi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Store Overheard Packets for Short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These packets are used for decoding perspective pack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First implement Wireless Network Coding in the real wor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Arial Black"/>
              </a:rPr>
              <a:t>Opportunistic Coding</a:t>
            </a:r>
            <a:endParaRPr b="0" lang="en-US" sz="4400" spc="-1" strike="noStrike">
              <a:solidFill>
                <a:srgbClr val="3366ff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erhear neighbors’ transmis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ore these packets in a buffer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Packet Pool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short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ort the packet pool info. to neighb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what packets to code based on the inf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nd encoded packe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66ff"/>
                </a:solidFill>
                <a:latin typeface="Arial Black"/>
              </a:rPr>
              <a:t>Opportunistic Coding</a:t>
            </a:r>
            <a:endParaRPr b="0" lang="en-US" sz="4400" spc="-1" strike="noStrike">
              <a:solidFill>
                <a:srgbClr val="3366ff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80880" y="1898640"/>
            <a:ext cx="3733920" cy="30542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4267080" y="2666880"/>
            <a:ext cx="1636920" cy="198144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5943600" y="1676520"/>
            <a:ext cx="2187720" cy="304776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304920" y="1523880"/>
            <a:ext cx="3962160" cy="4038840"/>
          </a:xfrm>
          <a:prstGeom prst="rect">
            <a:avLst/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43400" y="2209680"/>
            <a:ext cx="1523880" cy="2743200"/>
          </a:xfrm>
          <a:prstGeom prst="rect">
            <a:avLst/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019920" y="1447920"/>
            <a:ext cx="2819160" cy="4038480"/>
          </a:xfrm>
          <a:prstGeom prst="rect">
            <a:avLst/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7924680" y="2590920"/>
            <a:ext cx="380880" cy="457200"/>
            <a:chOff x="7924680" y="2590920"/>
            <a:chExt cx="380880" cy="457200"/>
          </a:xfrm>
        </p:grpSpPr>
        <p:sp>
          <p:nvSpPr>
            <p:cNvPr id="122" name=""/>
            <p:cNvSpPr/>
            <p:nvPr/>
          </p:nvSpPr>
          <p:spPr>
            <a:xfrm>
              <a:off x="7924680" y="2590920"/>
              <a:ext cx="380880" cy="457200"/>
            </a:xfrm>
            <a:prstGeom prst="line">
              <a:avLst/>
            </a:prstGeom>
            <a:ln w="5724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flipH="1">
              <a:off x="7924680" y="2590920"/>
              <a:ext cx="380880" cy="457200"/>
            </a:xfrm>
            <a:prstGeom prst="line">
              <a:avLst/>
            </a:prstGeom>
            <a:ln w="5724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7848720" y="3200400"/>
            <a:ext cx="609480" cy="457200"/>
            <a:chOff x="7848720" y="3200400"/>
            <a:chExt cx="609480" cy="457200"/>
          </a:xfrm>
        </p:grpSpPr>
        <p:sp>
          <p:nvSpPr>
            <p:cNvPr id="125" name=""/>
            <p:cNvSpPr/>
            <p:nvPr/>
          </p:nvSpPr>
          <p:spPr>
            <a:xfrm>
              <a:off x="7848720" y="3352680"/>
              <a:ext cx="228600" cy="304920"/>
            </a:xfrm>
            <a:prstGeom prst="line">
              <a:avLst/>
            </a:prstGeom>
            <a:ln w="5724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 flipV="1">
              <a:off x="8077320" y="3200400"/>
              <a:ext cx="380880" cy="457200"/>
            </a:xfrm>
            <a:prstGeom prst="line">
              <a:avLst/>
            </a:prstGeom>
            <a:ln w="5724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8077320" y="3276720"/>
              <a:ext cx="304560" cy="304560"/>
            </a:xfrm>
            <a:prstGeom prst="line">
              <a:avLst/>
            </a:prstGeom>
            <a:ln w="5724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7924680" y="3809880"/>
            <a:ext cx="609840" cy="457200"/>
            <a:chOff x="7924680" y="3809880"/>
            <a:chExt cx="609840" cy="457200"/>
          </a:xfrm>
        </p:grpSpPr>
        <p:sp>
          <p:nvSpPr>
            <p:cNvPr id="129" name=""/>
            <p:cNvSpPr/>
            <p:nvPr/>
          </p:nvSpPr>
          <p:spPr>
            <a:xfrm>
              <a:off x="7924680" y="3962520"/>
              <a:ext cx="228600" cy="304560"/>
            </a:xfrm>
            <a:prstGeom prst="line">
              <a:avLst/>
            </a:prstGeom>
            <a:ln w="5724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flipV="1">
              <a:off x="8153280" y="3809880"/>
              <a:ext cx="381240" cy="457200"/>
            </a:xfrm>
            <a:prstGeom prst="line">
              <a:avLst/>
            </a:prstGeom>
            <a:ln w="5724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3T06:54:36Z</dcterms:created>
  <dc:creator>gy</dc:creator>
  <dc:description/>
  <dc:language>en-US</dc:language>
  <cp:lastModifiedBy>jon crowcroft</cp:lastModifiedBy>
  <dcterms:modified xsi:type="dcterms:W3CDTF">2007-07-20T17:43:46Z</dcterms:modified>
  <cp:revision>17</cp:revision>
  <dc:subject/>
  <dc:title>XORs in The Air: Practical Wireless Network Coding</dc:title>
</cp:coreProperties>
</file>