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8BDC-33FB-47EA-A60A-8C45D7A9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3FA2-6265-4325-A43E-270EEEEB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39EC-9752-4337-A8A5-4F9A5C22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0861-AE64-4D7D-96B3-68267F54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FD7D-876B-4B58-B015-B4A389E2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DDE3-34A3-43A8-B8B0-68FFBDE5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C1F9-EF27-4231-9C23-36D85452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B537-038B-4DD1-8799-586EC6E8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F22A-46C4-46CB-BAB7-F19D1888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17C5-3155-48AF-8C12-60972FED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149B-1949-4F78-B4D6-D9438CFD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2423-D60F-4230-BA4E-23843819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CF5F-C7B6-4104-A0AB-8569F852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95AA-B186-40E9-88BD-60E83FA9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1EDF-67B7-4624-8A8B-F90FFE5B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188C-1C71-45E7-9294-21F83C75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5F50-F46E-4F20-AC6A-992ED388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7C2B-030A-44DA-BF7C-54E8EFB1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05B-9146-4CFA-9F83-DD610FD9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DD7-8FF6-4CBE-8ACE-FF18E860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574F-A7AF-4CC6-B14E-CFD84500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BD1A-03F1-42DC-B49F-B0249116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FAA8-D2BF-4470-9F0F-F2853728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48B-A9B5-464A-90B2-86B3EF91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52A0-2574-4BBF-8826-636B03451DCD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6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3EB6-B92A-4085-9CDC-F92D0BD346CC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背景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単純で強力なプログラミング言語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++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の性能、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Java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Ruby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以上の簡単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HGP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国際プログラミングコンテストやベンチマークで実証ずみ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学界では有名だが、一般には無名　⇒　</a:t>
            </a:r>
            <a:r>
              <a:rPr b="0" lang="en-US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宣伝活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今回の目標：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「きれい」で「わかりやすい」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コンパイラ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⇒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　「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はよくわからないから使わない」を打ち破る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成果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わずか２千行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で有名コンパイラ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OCaml, GCC)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以上の性能を達成、東大などで教育利用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2004</a:t>
            </a:r>
            <a:r>
              <a:rPr b="0" lang="ja-JP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年度未踏ソフトウェア創造事業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「美しい日本の</a:t>
            </a:r>
            <a:r>
              <a:rPr b="0" lang="en-US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コンパイラ」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開発代表者： 住井英二郎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343400"/>
            <a:ext cx="7010640" cy="5335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行数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&gt;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wc -l *.ml*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52 alpha.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2 alpha.mli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urier New"/>
              </a:rPr>
              <a:t>（中略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   </a:t>
            </a: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2241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tota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性能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関数型プログラム（アッカーマン関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6.8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命令型プログラム（レイトレーシン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14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36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17.0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666880"/>
            <a:ext cx="2514600" cy="4572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419720"/>
            <a:ext cx="2667240" cy="5331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5562720"/>
            <a:ext cx="2895480" cy="609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cp:lastPrinted>2009-04-22T19:24:48Z</cp:lastPrinted>
  <dcterms:modified xsi:type="dcterms:W3CDTF">2005-02-25T05:26:45Z</dcterms:modified>
  <cp:revision>999</cp:revision>
  <dc:subject/>
  <dc:title>A Bisimulation for Type Abstraction and Recursion</dc:title>
</cp:coreProperties>
</file>