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1A30-7E8E-49DE-8141-B701102E7DD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自由、プロ参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code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FF15-34AB-40F8-9AA9-B995FAE9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9BA7-3009-48A1-ABEA-6A9A479B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FC29-33B0-40C5-BEBE-5E1DDFC0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9A39-090F-4F70-BDB9-06009695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BD4D-9702-4636-AFC4-10CD7D25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D117-F499-4D2B-9EAE-E3822377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BED8-E330-43A8-BC0E-0BB2FA8F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0B07-BC86-4998-80E0-CAC63014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EA97-7C23-4BE0-A6F1-1ACE6F21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7A02-8A3E-4AE2-BFBA-6676EC52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A4F4-416E-4148-99A8-F319B4AE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8D50-3ADA-4D02-B6D6-9689AF9F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DD0F-FE80-44E2-B360-466A3915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0335-EF2E-4440-87D9-57B20D18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1E33-3696-4438-BB83-217E5512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B1CF-3DE0-4EE4-B12D-C63F1B3A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D179-C760-41A3-9363-0F64A746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8179-E58C-46BE-A14B-DCD2CCA1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918C-DCAB-4D4E-BA6E-75695F7E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3868-C53B-4C28-8D83-0A2C2722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0315-8CBF-426A-9A6E-4071780E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917F-9C83-4E2F-B0AD-B986B9AF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DBEF-D5D5-4E36-B69C-88E6D3D3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AE42-9BAA-41E1-8D7C-C95FC07E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203F-B16A-4EA3-8229-D971E05E0514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747D-D2AB-4C5E-8AD6-374955D37661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美しい日本の</a:t>
            </a:r>
            <a:r>
              <a:rPr b="1" lang="en-US" sz="4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コンパイラ</a:t>
            </a:r>
            <a:endParaRPr b="1" lang="en-US" sz="4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4704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開発代表者：</a:t>
            </a:r>
            <a:br>
              <a:rPr sz="3600"/>
            </a:b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住井 英二郎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University of Pennsylvania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プログラム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let rec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gcd m n =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= 0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 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&lt;= n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m (n - m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n (m - n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in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21600 337500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の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let rec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=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=0 then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&lt;=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then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gcd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gcd.19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0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ne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ret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g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le_else.47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4" name=""/>
          <p:cNvSpPr/>
          <p:nvPr/>
        </p:nvSpPr>
        <p:spPr>
          <a:xfrm>
            <a:off x="4093560" y="4038480"/>
            <a:ext cx="47271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le_else.47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o5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%o5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実装方針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　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ある言語を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low-leve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な言語に</a:t>
            </a:r>
            <a:br>
              <a:rPr sz="4000"/>
            </a:b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変換すること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適切な中間言語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を設定すれば、</a:t>
            </a:r>
            <a:br>
              <a:rPr sz="4000"/>
            </a:b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単純な変換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の連続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8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29" idx="3"/>
            <a:endCxn id="128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8" idx="3"/>
            <a:endCxn id="131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1" idx="2"/>
            <a:endCxn id="130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5" idx="2"/>
            <a:endCxn id="134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9" idx="3"/>
            <a:endCxn id="129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0" idx="1"/>
            <a:endCxn id="133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3" idx="1"/>
            <a:endCxn id="132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2" idx="1"/>
            <a:endCxn id="135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4" idx="3"/>
            <a:endCxn id="137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7" idx="3"/>
            <a:endCxn id="136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6" idx="3"/>
            <a:endCxn id="138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5" idx="0"/>
            <a:endCxn id="133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3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54" idx="3"/>
            <a:endCxn id="153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3" idx="3"/>
            <a:endCxn id="156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6" idx="2"/>
            <a:endCxn id="155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0" idx="2"/>
            <a:endCxn id="159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4" idx="3"/>
            <a:endCxn id="154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5" idx="1"/>
            <a:endCxn id="158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8" idx="1"/>
            <a:endCxn id="157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7" idx="1"/>
            <a:endCxn id="160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9" idx="3"/>
            <a:endCxn id="162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2" idx="3"/>
            <a:endCxn id="161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1" idx="3"/>
            <a:endCxn id="163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0" idx="0"/>
            <a:endCxn id="158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19681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0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7780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29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2268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0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08800" y="42670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2788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46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655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0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081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9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672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3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300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1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3520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1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226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6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補助モジュールも合計すると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２千行で</a:t>
            </a:r>
            <a:r>
              <a:rPr b="0" lang="en-US" sz="40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サブセットの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コンパイラができた！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&gt; wc -l *.ml{l,y,i,}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00 lexer.ml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71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parser.mly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 </a:t>
            </a: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（</a:t>
            </a:r>
            <a:r>
              <a:rPr b="0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中略）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  </a:t>
            </a:r>
            <a:r>
              <a:rPr b="1" lang="en-US" sz="40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2262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tota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性能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関数型プログラム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ckerman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関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6.8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1.3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命令型プログラム（レイトレーシン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27.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14.1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Ｋ正規化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(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a + b) - (c * d)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なネストした式に対し、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1 = a + b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2 = c * d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tmp1 - tmp2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に中間値をすべて明示化す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とアセンブリのギャップ（の一つ）が埋ま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様々な最適化等が簡単にな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最適化等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Ｋ正規化すれば非常に簡単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インライン展開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nline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定数畳み込み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onstFold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不要定義削除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elim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  <a:ea typeface="HGS創英角ﾎﾟｯﾌﾟ体"/>
              </a:rPr>
              <a:t>コンパイラは完成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アルゴリズム・ソースコードも「きれ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テストプログラム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5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個が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レイトレーシングも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東大、お茶の水大、東工大、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IST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などで使用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成果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目的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「きれい」でわかりやすい</a:t>
            </a:r>
            <a:br>
              <a:rPr sz="4000"/>
            </a:b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を作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自体の宣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長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プログラミング言語研究の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「技術移転」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今後の方向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ドキュメントの整備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チュートリアル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「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30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分でわかる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OCaml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」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も予定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A-32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アセンブリを生成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PAR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よりややこしい（２オペランドなど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サブセットの拡張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データ型、モジュール、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arbage Collectio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など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蛇足：プログラミング言語研究の</a:t>
            </a:r>
            <a:br>
              <a:rPr sz="4000"/>
            </a:b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「技術移転」につい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時間がかかりすぎ！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もっと短縮できないか？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Lisp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6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Parametric Polymorphis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7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++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STL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#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や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enerics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つい最近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What is ML?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iling List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rkup Language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　＝　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eta Language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単純で強力なプログラミング言語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主に関数型＋命令型、オブジェクトも有り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ilner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設計・実装（チューリング賞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ppel, Leroy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発展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ML/NJ, OCaml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グラミング言語は自由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601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も参加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</a:rPr>
              <a:t>（</a:t>
            </a: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Leroy, Peyton Jones, topcoder, ...)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omputer Language Shootout (shootout.alioth.debian.org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様々な言語のマイクロベンチマーク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どう「単純で強力」なのか？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505320"/>
          <a:ext cx="7619760" cy="1369800"/>
        </p:xfrm>
        <a:graphic>
          <a:graphicData uri="http://schemas.openxmlformats.org/drawingml/2006/table">
            <a:tbl>
              <a:tblPr/>
              <a:tblGrid>
                <a:gridCol w="838080"/>
                <a:gridCol w="1219320"/>
                <a:gridCol w="838080"/>
                <a:gridCol w="1066680"/>
                <a:gridCol w="990720"/>
                <a:gridCol w="1295280"/>
                <a:gridCol w="1371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１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２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３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４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５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６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性能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Intel 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c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MLto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lea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++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行数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Per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Ruby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Nice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S-Lang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SML/NJ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914400" y="1905120"/>
          <a:ext cx="8077320" cy="4566960"/>
        </p:xfrm>
        <a:graphic>
          <a:graphicData uri="http://schemas.openxmlformats.org/drawingml/2006/table">
            <a:tbl>
              <a:tblPr/>
              <a:tblGrid>
                <a:gridCol w="914400"/>
                <a:gridCol w="3048120"/>
                <a:gridCol w="2057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年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課題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1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2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○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×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並列</a:t>
                      </a: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S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0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イト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1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TM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ylan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2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荷物配送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3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4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アリ対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&amp; 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ICFP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テスト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私の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宣伝活動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（東大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主催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・コンパイラ授業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（東大理学部情報科学科）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[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PU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実験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Bioinformatics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に使用（東大医科研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O'Reilly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の本を共同翻訳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自分近傍のプログラミングはすべて</a:t>
            </a:r>
            <a:r>
              <a:rPr b="0" lang="en-US" sz="32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3886200"/>
            <a:ext cx="2057400" cy="6094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なぜ美しいコンパイラを作るの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Symbol"/>
                <a:ea typeface="Symbol"/>
              </a:rPr>
              <a:t>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プログラマや学生にわかりやすい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チュートリアルや実装や公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（</a:t>
            </a: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短いほど良い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）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が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"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inor Language"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である原因：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よく知らないから使わない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仕組みがわからないから使わな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1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::=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式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定数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op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算術演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if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the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els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条件分岐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rec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呼び出し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2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 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::=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を作る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から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Array.creat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を作る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から読み出し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fffeb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へ書き込み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dcterms:modified xsi:type="dcterms:W3CDTF">2005-02-11T07:05:46Z</dcterms:modified>
  <cp:revision>944</cp:revision>
  <dc:subject/>
  <dc:title>A Bisimulation for Type Abstraction and Recursion</dc:title>
</cp:coreProperties>
</file>