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0181-1E07-4A87-AF2C-A5BFAF46B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DD7E-F70F-42BE-8891-50A892F37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791-1651-402C-9A47-26E10974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53D-CEE2-4FDB-A089-DEBB9076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394-9A57-4D33-BBB3-93E20420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EEA-7396-4E6A-B687-F6861444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3E5-3E54-4FDE-8FE5-8FC94FDC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B4F-BAF0-4015-BC92-A3B4576E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F8D-4705-42A5-AB6A-983658FF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64F-1B9D-4823-A2D5-11467011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6278-1DCC-4398-B051-89E3391F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66E-B445-49A9-B7B5-51A182F6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D07-5489-473B-8494-697075F5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17E-1346-4F69-9FB9-C9817E89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77B0-7B32-426D-8B87-3101D046C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ava Virtual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48C7-79ED-47DD-9CFF-5CA783A380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838080"/>
            <a:ext cx="274320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3920" y="0"/>
            <a:ext cx="7772400" cy="55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ganization of JV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44792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t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2666880"/>
            <a:ext cx="259056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838080"/>
            <a:ext cx="106704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838080"/>
            <a:ext cx="106668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838080"/>
            <a:ext cx="121896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733920"/>
            <a:ext cx="2286000" cy="228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038480"/>
            <a:ext cx="1676520" cy="1143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4343400"/>
            <a:ext cx="16761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486400"/>
            <a:ext cx="1904760" cy="990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"/>
          <p:cNvSpPr/>
          <p:nvPr/>
        </p:nvSpPr>
        <p:spPr>
          <a:xfrm>
            <a:off x="0" y="3581280"/>
            <a:ext cx="2286000" cy="1295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962520"/>
            <a:ext cx="19051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C, FP,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31400">
            <a:off x="1988640" y="461304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781400">
            <a:off x="1990800" y="51433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5053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638680"/>
            <a:ext cx="16765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5E6-8ACB-4B91-AEB5-0F8C302785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Load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4880" y="990360"/>
            <a:ext cx="87627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ing and importing the binary data for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suring the correctness of the imported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ep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cating memory for class variables and initializing the memory to default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ing symbolic references from the type into direct refere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it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voking Java code that initializes class variables to their proper start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9F08-B2AC-48FF-AB45-62CAE23F59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File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337760"/>
            <a:ext cx="3581280" cy="490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 of cons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superclass,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,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field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type/sig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 (private, public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code for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3320" y="1353960"/>
            <a:ext cx="6198840" cy="486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Fi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4 mag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in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aj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constant_pool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p_info constant_pool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constant_pool_count-1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ccess_flag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this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super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[interface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fiel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eld_info fields[fiel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etho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_info methods[metho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ttribut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tribute_info attributes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attributes_coun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28E-7B78-4754-B935-9AE93B1456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04840"/>
            <a:ext cx="419112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(int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 i&lt;x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56272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tur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733920"/>
            <a:ext cx="16765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124080"/>
            <a:ext cx="16765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066680"/>
            <a:ext cx="167652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5400" y="90972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89520" y="3114720"/>
            <a:ext cx="11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0040" y="556416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F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31240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106668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1880" y="159084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B1EF-BA11-4650-AE40-7710736947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– Each Thread Has its own Stack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838080"/>
            <a:ext cx="807732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438280"/>
            <a:ext cx="80773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447920"/>
            <a:ext cx="1600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447920"/>
            <a:ext cx="1600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447920"/>
            <a:ext cx="1600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3733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876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590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3733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590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733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65A-18C4-4561-92AA-FDC1C350AF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Java objects are allocated in the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applications cannot explicitly fre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rbage Coll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voked from time to time automatically to reclaim the objects that are no longer needed by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p is shared by all Java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6D9-C725-4AA7-9013-094FB3448D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Objects in the 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286000"/>
            <a:ext cx="2971800" cy="266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666880"/>
            <a:ext cx="2210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838080"/>
            <a:ext cx="441936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1066680"/>
            <a:ext cx="167616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4479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9051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3623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8195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3434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724280"/>
            <a:ext cx="167652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36576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038480"/>
            <a:ext cx="16765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373392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2971800"/>
            <a:ext cx="304560" cy="457200"/>
          </a:xfrm>
          <a:custGeom>
            <a:avLst/>
            <a:gdLst/>
            <a:ahLst/>
            <a:rect l="l" t="t" r="r" b="b"/>
            <a:pathLst>
              <a:path w="248" h="336">
                <a:moveTo>
                  <a:pt x="248" y="336"/>
                </a:moveTo>
                <a:cubicBezTo>
                  <a:pt x="132" y="268"/>
                  <a:pt x="16" y="200"/>
                  <a:pt x="8" y="144"/>
                </a:cubicBezTo>
                <a:cubicBezTo>
                  <a:pt x="0" y="88"/>
                  <a:pt x="176" y="24"/>
                  <a:pt x="20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" y="2819520"/>
            <a:ext cx="863640" cy="1143000"/>
          </a:xfrm>
          <a:custGeom>
            <a:avLst/>
            <a:gdLst/>
            <a:ahLst/>
            <a:rect l="l" t="t" r="r" b="b"/>
            <a:pathLst>
              <a:path w="544" h="720">
                <a:moveTo>
                  <a:pt x="544" y="720"/>
                </a:moveTo>
                <a:cubicBezTo>
                  <a:pt x="336" y="620"/>
                  <a:pt x="128" y="520"/>
                  <a:pt x="64" y="432"/>
                </a:cubicBezTo>
                <a:cubicBezTo>
                  <a:pt x="0" y="344"/>
                  <a:pt x="80" y="264"/>
                  <a:pt x="160" y="192"/>
                </a:cubicBezTo>
                <a:cubicBezTo>
                  <a:pt x="240" y="120"/>
                  <a:pt x="392" y="60"/>
                  <a:pt x="5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1219320"/>
            <a:ext cx="1371600" cy="2209680"/>
          </a:xfrm>
          <a:custGeom>
            <a:avLst/>
            <a:gdLst/>
            <a:ahLst/>
            <a:rect l="l" t="t" r="r" b="b"/>
            <a:pathLst>
              <a:path w="864" h="1392">
                <a:moveTo>
                  <a:pt x="864" y="0"/>
                </a:moveTo>
                <a:cubicBezTo>
                  <a:pt x="792" y="112"/>
                  <a:pt x="720" y="224"/>
                  <a:pt x="672" y="384"/>
                </a:cubicBezTo>
                <a:cubicBezTo>
                  <a:pt x="624" y="544"/>
                  <a:pt x="688" y="792"/>
                  <a:pt x="576" y="960"/>
                </a:cubicBezTo>
                <a:cubicBezTo>
                  <a:pt x="464" y="1128"/>
                  <a:pt x="96" y="1320"/>
                  <a:pt x="0" y="13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962520"/>
            <a:ext cx="1066680" cy="6858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672"/>
                </a:moveTo>
                <a:cubicBezTo>
                  <a:pt x="560" y="512"/>
                  <a:pt x="448" y="352"/>
                  <a:pt x="336" y="240"/>
                </a:cubicBezTo>
                <a:cubicBezTo>
                  <a:pt x="224" y="128"/>
                  <a:pt x="56" y="4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3048120"/>
            <a:ext cx="584280" cy="1447560"/>
          </a:xfrm>
          <a:custGeom>
            <a:avLst/>
            <a:gdLst/>
            <a:ahLst/>
            <a:rect l="l" t="t" r="r" b="b"/>
            <a:pathLst>
              <a:path w="368" h="864">
                <a:moveTo>
                  <a:pt x="368" y="0"/>
                </a:moveTo>
                <a:cubicBezTo>
                  <a:pt x="216" y="216"/>
                  <a:pt x="64" y="432"/>
                  <a:pt x="32" y="576"/>
                </a:cubicBezTo>
                <a:cubicBezTo>
                  <a:pt x="0" y="720"/>
                  <a:pt x="88" y="792"/>
                  <a:pt x="176" y="8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6800" y="2133720"/>
            <a:ext cx="1079280" cy="167616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104" y="0"/>
                </a:moveTo>
                <a:cubicBezTo>
                  <a:pt x="392" y="96"/>
                  <a:pt x="680" y="192"/>
                  <a:pt x="680" y="336"/>
                </a:cubicBezTo>
                <a:cubicBezTo>
                  <a:pt x="680" y="480"/>
                  <a:pt x="208" y="752"/>
                  <a:pt x="104" y="864"/>
                </a:cubicBezTo>
                <a:cubicBezTo>
                  <a:pt x="0" y="976"/>
                  <a:pt x="48" y="976"/>
                  <a:pt x="56" y="1008"/>
                </a:cubicBezTo>
                <a:cubicBezTo>
                  <a:pt x="64" y="1040"/>
                  <a:pt x="136" y="1048"/>
                  <a:pt x="152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806560"/>
            <a:ext cx="3124080" cy="1168560"/>
          </a:xfrm>
          <a:custGeom>
            <a:avLst/>
            <a:gdLst/>
            <a:ahLst/>
            <a:rect l="l" t="t" r="r" b="b"/>
            <a:pathLst>
              <a:path w="1968" h="736">
                <a:moveTo>
                  <a:pt x="1968" y="680"/>
                </a:moveTo>
                <a:cubicBezTo>
                  <a:pt x="1536" y="708"/>
                  <a:pt x="1104" y="736"/>
                  <a:pt x="864" y="680"/>
                </a:cubicBezTo>
                <a:cubicBezTo>
                  <a:pt x="624" y="624"/>
                  <a:pt x="616" y="448"/>
                  <a:pt x="528" y="344"/>
                </a:cubicBezTo>
                <a:cubicBezTo>
                  <a:pt x="440" y="240"/>
                  <a:pt x="424" y="112"/>
                  <a:pt x="336" y="56"/>
                </a:cubicBezTo>
                <a:cubicBezTo>
                  <a:pt x="248" y="0"/>
                  <a:pt x="124" y="4"/>
                  <a:pt x="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DD1-5921-4CE1-A7F3-23B2984ED6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ytecode Interpret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956040" y="1417680"/>
            <a:ext cx="5187960" cy="415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program not e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etch next bytecode =&gt;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(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ad an integer from th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array and push on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f current operand stack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STO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p an integer from the top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operand stack and 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 into the local variable ar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A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8040" y="2071800"/>
            <a:ext cx="3403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eed extra memory to store compil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slower than execution of nativ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3DA-7272-4E09-BEFB-AA1562A372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ust-In-Tim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3000" y="649080"/>
            <a:ext cx="8381880" cy="2122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compiles bytecode into native code at runtime, usually in method gran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native code is much faster than interpretation of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is time consuming and may slow down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s between execution time and compil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3640" y="5757840"/>
            <a:ext cx="22860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3640" y="4691160"/>
            <a:ext cx="22860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34718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0000" y="298764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8640" y="4336920"/>
            <a:ext cx="167616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0520" y="5708520"/>
            <a:ext cx="4876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0520" y="3956040"/>
            <a:ext cx="2286000" cy="175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51560" y="27860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1800" y="372744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62840" y="471816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0840" y="3024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JIT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ACE-A3A6-4512-B712-ECE0A6415A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daptiv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less than 20% of the methods account for more than 80% of execu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contains loop with large number of iter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that are frequently in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only compile the methods where the application spends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2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perform advanced compiler optimization for the hottest methods, simple or no compiler optimization for less ho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D1F-1BA9-4D0D-9C13-46DF4CB215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system overview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9280" y="1428840"/>
            <a:ext cx="5260680" cy="436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65160" y="3608280"/>
            <a:ext cx="409608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1200" y="3632040"/>
            <a:ext cx="225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VM do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depend on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indepen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F1F-5AFC-49CE-8A8B-098134DD95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Adaptive Compiler Work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60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ree thresholds T1, T2 (T1&lt;T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thod has a counter that is initialized to 0. Whenever the method is invoked, increase its counter b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with counter lower than T1 are executed using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1, compile this method with simple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2, recompile this method with advanced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96C-0BE6-4E59-B580-B38BF7CED9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in the JVM Spec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343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codes – the instruction set for Java Virtual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File Format – The platform independent representation of Java binar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Rules – the algorithm for identifying programs that cannot compromise the integrity of the J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5080" y="5397480"/>
            <a:ext cx="6974640" cy="1068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VM Specification does not specif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 JVM is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3AB-F2A2-43EF-9E07-D0D1D0372A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: typed instructions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12760" y="974880"/>
            <a:ext cx="893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are explicitly typed: different opCodes for instructions for integers, floats, arrays and referen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is reflected by a naming convention in the first letter of the opCode mnem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67040" y="29368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7800" y="2968560"/>
            <a:ext cx="298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ng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oat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erence-typ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F99-5884-4933-BABC-FD266F278E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 set: kinds of operan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195560"/>
            <a:ext cx="89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have three kinds of opera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top of the operan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bytes following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part of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 instructions may have different “forms” supporting different kinds of oper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07800" y="379872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4960" y="34988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30000" y="34876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inary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44800" y="383076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3832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38800" y="4213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8800" y="4594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38800" y="4975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8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4800" y="541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1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64120" y="54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7800" y="5322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 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54920" y="613080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oad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ush the n-th local var o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985-7118-4741-8E4E-C8DEC558C9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exampl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82200" y="139068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add, ladd, fadd, d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ub, lsub, fsub, d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ul, lmul, fmul, d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760" y="9144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thmet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" y="2608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3880" y="316872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2l, i2f, i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f, l2d, f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i, d2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080" y="451476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stack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p, pop2, dup, dup2, dup_x1, swa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onditional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to, goto_w, jsr, re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a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eq, iflt, ifg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EBA-BC66-4801-ACD9-07BE575682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58920"/>
            <a:ext cx="8686800" cy="311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inv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: usual instruction for calling a method on an o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used when the called method is declared in an interface. (requires different kind of method look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alling things such as constructors. These are not dynamically dispatched (this instruction is also known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non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alling methods that have the “static” modifier (these methods “belong” to a class, rather an 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ing from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, ireturn, lreturn, areturn, f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710240"/>
            <a:ext cx="868680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class instance (objec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arr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reating arrays of primitiv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ewarray, multia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arrays of referenc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DF8-9B02-4D0C-BA2B-DD6DDE6794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oto instruction – 3 and 5 byte vers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83960" y="335124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8)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8120" y="1231920"/>
            <a:ext cx="1279440" cy="13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8120" y="168264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7480" y="208296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840" y="1278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461960"/>
            <a:ext cx="8287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42000" y="13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55080" y="1714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51840" y="21366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1600" y="3309840"/>
            <a:ext cx="33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24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16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 8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0840" y="1203480"/>
            <a:ext cx="12798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30840" y="165420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0560" y="205416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09560" y="1249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0080" y="1433520"/>
            <a:ext cx="8287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5440" y="1279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60280" y="28065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68200" y="2097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6160" y="244152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79252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06360" y="2452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7560" y="1716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36160" y="4254480"/>
            <a:ext cx="40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signed 2’s compliment representation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779200" y="2498400"/>
            <a:ext cx="341280" cy="3024360"/>
          </a:xfrm>
          <a:custGeom>
            <a:avLst/>
            <a:gdLst>
              <a:gd name="textAreaLeft" fmla="*/ 0 w 341280"/>
              <a:gd name="textAreaRight" fmla="*/ 123120 w 341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95120" y="484812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7263000" y="3629520"/>
            <a:ext cx="341280" cy="1901880"/>
          </a:xfrm>
          <a:custGeom>
            <a:avLst/>
            <a:gdLst>
              <a:gd name="textAreaLeft" fmla="*/ 0 w 341280"/>
              <a:gd name="textAreaRight" fmla="*/ 123120 w 341280"/>
              <a:gd name="textAreaTop" fmla="*/ 49320 h 1901880"/>
              <a:gd name="textAreaBottom" fmla="*/ 1852560 h 19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9640" y="5530680"/>
            <a:ext cx="38412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target address must be tha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code of an instruction with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thod that contai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(or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 i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690-1CBA-4985-8C78-7366B0DDF8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4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Fibonacci Forever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838440" y="358920"/>
            <a:ext cx="761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www.artima.com/insidejvm/applets/FibonacciForev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560" y="1636560"/>
            <a:ext cx="310680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Fibonacci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atic void calcSequence(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fiboNum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or (;;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96760" y="79380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 1, 2, 3, 5, 8, 13, 21, 34, 55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2760" y="1428840"/>
            <a:ext cx="59414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0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 lstore_0  % Pop long into local vars 0 &amp; 1: 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2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3 lstore_2  % Pop long into local vars 2 &amp; 3: 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4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5 lstore 4  % Pop long into local vars 4 &amp; 5: long fiboNum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7 lload_0   % Push long from local vars 0 &amp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8 lload_2 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9 ladd      % Pop two longs, add them, push res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0 lstore 4 % Pop long into local vars 4 &amp; 5: 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2 lload_2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3 lstore_0 % Pop long into local vars 0 &amp; 1: 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4 lload 4  % Push long from local vars 4 &amp;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6 lstore_2 % Pop long into local vars 2 &amp; 3: 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7 goto 7   % Jump back to offset 7: for (;;) {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2280" y="4941720"/>
            <a:ext cx="54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a 3f 0a 41 0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 20 6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3f 16 04 4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7 ff f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840" y="4948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 CO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6680" y="52578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9200" y="52563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6360" y="5254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oto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551664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“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sembles” t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goto -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782-D6C7-429F-9FBC-E9E8C7E450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8Z</dcterms:modified>
  <cp:revision>288</cp:revision>
  <dc:subject/>
  <dc:title>Slide 1</dc:title>
</cp:coreProperties>
</file>