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7284D-46FC-4774-86CC-C5E16A6B7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overall structure of the MinCaml compiler looks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 is a sequence of transformations from the source language to SPARC assemb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se numbers are the code lines of each module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 have lexing, parsing, type inference,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 am not going to lecture a full compiler cours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let’s have a short look at each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4C12-CDE3-420F-8869-A2B7EA87A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9919-DB2B-4E94-A8BD-1813DF96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614B-2451-4B8E-B4D8-638654D15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960B-713F-440E-885F-BC43A3680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4688-FD01-4DE9-8A41-8CE3C4504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DD2A-9C80-47B1-8D78-DDD8F4684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631D-BC00-43F8-9321-69CC83F0B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73FE-4486-4FF5-8137-3FB00C57E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7A02-A012-4D8E-8359-BA984C424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9347-A668-4517-9294-22FB2224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BF1E-5168-4538-B89B-822A9CE5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3AC8-2EFD-499A-99AD-083BECC2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42446-8C60-4225-B9C3-EFC5B603F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966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11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Register Machines and the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Min-Caml Middle-End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9265-8A27-4ADD-8426-D750B4646B7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Knormalizati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8" name=""/>
          <p:cNvSpPr/>
          <p:nvPr/>
        </p:nvSpPr>
        <p:spPr>
          <a:xfrm>
            <a:off x="1129680" y="565200"/>
            <a:ext cx="5484240" cy="228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x  : int =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c f  : (int) -&gt; (int) -&gt; int y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c g  : (int) -&gt; int z : int = ((x + y) + 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irst  : (int) -&gt; int = (f 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econd  : (int) -&gt; int = (f 8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sult  : int = ((first 99) + (second 44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(print_int resul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08120" y="2695680"/>
            <a:ext cx="0" cy="1182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68200" y="3263760"/>
            <a:ext cx="7404480" cy="319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x  : int = 17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  : (int) -&gt; (int) -&gt; int y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g  : (int) -&gt; int z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7  : int = (x + y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Ti7 + 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irst  : (int) -&gt; int = let Ti1  : int = 21 in (f Ti1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econd  : (int) -&gt; int = let Ti2  : int = 88 in (f Ti2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sult  : int = let Ti4  : int = let Ti3  : int = 99 in (first Ti3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6  : int = let Ti5  : int = 44 in (second Ti5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Ti4 + Ti6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EXTERN(print_int resul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79DC-6604-4438-916E-B9FB678B654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KNormaliza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2" name=""/>
          <p:cNvSpPr/>
          <p:nvPr/>
        </p:nvSpPr>
        <p:spPr>
          <a:xfrm>
            <a:off x="630360" y="1030320"/>
            <a:ext cx="3533400" cy="4814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t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Bool of bo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nt of 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loat of flo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Not of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Neg of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dd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Sub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Neg of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Add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Sub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Mul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Div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Eq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 of 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 of (Id.t * Type.t)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Var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Rec of fundef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pp of t * 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Tuple of 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Tuple of (Id.t * Type.t) lis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rray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Get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Put of 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nd fundef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{ name : Id.t * Type.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rgs : (Id.t * Type.t) lis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body : t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23880" y="1100160"/>
            <a:ext cx="14684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yntax.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884840" y="1076400"/>
            <a:ext cx="3762000" cy="46623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t 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nt of 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loat of flo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Neg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dd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Sub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Neg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Add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Sub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Mul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Div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Eq of Id.t * Id.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LE of Id.t * Id.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 of (Id.t * Type.t)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Var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Rec of fundef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pp of Id.t *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Tuple of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Tuple of (Id.t * Type.t) list * Id.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Get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Put of Id.t *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ExtArray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ExtFunApp of Id.t *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nd fundef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{ name : Id.t * Type.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rgs : (Id.t * Type.t) lis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body : t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344240" y="6083280"/>
            <a:ext cx="694728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val Knormal.f : Syntax.t -&gt; Knormal.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68360" y="1235160"/>
            <a:ext cx="167112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knormal.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1B24-54EB-4D91-BF91-A1A2AAEB2DF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Simplification: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-Reduction, Nested "Let" Reducti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5360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x = y in 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[y/x]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3394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y = (let x =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1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in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2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) in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x =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1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in let y =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2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in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2120" y="3365640"/>
            <a:ext cx="862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7900-0FAA-46D1-A12D-7EC2630E88D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Simplification: Inlin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Inlines all "small"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cludes recursive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mall" = less than a constant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-specified by "-inline" 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peat for a constant number of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-specified by "-iter" 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D2AE-DC9C-41BD-BD42-274C3C8B003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Simplification: Constant Folding and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Unused Variable Eliminati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x = 3 in let y = 7 in x +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x = 3 in let y = 7 in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y effective after inlin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96D7-BBAE-4421-AFA6-AB18FDDD186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implificati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6" name=""/>
          <p:cNvSpPr/>
          <p:nvPr/>
        </p:nvSpPr>
        <p:spPr>
          <a:xfrm>
            <a:off x="708120" y="2695680"/>
            <a:ext cx="0" cy="1182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06640" y="581040"/>
            <a:ext cx="6200280" cy="268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x  : int = 17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f  : (int) -&gt; (int) -&gt; int y : int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g  : (int) -&gt; int z : int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Ti7  : int = (x + y)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(Ti7 + z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in 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first  : (int) -&gt; int = let Ti1  : int = 21 in (f Ti1)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second  : (int) -&gt; int = let Ti2  : int = 88 in (f Ti2)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result  : int = let Ti4  : int = let Ti3  : int = 99 in (first Ti3) 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Ti6  : int = let Ti5  : int = 44 in (second Ti5) 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(Ti4 + Ti6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EXTERN(print_int resul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51280" y="3406680"/>
            <a:ext cx="5301360" cy="319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x.8  : int = 17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.9  : (int) -&gt; (int) -&gt; in ty.10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g.20  : (int) -&gt; int z.21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7.22  : int = (x.8 + y.10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Ti7.22 + z.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g.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1.19  : int             = 21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irst.11  : (int) -&gt; int  = (f.9 Ti1.19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2.18  : int             = 88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econd.12  : (int) -&gt; int = (f.9 Ti2.18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3.17  : int             = 99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4.14  : int             = (first.11 Ti3.17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5.16  : int             = 44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6.15  : int             = (second.12 Ti5.16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sult.13  : int          = (Ti4.14 + Ti6.15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EXTERN(print_int result.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5DAA-21AD-4F25-B56D-FA10C255BBB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Closure Convers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cal function definitions (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re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+   function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50000"/>
              </a:lnSpc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50000"/>
              </a:lnSpc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p-level function defin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osure creations (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make_clos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osure applications (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apply_clos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nown function calls (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apply_dir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398E-83D8-4861-B3C6-70B12A1140E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Example 1: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Closure Creation/Applica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x = 3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rec f y = x + y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f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rec f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top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[x] y = x + y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x = 3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make_closure f = (f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top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, [x])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apply_closure f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2F58-8AAF-4EBA-9BA6-15829864726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Example 2: Known Function Call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rec f x = x + 3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(f, f 7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rec f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top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[] x = x + 3 ;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make_closure f = (f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top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, [])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(f, apply_direct f 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75AD-3288-4E31-BA60-569D933F298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Example 3: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Unused Closure Elimina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rec f x = x + 3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f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rec f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top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[] x = x + 3 ;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apply_direct f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5602-9CF4-4E84-92B4-D436810C3AC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 Black"/>
              </a:rPr>
              <a:t>Register Machines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Basic (Abstract) Operation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932040" y="4336920"/>
            <a:ext cx="197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2 op R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4280" y="132408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28760" y="1376280"/>
            <a:ext cx="478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ve data from memory location L to register 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8560" y="260028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47840" y="2666880"/>
            <a:ext cx="478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ve data from register R to memory location 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0520" y="4213080"/>
            <a:ext cx="541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form operation op in values in registers R2 and R3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then store the result in register R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50320" y="1806480"/>
            <a:ext cx="136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[R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59360" y="1752480"/>
            <a:ext cx="458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ve data from memory location stored in R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register R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58240" y="3171960"/>
            <a:ext cx="136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2]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46040" y="3129120"/>
            <a:ext cx="477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ve data from register R1 to memory loc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ed in R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A975-9FB8-4953-95F5-F3CEB9804C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87280" y="378000"/>
            <a:ext cx="2511360" cy="1109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losure Conversi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2916360" y="2182680"/>
            <a:ext cx="0" cy="11829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30800" y="200160"/>
            <a:ext cx="5301360" cy="319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x.8  : int = 17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.9  : (int) -&gt; (int) -&gt; in ty.10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g.20  : (int) -&gt; int z.21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7.22  : int = (x.8 + y.10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Ti7.22 + z.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g.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1.19  : int             = 21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irst.11  : (int) -&gt; int  = (f.9 Ti1.19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2.18  : int             = 88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econd.12  : (int) -&gt; int = (f.9 Ti2.18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3.17  : int             = 99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4.14  : int             = (first.11 Ti3.17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5.16  : int             = 44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6.15  : int             = (second.12 Ti5.16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sult.13  : int          = (Ti4.14 + Ti6.15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EXTERN(print_int result.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4320" y="3456000"/>
            <a:ext cx="7221600" cy="356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LABEL(g.20) [x.8 : int, y.10 : int] z.21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7.22  : int = (x.8 + y.10) in (Ti7.22 + z.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LABEL(f.9) [x.8 : int] y.10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closure g.20  : (int) -&gt; int = ( LABEL(g.20); [x.8, y.10] ) in g.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x.8  : int                           = 17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closure f.9  : (int) -&gt; (int) -&gt; int = ( LABEL(f.9); [x.8] 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1.19  : int                        = 21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irst.11  : (int) -&gt; int             = APPLY_CLOSURE(f.9 Ti1.19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2.18  : int                        = 88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econd.12  : (int) -&gt; int            = APPLY_CLOSURE(f.9 Ti2.18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3.17  : int                        = 99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4.14  : int                        = APPLY_CLOSURE(first.11 Ti3.17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5.16  : int                        = 44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6.15  : int                        = APPLY_CLOSURE(second.12 Ti5.16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sult.13  : int                     = (Ti4.14 + Ti6.15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PPLY_DIRECT(LABEL(min_caml_print_int) result.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5CC5-2C8B-4D5B-9AB0-CF6DEC12B48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osure Convers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2" name=""/>
          <p:cNvSpPr/>
          <p:nvPr/>
        </p:nvSpPr>
        <p:spPr>
          <a:xfrm>
            <a:off x="336600" y="1006560"/>
            <a:ext cx="3762000" cy="4814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t 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nt of 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loat of flo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Neg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dd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Sub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Neg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Add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Sub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Mul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Div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Eq of Id.t * Id.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LE of Id.t * Id.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 of (Id.t * Type.t)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Var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Rec of fundef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pp of Id.t *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Tuple of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Tuple of (Id.t * Type.t) list * Id.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Get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Put of Id.t *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ExtArray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ExtFunApp of Id.t *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nd fundef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{ name : Id.t * Type.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rgs : (Id.t * Type.t) lis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body : t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21200" y="6059520"/>
            <a:ext cx="767880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val Closure.f : Knormal.t -&gt; Closure.pr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48640" y="1093680"/>
            <a:ext cx="167112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knormal.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84600" y="122076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16400" y="18781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334040" y="1017720"/>
            <a:ext cx="4295520" cy="4814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closure = { entry : Id.l; actual_fv : Id.t list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t 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nt of 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loat of flo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Neg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dd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Sub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Neg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Add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Sub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Mul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Div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Eq of Id.t * Id.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LE of Id.t * Id.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 of (Id.t * Type.t)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Var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MakeCls of (Id.t * Type.t) * closure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ppCls of Id.t *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ppDir of Id.l *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Tuple of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Tuple of (Id.t * Type.t) list * Id.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Get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Put of Id.t *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ExtArray of Id.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fundef = { name : Id.l * Type.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rgs : Id.t * Type.t) lis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formal_fv : (Id.t * Type.t) lis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    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body : t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prog = Prog of fundef lis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68800" y="1744560"/>
            <a:ext cx="15692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losure.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DD56-9572-46DA-813B-E0D96D6F88B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26600" y="0"/>
            <a:ext cx="8528040" cy="549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ompilation as a sequence of small steps…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0" name=""/>
          <p:cNvSpPr/>
          <p:nvPr/>
        </p:nvSpPr>
        <p:spPr>
          <a:xfrm>
            <a:off x="634320" y="3456000"/>
            <a:ext cx="7221600" cy="356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LABEL(g.20) [x.8 : int, y.10 : int] z.21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7.22  : int = (x.8 + y.10) in (Ti7.22 + z.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LABEL(f.9) [x.8 : int] y.10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closure g.20  : (int) -&gt; int = ( LABEL(g.20); [x.8, y.10] ) in g.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x.8  : int                           = 17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closure f.9  : (int) -&gt; (int) -&gt; int = ( LABEL(f.9); [x.8] 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1.19  : int                        = 21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irst.11  : (int) -&gt; int             = APPLY_CLOSURE(f.9 Ti1.19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2.18  : int                        = 88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econd.12  : (int) -&gt; int            = APPLY_CLOSURE(f.9 Ti2.18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3.17  : int                        = 99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4.14  : int                        = APPLY_CLOSURE(first.11 Ti3.17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5.16  : int                        = 44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6.15  : int                        = APPLY_CLOSURE(second.12 Ti5.16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sult.13  : int                     = (Ti4.14 + Ti6.15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PPLY_DIRECT(LABEL(min_caml_print_int) result.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71000" y="884160"/>
            <a:ext cx="4935600" cy="246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x  =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c f  y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c g  z = ((x + y) + 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irst  = (f 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econd  = (f 8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sult  = ((first 99) + (second 44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(print_int resul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49520" y="1684440"/>
            <a:ext cx="12600" cy="177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1585800"/>
            <a:ext cx="2612880" cy="23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x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-normal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pl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osure con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AFB2-2469-4360-A489-7DE6DF0B6B6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528D-F10F-492F-9D32-DE4416D5D9A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nother Example: ack.ml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8" name=""/>
          <p:cNvSpPr/>
          <p:nvPr/>
        </p:nvSpPr>
        <p:spPr>
          <a:xfrm>
            <a:off x="1854000" y="1179360"/>
            <a:ext cx="5057640" cy="20408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rec ack x y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(x &lt;= 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then (y +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(y &lt;= 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then (ack (x - 1)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else (ack (x - 1) (ack x (y - 1)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n (print_int (ack 3 10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12840" y="4095720"/>
            <a:ext cx="6398640" cy="2284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rec ack  : (int, int) -&gt; int x : int y : int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(x &lt;= 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then (y +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(y &lt;= 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then (ack (x - 1)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else (ack (x - 1) (ack x (y - 1)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n (print_int (ack 3 10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27200" y="3013200"/>
            <a:ext cx="691920" cy="831600"/>
          </a:xfrm>
          <a:prstGeom prst="downArrow">
            <a:avLst>
              <a:gd name="adj1" fmla="val 50000"/>
              <a:gd name="adj2" fmla="val 3004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96400" y="34480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96CF-0BAC-4139-9415-3FF8DF69AF2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KNormalization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3" name=""/>
          <p:cNvSpPr/>
          <p:nvPr/>
        </p:nvSpPr>
        <p:spPr>
          <a:xfrm>
            <a:off x="1806480" y="132732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44720" y="16192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17480" y="109872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17480" y="22208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55320" y="1569960"/>
            <a:ext cx="8318880" cy="44744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ack  : (int, int) -&gt; int x : int y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4  : int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f x &lt;= Ti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5  : int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(y + Ti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6  : int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f y &lt;= Ti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8  : int = let Ti7  : int = 1 in (x - Ti7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9  : int = 1 in (ack Ti8 Ti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1  : int = let Ti10  : int = 1 in (x - Ti10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4  : int =  let Ti13  : int =  (let Ti12  : int = 1 in (y - Ti12)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    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(ack x Ti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(ack Ti11 Ti1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3  : int = let Ti1  : int = 3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2  : int = 10 in (ack Ti1 Ti2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EXTERN(print_int Ti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4815-F5B1-43CF-875B-8ED16AB0C93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fter Simplifica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9" name=""/>
          <p:cNvSpPr/>
          <p:nvPr/>
        </p:nvSpPr>
        <p:spPr>
          <a:xfrm>
            <a:off x="284760" y="1057320"/>
            <a:ext cx="5392800" cy="53870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ack.15  : (int, int) -&gt; int x.16 : int y.17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4.21  : int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f x.16 &lt;= Ti4.2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5.31  : int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(y.17 + Ti5.3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6.22  : int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f y.17 &lt;= Ti6.2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7.30  : int = 1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8.28  : int = (x.16 - Ti7.30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9.29  : int =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(ack.15 Ti8.28 Ti9.2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0.27  : int = 1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1.23  : int = (x.16 - Ti10.27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2.26  : int = 1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3.25  : int = (y.17 - Ti12.26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4.24  : int = (ack.15 x.16 Ti13.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(ack.15 Ti11.23 Ti14.2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.19  : int = 3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2.20  : int = 10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3.18  : int = (ack.15 Ti1.19 Ti2.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EXTERN(print_int Ti3.1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BD64-1180-47C0-8C3A-348798BCECF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osure Convers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1" name=""/>
          <p:cNvSpPr/>
          <p:nvPr/>
        </p:nvSpPr>
        <p:spPr>
          <a:xfrm>
            <a:off x="403560" y="1017720"/>
            <a:ext cx="6215760" cy="53870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ack.15  : (int, int) -&gt; int x.16 : int, y.17 : int 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4.21  : int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f x.16 &lt;= Ti4.2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5.31  : int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(y.17 + Ti5.3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6.22  : int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f y.17 &lt;= Ti6.2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7.30  : int = 1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8.28  : int = (x.16 - Ti7.30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9.29  : int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APPLY_DIRECT(ack.15 Ti8.28 Ti9.2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0.27  : int = 1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1.23  : int = (x.16 - Ti10.27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2.26  : int = 1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3.25  : int = (y.17 - Ti12.26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4.24  : int = APPLY_DIRECT(ack.15 x.16 Ti13.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APPLY_DIRECT(ack.15 Ti11.23 Ti14.2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.19  : int = 3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2.20  : int = 10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3.18  : int = APPLY_DIRECT(ack.15 Ti1.19 Ti2.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APPLY_DIRECT(min_caml_print_int Ti3.1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80A1-4912-40C0-B95C-4E03EA7BABC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Yet another example : funcomp.ml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3" name=""/>
          <p:cNvSpPr/>
          <p:nvPr/>
        </p:nvSpPr>
        <p:spPr>
          <a:xfrm>
            <a:off x="741240" y="2031840"/>
            <a:ext cx="7495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rec compose f g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rec composed x = g (f x)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composed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rec dbl x = x + x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rec inc x = x + 1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rec dec x = x - 1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h = compose inc (compose dbl dec)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print_int (h 12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0F88-39EC-4F04-9488-2D7851635BE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tack Machine to Register Machin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2" name=""/>
          <p:cNvSpPr/>
          <p:nvPr/>
        </p:nvSpPr>
        <p:spPr>
          <a:xfrm>
            <a:off x="323640" y="1206360"/>
            <a:ext cx="49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simple translation that produces terrible cod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16400" y="2433600"/>
            <a:ext cx="111960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arith 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41520" y="2278080"/>
            <a:ext cx="1414800" cy="708120"/>
          </a:xfrm>
          <a:prstGeom prst="rightArrow">
            <a:avLst>
              <a:gd name="adj1" fmla="val 50000"/>
              <a:gd name="adj2" fmla="val 4994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60000" y="3664080"/>
            <a:ext cx="192276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R1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R2 op R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727960" y="4098960"/>
            <a:ext cx="126756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[SP]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70440" y="4595760"/>
            <a:ext cx="151272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P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P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31920" y="2727360"/>
            <a:ext cx="144864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P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P -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713200" y="3200400"/>
            <a:ext cx="139860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R3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[SP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21120" y="2257560"/>
            <a:ext cx="139860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R2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[SP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03480" y="1798560"/>
            <a:ext cx="144864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P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P -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24000" y="5656320"/>
            <a:ext cx="3196800" cy="8240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This assumes that stack g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upwards, and SP always po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to the next free sl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7000" y="4352760"/>
            <a:ext cx="4655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this defeats the whole point of registers 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are FAST local memory that shou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used to reduce CPU to memory traffi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B4F0-F7AE-4BFA-8446-EF1658FFB0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 Better way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5" name=""/>
          <p:cNvSpPr/>
          <p:nvPr/>
        </p:nvSpPr>
        <p:spPr>
          <a:xfrm>
            <a:off x="402120" y="2322360"/>
            <a:ext cx="142740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Program 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013120" y="2511360"/>
            <a:ext cx="8157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32400" y="2570040"/>
            <a:ext cx="8157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58840" y="2039760"/>
            <a:ext cx="1427400" cy="1067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Give explici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names to al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Intermed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551560" y="2135160"/>
            <a:ext cx="2465280" cy="1067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Generate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or an abstra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Machine with an infin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number of registe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62880" y="3236760"/>
            <a:ext cx="10800" cy="901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648040" y="4143240"/>
            <a:ext cx="3252960" cy="15541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Perform “Register Allocation” 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map abstract registers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ctual machine register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“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pilling” registers into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only when you run out of actu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register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91080" y="4908600"/>
            <a:ext cx="816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38960" y="4745160"/>
            <a:ext cx="164844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mit assemb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46AC-015A-4262-88C9-F1F15EC65F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-498600" y="644400"/>
            <a:ext cx="7580520" cy="5685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11560" y="6334200"/>
            <a:ext cx="408204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http://min-caml.sourceforge.net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t’s look at the MinCaml Middle-End!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5604120" y="1176480"/>
            <a:ext cx="3533400" cy="4814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t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Bool of bo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nt of 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loat of flo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Not of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Neg of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dd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Sub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Neg of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Add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Sub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Mul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Div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Eq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 of 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 of (Id.t * Type.t)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Var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Rec of fundef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pp of t * 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Tuple of 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Tuple of (Id.t * Type.t) lis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rray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Get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Put of 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nd fundef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{ name : Id.t * Type.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rgs : (Id.t * Type.t) lis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body : t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97640" y="1246320"/>
            <a:ext cx="14684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yntax.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B4BA-1671-46BE-8191-9E3BECD9B49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MinCaml Compiler Roadma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0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c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8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91" idx="3"/>
            <a:endCxn id="90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3" name=""/>
          <p:cNvCxnSpPr>
            <a:stCxn id="90" idx="3"/>
            <a:endCxn id="93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4" name=""/>
          <p:cNvCxnSpPr>
            <a:stCxn id="93" idx="3"/>
            <a:endCxn id="92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5" name=""/>
          <p:cNvCxnSpPr>
            <a:stCxn id="97" idx="2"/>
            <a:endCxn id="96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6" name=""/>
          <p:cNvCxnSpPr>
            <a:stCxn id="101" idx="3"/>
            <a:endCxn id="91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7" name=""/>
          <p:cNvCxnSpPr/>
          <p:nvPr/>
        </p:nvCxnSpPr>
        <p:spPr>
          <a:xfrm>
            <a:off x="8494200" y="2813040"/>
            <a:ext cx="1080" cy="1038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8" name=""/>
          <p:cNvCxnSpPr>
            <a:stCxn id="95" idx="1"/>
            <a:endCxn id="94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9" name=""/>
          <p:cNvCxnSpPr>
            <a:stCxn id="94" idx="1"/>
            <a:endCxn id="97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10" name=""/>
          <p:cNvCxnSpPr>
            <a:stCxn id="96" idx="3"/>
            <a:endCxn id="99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11" name=""/>
          <p:cNvCxnSpPr>
            <a:stCxn id="99" idx="3"/>
            <a:endCxn id="98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12" name=""/>
          <p:cNvCxnSpPr>
            <a:stCxn id="98" idx="3"/>
            <a:endCxn id="113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14" name=""/>
          <p:cNvCxnSpPr>
            <a:stCxn id="97" idx="0"/>
            <a:endCxn id="115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27700000"/>
              <a:gd name="adj2" fmla="val 49997"/>
              <a:gd name="adj3" fmla="val -27700000"/>
            </a:avLst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16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5" idx="1"/>
            <a:endCxn id="128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30" name=""/>
          <p:cNvCxnSpPr>
            <a:stCxn id="128" idx="1"/>
            <a:endCxn id="95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31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"/>
          <p:cNvCxnSpPr>
            <a:stCxn id="113" idx="3"/>
            <a:endCxn id="100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34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4800" y="1230480"/>
            <a:ext cx="337356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tages, with lines of ocaml code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C784-2717-426A-96F1-CA98DC5149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Putting it all together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7" name=""/>
          <p:cNvSpPr/>
          <p:nvPr/>
        </p:nvSpPr>
        <p:spPr>
          <a:xfrm>
            <a:off x="284040" y="1047600"/>
            <a:ext cx="8379000" cy="47178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rec iter n e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n = 0 then e 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e' = Elim.f (ConstFold.f (Inline.f (Assoc.f (Beta.f e))))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e = e' then e else iter (n - 1) e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lexbuf outchan l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d.counter :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Typing.extenv := M.empt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Emit.f outch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RegAlloc.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Simm13.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Virtual.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Closure.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iter !lim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Alpha.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KNormal.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Typing.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Parser.exp Lexer.token l)))))))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40600" y="3211560"/>
            <a:ext cx="246816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rom min-caml/main.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94440" y="6105600"/>
            <a:ext cx="199728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lean code!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7AAF-BF0B-4874-8B96-29AA4323C8B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K-Normaliza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a + b + c *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tmp1 = a + b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tmp2 = c * d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tmp1 + tmp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st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llowe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x = (let y =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1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in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2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) in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6163-13D6-4D2B-AA53-941E0FE0A3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Example.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3" name=""/>
          <p:cNvSpPr/>
          <p:nvPr/>
        </p:nvSpPr>
        <p:spPr>
          <a:xfrm>
            <a:off x="1863720" y="617400"/>
            <a:ext cx="5727960" cy="286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x  = 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rec f  y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rec g  z = ((x + y) + 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first  = (f 2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second  = (f 8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result  = ((first 99) + (second 44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(print_int resul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78480" y="3652920"/>
            <a:ext cx="6368040" cy="26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x  : int = 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rec f  : (int) -&gt; (int) -&gt; int y : int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rec g  : (int) -&gt; int z : int = ((x + y) + 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first  : (int) -&gt; int = (f 2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second  : (int) -&gt; int = (f 8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result  : int = ((first 99) + (second 44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(print_int resul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36840" y="2975040"/>
            <a:ext cx="0" cy="1182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5880" y="34369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C621-0865-4088-A145-3F3C97DA5AF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15T20:28:48Z</dcterms:modified>
  <cp:revision>295</cp:revision>
  <dc:subject/>
  <dc:title>Slide 1</dc:title>
</cp:coreProperties>
</file>