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AFB-21EA-4312-8B9F-F5F4821A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A6D3-36B7-4A1E-8E91-D433CFF0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F5C-747A-406A-BC6A-FD4EED14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FD4-8A46-4C7C-943D-98AF9040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DE1-DA43-41BD-B808-D9C5E1E0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E37-2267-4722-9283-1BA554DF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12A-0A50-40D0-92C9-429A8245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3A5-FDBB-474C-BDBD-51E97515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C76-6993-47D7-8452-76453B7B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C85-89AD-4159-95FB-18AB3AB4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8DE-5F6A-4351-B8F7-5A3760AC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DFE-C6D2-4830-B5B1-DAA02C5B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5254-C97B-4AD8-9C5C-6683B1258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tic Analysis --- Variables, Scope, and Typ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789-2C04-4302-B417-6FA70FAED7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s and Type Error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83200" y="1582560"/>
            <a:ext cx="310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“this”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080" y="2687760"/>
            <a:ext cx="438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 f(int x, int y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(1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92840" y="41655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type systems imposes a discipline on programming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sures that the abstractions represented by typ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 violated by a correct progr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78320" y="1463760"/>
            <a:ext cx="854280" cy="2352600"/>
          </a:xfrm>
          <a:custGeom>
            <a:avLst/>
            <a:gdLst>
              <a:gd name="textAreaLeft" fmla="*/ 0 w 854280"/>
              <a:gd name="textAreaRight" fmla="*/ 308520 w 85428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51760" y="246204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vious typ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32040" y="542592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ules can be enforced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ile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8280" y="5925960"/>
            <a:ext cx="1204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02800" y="5859360"/>
            <a:ext cx="149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56E-5F21-490F-834B-4019946A59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a type error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813960" y="173664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true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9440" y="120636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a type err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560" y="25081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080" y="33368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th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9480" y="385452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g(x)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5240" y="4773600"/>
            <a:ext cx="76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can prove that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(x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lways true, then is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9320" y="5499000"/>
            <a:ext cx="84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at might be too much to ask for a (static) type checking system,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ooks like a undecidable probl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5DD-45C9-4BB4-AD72-265B4EA13C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 Sys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3560" y="107424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nguage’s type system specifies how to construct types and which operations are valid for which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provide a concise formalization of the semantic check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can be thought of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which some very weak assertions can be prov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01200" y="397368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reconditions} program {postcondition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5200" y="526104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 x :int } y = x + 17;  { y : int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FD7-0200-4621-BA0F-9FCE57A2CA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other way to think of types as a logic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5712120" y="23130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5120" y="14018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5360" y="148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960" y="239544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70240" y="1547640"/>
            <a:ext cx="34920" cy="464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7160" y="4538520"/>
            <a:ext cx="33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A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4480" y="4489560"/>
            <a:ext cx="42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x:A |- x :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3800" y="3925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473-3DB7-47ED-B269-110D376BB8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junction and Pai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81040" y="18255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: A                H |- b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a, b) :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68280" y="4332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st(p) :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67520" y="4317840"/>
            <a:ext cx="192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snd(p) :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3240" y="2120760"/>
            <a:ext cx="12600" cy="39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200" y="20289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               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2440" y="45356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3040" y="4521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D79-4E16-44F3-B837-2E8C708854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mplication and function types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4413240" y="21207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202896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A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9640" y="3571920"/>
            <a:ext cx="306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3160" y="2233440"/>
            <a:ext cx="29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x:A |- e: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un x:A.e :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0400" y="3776760"/>
            <a:ext cx="357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: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(a)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B4D-6241-43EA-8119-BEF17B06A0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junction and Case Switch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71360" y="3164040"/>
            <a:ext cx="87282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800" y="34005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5440" y="11556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240" y="199404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49640" y="1962000"/>
            <a:ext cx="385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||B     H,A |- C    H,B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84680" y="195408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09840" y="386712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r(a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9440" y="379080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l(b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0000" y="5286240"/>
            <a:ext cx="624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d : A||B     H, x:A |- e1 : C    H, y:B |- e2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case d of inr(x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1, inr(y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2)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CC2-A558-4A31-A2A8-AD44E373B4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CD9-0863-478A-AB2E-3C51B82BAF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3440" y="4483080"/>
            <a:ext cx="46332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k) vs. LR(k) reduct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28800" y="1130400"/>
                <a:ext cx="700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∪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65360" y="1930320"/>
                <a:ext cx="118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L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451400" y="1817640"/>
            <a:ext cx="23760" cy="460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040" y="2498760"/>
            <a:ext cx="815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892840" y="1878120"/>
                <a:ext cx="11858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08120" y="2936880"/>
            <a:ext cx="29257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8600" y="293544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62280" y="284652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1682640" y="347472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81000" y="316188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32200" y="3651120"/>
            <a:ext cx="19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50000"/>
            <a:ext cx="463680" cy="107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4320" y="57117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03440" y="449892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822400" y="447984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7440" y="4933800"/>
            <a:ext cx="46332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22400" y="4441680"/>
                <a:ext cx="42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474920" y="4863960"/>
            <a:ext cx="987120" cy="560520"/>
          </a:xfrm>
          <a:prstGeom prst="rightArrow">
            <a:avLst>
              <a:gd name="adj1" fmla="val 50000"/>
              <a:gd name="adj2" fmla="val 4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0640" y="4422600"/>
            <a:ext cx="108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f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1680" y="438300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3000" y="2860560"/>
            <a:ext cx="341280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3120" y="2859120"/>
            <a:ext cx="1109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76800" y="277020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V="1">
            <a:off x="6970680" y="32889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7216560" y="308556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92160" y="351468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73760" y="484992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2920" y="561168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026560" y="437364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8001000" y="437976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5680" y="483408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904000" y="4329000"/>
                <a:ext cx="426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653160" y="4764240"/>
            <a:ext cx="987480" cy="560160"/>
          </a:xfrm>
          <a:prstGeom prst="rightArrow">
            <a:avLst>
              <a:gd name="adj1" fmla="val 50000"/>
              <a:gd name="adj2" fmla="val 44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9200" y="43988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400" y="1838160"/>
            <a:ext cx="815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015400" y="437508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879440" y="6103800"/>
            <a:ext cx="2126880" cy="58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he language of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ck IS REGULA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14F-1490-4F35-B094-D3D77FF482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610000"/>
            <a:ext cx="8510400" cy="20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7000" y="1109520"/>
            <a:ext cx="426744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67480" y="301932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k) states (non-deterministic)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73480" y="1136520"/>
                <a:ext cx="41115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390680" y="2911320"/>
            <a:ext cx="292572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1160" y="290988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44840" y="282096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 flipV="1">
            <a:off x="2365200" y="34491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9560" y="348624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25120" y="293220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567480" y="3070080"/>
                <a:ext cx="426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27080" y="5205240"/>
                <a:ext cx="3772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250760" y="28004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5680" y="1190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360" y="19684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hould represent this situ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5240" y="294012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9200" y="5356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76C-1F30-4EA2-8CBD-E11499BCD6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Stack Mach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Register Machine &amp; 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d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6280" y="399888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45280" y="500544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49960" y="2863800"/>
            <a:ext cx="196920" cy="1013040"/>
          </a:xfrm>
          <a:custGeom>
            <a:avLst/>
            <a:gdLst>
              <a:gd name="textAreaLeft" fmla="*/ 0 w 196920"/>
              <a:gd name="textAreaRight" fmla="*/ 70920 w 196920"/>
              <a:gd name="textAreaTop" fmla="*/ 26280 h 1013040"/>
              <a:gd name="textAreaBottom" fmla="*/ 986760 h 101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7560" y="491184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7080" y="4068720"/>
            <a:ext cx="220680" cy="709560"/>
          </a:xfrm>
          <a:custGeom>
            <a:avLst/>
            <a:gdLst>
              <a:gd name="textAreaLeft" fmla="*/ 0 w 220680"/>
              <a:gd name="textAreaRight" fmla="*/ 79560 w 220680"/>
              <a:gd name="textAreaTop" fmla="*/ 18360 h 709560"/>
              <a:gd name="textAreaBottom" fmla="*/ 69120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73C-ECAD-4B93-9A76-CC450CEE2D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3680" y="380520"/>
            <a:ext cx="885996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Names, binding, scope, type checking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4280" y="2565360"/>
            <a:ext cx="408960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(visi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1200" y="1297080"/>
            <a:ext cx="30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tatic int x = 17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id f(int x, int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i,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 = i + 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g(int i, int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k, 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i, 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609-5B33-4FC1-BFAC-FB2C9E1725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cop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variable is the range of statements over which it is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nlocal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rogram unit are those that are visible but not declar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ope rules of a language determine how references to names are associated with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D59B-A077-4C06-A01E-254AB406F4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-values vs. R-valu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124800" y="1447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x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480" y="1523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97040" y="1864800"/>
            <a:ext cx="573120" cy="56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9880" y="24620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lo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54400" y="1923840"/>
            <a:ext cx="473040" cy="48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40960" y="24591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stored at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associated with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0240" y="4456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[j*2] = j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43750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s may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d at run-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B60-CAA5-44F8-AA79-71B8A6802F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27400" y="-360"/>
            <a:ext cx="46130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in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6200" y="115560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is not formally defined. Intuitively, we associate (that is, bind) an attribute with an entity. Examples of attributes are name, type,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occurs at various times in the life of a program. Three periods are usually consid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il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ctually, translation time, because binding happens both in compilers and interpreter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paring object code for execution, pulling in the necessary code for built-in operations or operations defined in libraries of modul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starting the program's execution and its termin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650-1886-4E19-99A7-C4F64D7CE0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ynamic binding is just a BAD IDE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57440" y="1774800"/>
            <a:ext cx="29239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f(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g(a) = f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 g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20800" y="3608280"/>
            <a:ext cx="1122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92280" y="37418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39960" y="370188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9840" y="3605040"/>
            <a:ext cx="1155600" cy="76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64320" y="45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66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720" y="5156280"/>
            <a:ext cx="62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hough dynamic scoping is easier to implement, reading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ing code can be nearly impos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8A4-B39E-4B9A-8B94-AF41E36C09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3T09:29:01Z</dcterms:modified>
  <cp:revision>282</cp:revision>
  <dc:subject/>
  <dc:title>Slide 1</dc:title>
</cp:coreProperties>
</file>