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0386-7F99-42A5-884B-55D08010F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0131-53AD-4892-9ABB-E342FB523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D21C-5A85-48B1-AC8F-2584676EC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96D1-21FC-4042-BDD9-8040911FD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44C2-17EA-4D68-827A-7431BDFD8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A229-919B-46F8-AC8E-3AEDB6725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3C5F-C3FD-49F0-BF21-1EFC60C1A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5D9B-B148-4B61-83C6-6CA408C1C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05D4-D27E-47D0-A73F-F076FE32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09A-8883-44C1-B55C-9EBDE761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E92-EFB6-429F-94B7-72BCFBA5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6B1B-5E92-4727-B466-945AD15A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E5C-62C4-4BA1-B99F-E5CE3D85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699E-774C-4C98-A09D-0B4EE123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4E54-56D5-4CF0-B4B7-ED075DF6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19D-AAB5-4764-8A8F-80FF6184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D6B0-45CC-43BC-9D2E-FCC149F9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CF18-A38D-4D4B-82D0-727CB7A9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D7C3-8820-4E77-9392-2BB867F8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8AA0-3523-481C-BD09-3CBF2797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2F84-FFB5-405E-AE2D-E426C0996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25A-4299-4DEE-981E-A1AD4443A4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Stat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1120" y="11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for example the LR(1)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he sam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an be merged to the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/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/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alled LALR(1)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s for LookAhead 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10 times fewer LALR(1) states than LR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8FA-AE0D-4E12-A109-1604170386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For LALR(1), Collapse States .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831080" cy="403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65440" y="5197320"/>
            <a:ext cx="4803840" cy="6368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6760" y="3576600"/>
            <a:ext cx="2211480" cy="1065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27240" y="3830760"/>
            <a:ext cx="7662600" cy="2512800"/>
          </a:xfrm>
          <a:custGeom>
            <a:avLst/>
            <a:gdLst/>
            <a:ahLst/>
            <a:rect l="l" t="t" r="r" b="b"/>
            <a:pathLst>
              <a:path w="4827" h="1583">
                <a:moveTo>
                  <a:pt x="0" y="336"/>
                </a:moveTo>
                <a:lnTo>
                  <a:pt x="51" y="1583"/>
                </a:lnTo>
                <a:lnTo>
                  <a:pt x="4827" y="1546"/>
                </a:lnTo>
                <a:lnTo>
                  <a:pt x="4754" y="0"/>
                </a:lnTo>
                <a:lnTo>
                  <a:pt x="3084" y="15"/>
                </a:lnTo>
                <a:lnTo>
                  <a:pt x="3069" y="751"/>
                </a:lnTo>
                <a:lnTo>
                  <a:pt x="4681" y="759"/>
                </a:lnTo>
                <a:lnTo>
                  <a:pt x="4717" y="1451"/>
                </a:lnTo>
                <a:lnTo>
                  <a:pt x="1123" y="1444"/>
                </a:lnTo>
                <a:lnTo>
                  <a:pt x="1247" y="292"/>
                </a:lnTo>
                <a:lnTo>
                  <a:pt x="0" y="336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49520" y="3067200"/>
            <a:ext cx="2511720" cy="2025360"/>
          </a:xfrm>
          <a:custGeom>
            <a:avLst/>
            <a:gdLst/>
            <a:ahLst/>
            <a:rect l="l" t="t" r="r" b="b"/>
            <a:pathLst>
              <a:path w="1582" h="1276">
                <a:moveTo>
                  <a:pt x="58" y="29"/>
                </a:moveTo>
                <a:lnTo>
                  <a:pt x="51" y="241"/>
                </a:lnTo>
                <a:lnTo>
                  <a:pt x="1538" y="241"/>
                </a:lnTo>
                <a:lnTo>
                  <a:pt x="1538" y="1050"/>
                </a:lnTo>
                <a:lnTo>
                  <a:pt x="7" y="1043"/>
                </a:lnTo>
                <a:lnTo>
                  <a:pt x="0" y="1276"/>
                </a:lnTo>
                <a:lnTo>
                  <a:pt x="1582" y="1262"/>
                </a:lnTo>
                <a:lnTo>
                  <a:pt x="1582" y="0"/>
                </a:lnTo>
                <a:lnTo>
                  <a:pt x="58" y="2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119240"/>
            <a:ext cx="54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mbine states 6 and 13, 7 and 12, 8 and 11, 10 and 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1729-5891-402C-999B-36DA84C81B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ALR(1)-parse-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4AD-7498-4032-BC94-AC4D8C33A7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vs. LR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LR languages are not “natur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an efficiency hack on L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see claims that any reasonable programming language has a LALR(1) grammar, {Arguably this is done by defining languages without an LALR(1) grammar as unreason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y case, LALR(1) has become a standard for programming languages and for parser generators, in spite of its apparent complex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C08-C43F-4477-92B1-6A6D2A82F6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 and Parser Generato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471600" y="1238400"/>
            <a:ext cx="71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http://catalog.compilertools.net/lexpars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55960" y="1746360"/>
            <a:ext cx="1829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FLEX A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N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/EIF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T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GEN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PO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F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0040" y="1798560"/>
            <a:ext cx="2093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AP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L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L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C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E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OGR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ISUALPARSE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AC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99040" y="5722920"/>
            <a:ext cx="422388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’ll use ocamllex and ocamlyacc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E2C-5772-4C00-9F62-87893BE7BF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t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368640" y="1589040"/>
            <a:ext cx="8105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unary_op = UnaryMinus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ast = Ident of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Unary of unary_op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Binary of binary_op * ast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2CB-3B3E-4081-B1F3-520B47E45D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er.ml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-322920" y="966960"/>
            <a:ext cx="70081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int&gt; 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string&gt; 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PLUS MINUS TIMES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LPAREN RP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PLUS MINUS        /* low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TIMES DIV         /* medium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nonassoc UMINUS        /* high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start parse_it         /* the entry point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ype &lt;ast&gt; parse_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rse_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 EOF                { $1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                     { Number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IDENT                   { Ident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LPAREN expr RPAREN      { $2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PLUS expr          { Binary(Pl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MINUS expr         { Binary(Min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TIMES expr         { Binary(Time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DIV expr           { Binary(Div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MINUS expr %prec UMINUS { Unary(UnaryMinusOp, $2)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55440" y="6089760"/>
            <a:ext cx="4280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yacc parser.mly  </a:t>
            </a:r>
            <a:r>
              <a:rPr b="0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parser.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this case producing a 21-state D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9680-ABCC-4CD0-A226-CC82BE4588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.m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588960" y="1873080"/>
            <a:ext cx="8181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ule tokenize = p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[' ' '\t' '\n' ]     { tokenize lexbuf } (* skip white-space 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a'-'z' 'A'-'Z']['a'-'z' 'A'-'Z' '0'-'9']* as lxm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{ IDENT(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0'-'9']+ as lxm    { INT(int_of_string 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+'                  { PL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-'                  { MIN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*'                  { TIME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/'                  { DIV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('                  { L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)'                  { R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of                  { EO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93960" y="5354640"/>
            <a:ext cx="481824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ocamllex lexer.mll 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lexer.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in this case producing an 11-state D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with 342 trans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1600" y="580392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F277-F98C-44BC-9CED-FE8F29D108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Parse i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495000" y="1262160"/>
            <a:ext cx="83494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ast_of_string s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lexbuf = Lexing.from_string 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rse_it tokenize lexbu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(9 - 10) + ((-xyz100) * 44)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9 - 10 + -xyz100 * 44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194-47AA-4AB5-9396-BB313B135A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crete vs. Abstract Syntax Tre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64080" y="1202400"/>
            <a:ext cx="1911240" cy="3812400"/>
            <a:chOff x="1864080" y="1202400"/>
            <a:chExt cx="1911240" cy="3812400"/>
          </a:xfrm>
        </p:grpSpPr>
        <p:sp>
          <p:nvSpPr>
            <p:cNvPr id="99" name=""/>
            <p:cNvSpPr/>
            <p:nvPr/>
          </p:nvSpPr>
          <p:spPr>
            <a:xfrm>
              <a:off x="3083400" y="12024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51480" y="161028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6800" y="206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96600" y="251676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 S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990880" y="1579680"/>
              <a:ext cx="14760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17760" y="1550880"/>
              <a:ext cx="14940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57280" y="157968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00160" y="1996920"/>
              <a:ext cx="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00160" y="242892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647800" y="2398680"/>
              <a:ext cx="1634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90880" y="2398680"/>
              <a:ext cx="14760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0720" y="2067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5720" y="1996920"/>
              <a:ext cx="0" cy="16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35760" y="295812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00160" y="2874960"/>
              <a:ext cx="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4320" y="340560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633400" y="2905200"/>
              <a:ext cx="1922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5040" y="2874960"/>
              <a:ext cx="16344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3280" y="333540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25000" y="33897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S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3480" y="332100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75680" y="38199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109320" y="3753000"/>
              <a:ext cx="119160" cy="13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17760" y="3767040"/>
              <a:ext cx="10332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273480" y="378288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127240" y="3276720"/>
              <a:ext cx="32688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334600" y="3321000"/>
              <a:ext cx="149400" cy="22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64080" y="379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066760" y="37666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880" y="426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035160" y="419904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74520" y="4253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066760" y="4199040"/>
              <a:ext cx="0" cy="11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93640" y="391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543040" y="379728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56960" y="4555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63480" y="4134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206760" y="238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6388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0536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26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80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00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3068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716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6372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22520" y="3500280"/>
            <a:ext cx="23796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3530520"/>
            <a:ext cx="30240" cy="22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654520" y="3083040"/>
            <a:ext cx="25272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3112920"/>
            <a:ext cx="29664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189840" y="3514680"/>
            <a:ext cx="149040" cy="22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43640" y="3500280"/>
            <a:ext cx="119160" cy="2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56280" y="2697120"/>
            <a:ext cx="22392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2666880"/>
            <a:ext cx="20808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720" y="1218240"/>
            <a:ext cx="221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arse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rivation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ncrete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3480" y="2056320"/>
            <a:ext cx="32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bstract Syntax Tree (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91040" y="2776680"/>
            <a:ext cx="815760" cy="352440"/>
          </a:xfrm>
          <a:prstGeom prst="rightArrow">
            <a:avLst>
              <a:gd name="adj1" fmla="val 50000"/>
              <a:gd name="adj2" fmla="val 5786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84800" y="4267080"/>
            <a:ext cx="4140000" cy="811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 AST contains only the information needed to generate an intermediate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1320" y="5562720"/>
            <a:ext cx="8110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a compiler constructs the concrete syntax tree only implici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the parsing process) and explicitly constructs the AST vi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 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510-3879-4932-963B-60B866EFED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roblem With LR(0)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1193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No look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Vulnerable to unnecessar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Shift/Reduce Conflicts (may reduce too soon in some c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Reduce/Reduc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LR(1) parsing - systematic look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668-0DE0-405B-8EB4-FC93F70A75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1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7160" y="161100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R(1) i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a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terminal (the lookahead 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means 1 lookahead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a]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a context of the pars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trying to find a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by a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 (at least)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ready on top of th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we need to see nex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fix deri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CC0F-6B29-4E79-88E2-B20B269E8E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Closure Oper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5880" y="128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modify closure operation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ure(Items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 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] i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 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Items is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C69-9EE0-43D9-A662-F4C3F7F5BD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the Parsing DFA (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473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FA state is a closed set of LR(1)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t state contai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’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$, dumm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labeled with 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duce with 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n lookahead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ow the transitio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527-5E80-4EBA-827C-0EF78C4FBD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DFA Transi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346040"/>
            <a:ext cx="8229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s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a transition labele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tate obtained from Transition(s,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can be a terminal or a non-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(s, 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= 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Closure(It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E03-0CCC-40E2-9586-20C09F9E65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the 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hift and goto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tate I with item (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., z) gives a reduce 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if z is the next character in the inp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LR(1)-parse tables are very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299-5155-4406-86E5-DD8A18E3DE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DF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65320" y="1693800"/>
            <a:ext cx="7078680" cy="364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59480" y="5965920"/>
            <a:ext cx="70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0520" y="1897200"/>
            <a:ext cx="1250640" cy="31114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’ ::= 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V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V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*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5C3-5B54-481D-BC14-ED0EE50E82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4000" y="1484280"/>
          <a:ext cx="8569080" cy="4064040"/>
        </p:xfrm>
        <a:graphic>
          <a:graphicData uri="http://schemas.openxmlformats.org/drawingml/2006/table">
            <a:tbl>
              <a:tblPr/>
              <a:tblGrid>
                <a:gridCol w="536400"/>
                <a:gridCol w="534960"/>
                <a:gridCol w="534960"/>
                <a:gridCol w="534960"/>
                <a:gridCol w="536760"/>
                <a:gridCol w="534960"/>
                <a:gridCol w="536400"/>
                <a:gridCol w="536760"/>
                <a:gridCol w="533520"/>
                <a:gridCol w="536400"/>
                <a:gridCol w="534960"/>
                <a:gridCol w="536760"/>
                <a:gridCol w="534960"/>
                <a:gridCol w="534960"/>
                <a:gridCol w="534960"/>
                <a:gridCol w="536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001D-FE6F-46CD-8229-EE9A22763B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2Z</dcterms:modified>
  <cp:revision>268</cp:revision>
  <dc:subject/>
  <dc:title>Slide 1</dc:title>
</cp:coreProperties>
</file>