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0D3-BAB8-4756-A0DF-F49C4284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051-4479-4D7D-B4A6-C5AC9FEE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D5F-9282-4180-9768-02973D3A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135-4D44-4EB5-A946-ABE07279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05E7-A4E0-40C5-8FBA-21FC2B08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4FB-1FAF-45E1-973E-140D679D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0B4-9AA3-4A90-B5CC-6D0CC51D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821-5B96-4B1A-93C9-7D29AA21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2A0-A462-46C1-BC67-AEC61817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3D3-E099-497E-8DE9-80D64F90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9EA-B40E-40A3-B389-EF3F414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19A-A660-48CE-9215-FE41E941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8161-02A1-4654-BFA4-F7E69C91E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inuation Passing Style (CPS)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OPTIONAL TOPIC: 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WILL NOT BE EXAMINED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BCF-AB92-4641-82FA-AA9235F058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4?  This is a “classical” resul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1235160"/>
            <a:ext cx="871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m4 : : (('a,'b) And -&gt; 'c) -&gt; ('a -&gt; ‘c,'b -&gt; 'c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dm4 f = callcc(fn k =&gt; Left(fn a =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k (Right(fn b =&gt; f(Pair(a,b)))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" y="4170240"/>
            <a:ext cx="926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interpret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callcc (fn j =&gt; Left(fn a =&gt; (..)))]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current continu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Left(fn a=&gt; (..))]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as if left branch is tr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’[(fn a=&gt;(..))V]   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unction is ever applied to a val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Right(fn b =&gt; Pair(V, b))]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jump back to the original contex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C27-4428-45D7-934E-103CA563BD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ation Passing Sty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0440" y="1784520"/>
            <a:ext cx="3228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 n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n * (fact (n-1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40" y="3427560"/>
            <a:ext cx="59108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_cps n r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r(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fact_cps (n-1) (function x -&gt; r(n *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new_fact n = fact_cps n (function x -&gt; 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4600" y="2278080"/>
            <a:ext cx="180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3160" y="24130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S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2320" y="3279600"/>
            <a:ext cx="290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n ex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ument represe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“never return”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just call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616-E2A4-4E52-8AEF-6FD19C733F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8160" y="982800"/>
                <a:ext cx="4445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4640" y="215424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08120" y="290520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8800" y="3651120"/>
                <a:ext cx="4394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040" y="4699080"/>
                <a:ext cx="7000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n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200" y="578808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58960" y="5759280"/>
                <a:ext cx="6743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7DB-EC88-4EA1-B50D-E33862EC3A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an use CPS as intermediate form in a Compiler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794160" y="17254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2316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3000" y="2548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480" y="34527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PS-Sty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2520" y="3836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9760" y="3984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880" y="2219400"/>
            <a:ext cx="501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dvantag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void using a stac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asily implement complex control constr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0120" y="55832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“Compiling with Continuations” by Andrew 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2FA-BE60-4702-BAB9-E407F3A957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callcc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throw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n SML of NJ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1240" y="1308240"/>
            <a:ext cx="4204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: 'a ?.cont -&gt; 'a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5360" y="2773440"/>
            <a:ext cx="4325760" cy="13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llcc : ('a ?.cont -&gt; 'a) -&gt; 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7600" y="3805200"/>
            <a:ext cx="0" cy="174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4080" y="57913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the rest of th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AB0-339A-46C6-819F-C9599A2C0F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Extended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8160" y="1201680"/>
                <a:ext cx="444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lcc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throw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9120" y="2111400"/>
                <a:ext cx="5884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5667480"/>
            <a:ext cx="73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3680" y="2852640"/>
                <a:ext cx="607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6280" y="4229280"/>
                <a:ext cx="8132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λ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41440" y="38084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71880" y="4951440"/>
                <a:ext cx="4316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[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]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9080" y="5818320"/>
                <a:ext cx="823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A00-6CE7-4C62-9D97-61CD39A55F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call: 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7DD7-74F6-4B49-98DD-7B36F825B8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ositions as Types, in S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03000" y="1515960"/>
            <a:ext cx="591084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And = Pair of 'a *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rst : ('a,'b) And -&gt; '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first (Pair(a,b)) = 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cond : ('a,'b) And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second (Pair(a,b))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Or = Left of 'a | Right of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920" y="5838840"/>
            <a:ext cx="70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using Standard ML of New Jersey, which has a slightly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ax from Ocam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73720" y="6269040"/>
            <a:ext cx="274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ttp://www.smlnj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DFD-BE75-4AB6-B561-D63437EC91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1, dm2, dm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116352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1 : ('a -&gt; 'b,'c -&gt; 'b) Or -&gt; ('a,'c) And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1 d p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f =&gt; f(first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g =&gt; g(second p)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0600" y="3052800"/>
            <a:ext cx="799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2: (('a,'b) Or -&gt; 'c) -&gt; ('a -&gt; 'c,'b -&gt; 'c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2 f  = Pair(fn a =&gt; f(Left a), fn b =&gt; f(Right b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760" y="450216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3 : ('a -&gt; 'b,'c -&gt; 'b) And -&gt; ('a,'c) Or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3 p d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a =&gt; ((first p)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b =&gt; ((second p) b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898-BADC-4B78-9062-8CB3A0CF27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9Z</dcterms:modified>
  <cp:revision>281</cp:revision>
  <dc:subject/>
  <dc:title>Slide 1</dc:title>
</cp:coreProperties>
</file>