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AE062-F65B-4030-AFBE-B73626961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8C588-6787-41A7-BC4F-B2E534A004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E654-116E-474A-92D1-9894B76A6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55CE-5B6A-4F92-BBD9-D0F9B06B3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2E97-A54F-4605-AA43-D3A7E568F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0ABA-8289-4667-A676-DBCCF49DD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1367-F92C-4F7D-912D-93F923618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DC76-CE19-4D41-8D9C-1477C2D1C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1C4A-F76B-4368-A5B3-776B6BC30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A242-620F-40EA-9B7F-AAA5D7EB3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F201-1EC5-4F57-ADC8-4920FDDD0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FBB3-8AE2-4531-8818-401634497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13AD-3389-44FF-9831-5BD179DD0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A435-9947-4BE9-80B3-EA2AB3C49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61ED4-EE6B-4507-A101-13438A16DB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141120" y="0"/>
            <a:ext cx="92851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159120" y="-360"/>
            <a:ext cx="2652840" cy="1933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1400"/>
            </a:b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Lecture 14</a:t>
            </a:r>
            <a:br>
              <a:rPr sz="1400"/>
            </a:b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Garbage Collection</a:t>
            </a:r>
            <a:br>
              <a:rPr sz="1400"/>
            </a:b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Lent Term 2007</a:t>
            </a:r>
            <a:br>
              <a:rPr sz="1400"/>
            </a:b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Timothy G. Griffin</a:t>
            </a:r>
            <a:br>
              <a:rPr sz="1400"/>
            </a:b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br>
              <a:rPr sz="1400"/>
            </a:b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University of Cambridge </a:t>
            </a:r>
            <a:endParaRPr b="0" lang="en-US" sz="1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41D1-3360-4050-B125-AFD4561B505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Reference counting can’t detect cycles!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47920" y="55324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00200" y="1447920"/>
            <a:ext cx="685800" cy="35049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3276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495680" y="2133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2133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48520" y="1676520"/>
            <a:ext cx="685800" cy="1523880"/>
          </a:xfrm>
          <a:prstGeom prst="rect">
            <a:avLst/>
          </a:prstGeom>
          <a:solidFill>
            <a:srgbClr val="00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767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763040" y="2631960"/>
            <a:ext cx="552240" cy="604800"/>
          </a:xfrm>
          <a:prstGeom prst="rect">
            <a:avLst/>
          </a:prstGeom>
          <a:solidFill>
            <a:srgbClr val="00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696080" y="1676520"/>
            <a:ext cx="685800" cy="533160"/>
          </a:xfrm>
          <a:prstGeom prst="rect">
            <a:avLst/>
          </a:prstGeom>
          <a:solidFill>
            <a:srgbClr val="00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769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1520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057400" y="4724280"/>
            <a:ext cx="121932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3581280" y="3809520"/>
            <a:ext cx="0" cy="7621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133720" y="3505320"/>
            <a:ext cx="11430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133720" y="2362320"/>
            <a:ext cx="11430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809880" y="236232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72880" y="336384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876920" y="3276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0" y="3581280"/>
            <a:ext cx="30492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334120" y="472428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629400" y="472428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0" name=""/>
          <p:cNvCxnSpPr>
            <a:stCxn id="166" idx="3"/>
            <a:endCxn id="159" idx="0"/>
          </p:cNvCxnSpPr>
          <p:nvPr/>
        </p:nvCxnSpPr>
        <p:spPr>
          <a:xfrm>
            <a:off x="5575320" y="3543480"/>
            <a:ext cx="2083680" cy="864000"/>
          </a:xfrm>
          <a:prstGeom prst="bentConnector2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71" name=""/>
          <p:cNvSpPr/>
          <p:nvPr/>
        </p:nvSpPr>
        <p:spPr>
          <a:xfrm flipH="1">
            <a:off x="6934320" y="1981080"/>
            <a:ext cx="9144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781680" y="2895480"/>
            <a:ext cx="9144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8001000" y="2209680"/>
            <a:ext cx="0" cy="5335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-38160" y="5257800"/>
            <a:ext cx="146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685800" y="4495320"/>
            <a:ext cx="914400" cy="83844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173000" y="554688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7696080" y="4952880"/>
            <a:ext cx="0" cy="60984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00E9-3A62-4742-AA3A-8C3E8930D51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Pros and Con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ce/time overhead to maintain cou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leakage when cycles in 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cremen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no long pauses to collect…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as many useful applic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X File System -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mbolic Li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’s RMI management of Str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e Functional Langu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5CF9-A3CC-4A79-92E3-4C608D0B10A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Mark and Sweep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wo-phase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Mark ph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pth fir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raversal of object graph from the roots 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ar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iv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weep ph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iterate over entire heap, adding the unmarked data back onto the free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C5B0-B2B9-4E59-8466-79782CC9393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st of Mark Sweep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17520" y="1060560"/>
            <a:ext cx="8229600" cy="51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of mark phas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(R) where R is the # of reachable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 cost is c1 * R (c1 may be 10 instr’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of sweep ph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(H) where H is the # of words in entire he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 cost is c2 * H (c2 may be 3 instr’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“good” = each collection returns H - R words reclai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ortized cost = time-collecting/amount-reclaim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(c1 * R) + (c2 * H)) / (H - 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R is close to H, then each collection reclaims little space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 / H must be sufficiently small or GC cost is hig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ld dynamically adjust. Say, if R / H is larger than .5, increase heap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C3DC-933D-4442-8483-8B05840132C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Other Problem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th-first search is usually implemented as a recursive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stack space proportional to the longest path in the graph of reachable obje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activation record/node in the 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ation records are b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heap is one long linked list, the stack space used in the algorithm will be greater than the heap size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we do? Pointer reversal [See Appel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gment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98A4-D63F-46D1-BF6F-84315DD4CF8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pying Collect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idea: use 2 he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used by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ther unused until GC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at the roots &amp; traverse the reachabl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y reachable data from the active heap (from-space) to the other heap (to-sp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ad objects are left behind in from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ps switch r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8226-F46F-4CF4-80F6-1B481DE3047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pying Collect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9" name=""/>
          <p:cNvSpPr/>
          <p:nvPr/>
        </p:nvSpPr>
        <p:spPr>
          <a:xfrm>
            <a:off x="2057400" y="2286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057000" y="1752480"/>
            <a:ext cx="184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-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07840" y="1752480"/>
            <a:ext cx="21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-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87000" y="3794040"/>
            <a:ext cx="143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1447920" y="3657240"/>
            <a:ext cx="60948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447920" y="4114800"/>
            <a:ext cx="60948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371600" y="4191120"/>
            <a:ext cx="68580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324480" y="2286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057400" y="47242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057400" y="419112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057400" y="35812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31240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057400" y="33526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429000" y="3505320"/>
            <a:ext cx="457200" cy="1371600"/>
          </a:xfrm>
          <a:custGeom>
            <a:avLst/>
            <a:gdLst/>
            <a:ahLst/>
            <a:rect l="l" t="t" r="r" b="b"/>
            <a:pathLst>
              <a:path w="288" h="864">
                <a:moveTo>
                  <a:pt x="0" y="864"/>
                </a:moveTo>
                <a:cubicBezTo>
                  <a:pt x="144" y="768"/>
                  <a:pt x="288" y="672"/>
                  <a:pt x="288" y="528"/>
                </a:cubicBezTo>
                <a:cubicBezTo>
                  <a:pt x="288" y="384"/>
                  <a:pt x="48" y="88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352680" y="3200400"/>
            <a:ext cx="241560" cy="304920"/>
          </a:xfrm>
          <a:custGeom>
            <a:avLst/>
            <a:gdLst/>
            <a:ahLst/>
            <a:rect l="l" t="t" r="r" b="b"/>
            <a:pathLst>
              <a:path w="152" h="192">
                <a:moveTo>
                  <a:pt x="48" y="192"/>
                </a:moveTo>
                <a:cubicBezTo>
                  <a:pt x="100" y="160"/>
                  <a:pt x="152" y="128"/>
                  <a:pt x="144" y="96"/>
                </a:cubicBezTo>
                <a:cubicBezTo>
                  <a:pt x="136" y="64"/>
                  <a:pt x="68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324480" y="525780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324480" y="502920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24480" y="480060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324480" y="457200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24480" y="434340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696080" y="4724280"/>
            <a:ext cx="304920" cy="685800"/>
          </a:xfrm>
          <a:custGeom>
            <a:avLst/>
            <a:gdLst/>
            <a:ahLst/>
            <a:rect l="l" t="t" r="r" b="b"/>
            <a:pathLst>
              <a:path w="192" h="432">
                <a:moveTo>
                  <a:pt x="0" y="432"/>
                </a:moveTo>
                <a:cubicBezTo>
                  <a:pt x="96" y="348"/>
                  <a:pt x="192" y="264"/>
                  <a:pt x="192" y="192"/>
                </a:cubicBezTo>
                <a:cubicBezTo>
                  <a:pt x="192" y="120"/>
                  <a:pt x="96" y="60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696080" y="4419720"/>
            <a:ext cx="152640" cy="304560"/>
          </a:xfrm>
          <a:custGeom>
            <a:avLst/>
            <a:gdLst/>
            <a:ahLst/>
            <a:rect l="l" t="t" r="r" b="b"/>
            <a:pathLst>
              <a:path w="96" h="192">
                <a:moveTo>
                  <a:pt x="0" y="192"/>
                </a:moveTo>
                <a:cubicBezTo>
                  <a:pt x="48" y="160"/>
                  <a:pt x="96" y="128"/>
                  <a:pt x="96" y="96"/>
                </a:cubicBezTo>
                <a:cubicBezTo>
                  <a:pt x="96" y="64"/>
                  <a:pt x="48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343400" y="3886200"/>
            <a:ext cx="1295280" cy="304920"/>
          </a:xfrm>
          <a:prstGeom prst="rightArrow">
            <a:avLst>
              <a:gd name="adj1" fmla="val 50000"/>
              <a:gd name="adj2" fmla="val 106198"/>
            </a:avLst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54E7-3931-40FB-B95B-A0EEF7C37D3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pying GC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32408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&amp; collects cy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-time proportional to # live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 compaction eliminates fra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ise type information required (pointer or no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g bits take extra space; normally use header 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ice as much memory used as program requ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ually, we anticipate live data will only be a small fragment of st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cate until 70% f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-space = 70% heap; to-space = 3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GC pauses = bad for interactive, real-time ap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0277-5E44-47BA-AC54-D96545D5E9E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OBSERVATION: for a copying garbage collector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905120" y="1371600"/>
            <a:ext cx="5143320" cy="32004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628560" y="4532400"/>
            <a:ext cx="7764480" cy="1740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80%  to 98% new objects die very quick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n object that has survived several collections has a bigger chance to become a long-lived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t’s a inefficient that long-lived objects be copied over and over.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9B01-337F-438B-91D4-CE33788B197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IDEA: Generational garbage collection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5143680" cy="350532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574560" y="4870440"/>
            <a:ext cx="7696440" cy="1800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Segregate objects into multiple areas by age, and collect areas containing older objects less often than the younger 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7704-D7BA-4887-B73F-58E8151D21D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What is Garbage?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1170000" y="1133640"/>
            <a:ext cx="183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33120" y="2135160"/>
            <a:ext cx="6715800" cy="7038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 value is garbage if it will not be used in any subsequ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omputation by the pro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19040" y="4373640"/>
            <a:ext cx="791676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n General, determining what is and is not garbage is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not decid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98480" y="5680080"/>
            <a:ext cx="382320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Read Chapter 13 of App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7BA2-E3F8-4640-82BA-13BE3A404DA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Other issues…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63600" y="1366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When do we </a:t>
            </a:r>
            <a:r>
              <a:rPr b="0" lang="en-US" sz="1800" spc="-1" strike="noStrike">
                <a:solidFill>
                  <a:srgbClr val="009999"/>
                </a:solidFill>
                <a:latin typeface="Arial Black"/>
              </a:rPr>
              <a:t>promote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objects from young generation to old 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Usually after an object survives a collection, it will be promo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eed to keep track of older objects pointing to newer on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How big should the generations b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ppel says each should be exponentially larger than the la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When do we collect the old genera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fter several </a:t>
            </a:r>
            <a:r>
              <a:rPr b="0" lang="en-US" sz="1600" spc="-1" strike="noStrike">
                <a:solidFill>
                  <a:srgbClr val="009999"/>
                </a:solidFill>
                <a:latin typeface="Arial Black"/>
              </a:rPr>
              <a:t>minor collections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, we do a </a:t>
            </a:r>
            <a:r>
              <a:rPr b="0" lang="en-US" sz="1600" spc="-1" strike="noStrike">
                <a:solidFill>
                  <a:srgbClr val="009999"/>
                </a:solidFill>
                <a:latin typeface="Arial Black"/>
              </a:rPr>
              <a:t>major col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ometimes different GC algorithms are used for the new and older gener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Why? Because the have different characteris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pying collection for the n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Less than 10% of the new data is usually l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Copying collection cost is proportional to the live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ark-sweep for the o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1F0A-8260-4B4E-82C4-F0379DB1564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olution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36600"/>
            <a:ext cx="8229600" cy="48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t programming language so the problem goes away!  That is, use FORTRA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 programmer to worry about it (use malloc and free in C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 and Swee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y Colle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ional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other techniqu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0238-2FF1-4516-B1CC-263E7A3FBC7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Restrict Languages? NO WAY!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modern programming language allows programmers to allocate new storage dynam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records, arrays, tuples, objects, clos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modern language needs facilities for reclaiming and recycling the storage used b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S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t’s usually the most complex aspect of the run-time system for any modern language (Java, ML, Lisp, Scheme, Modula, 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4228-C0D4-4D4A-830E-D56C1DE5720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Explicit MM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library manages memory; programmer decides when and where to allocate and deallo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void* malloc(long 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void free(void *add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calls OS for more pages when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dvant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people are very clever primates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Disadvant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people too clever and make mistakes. Getting it right can be costly. And don’t we want to automate-away tedium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dvant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llows us to implement Garbage Collec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C248-EAE5-4E9B-93D8-1764F6C9FDE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utomation…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2" name=""/>
          <p:cNvSpPr/>
          <p:nvPr/>
        </p:nvSpPr>
        <p:spPr>
          <a:xfrm>
            <a:off x="1600200" y="1447920"/>
            <a:ext cx="685800" cy="35049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76720" y="3276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95680" y="2133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2133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48520" y="1676520"/>
            <a:ext cx="685800" cy="15238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767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96080" y="2666880"/>
            <a:ext cx="685800" cy="5335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16765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8769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99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31520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057400" y="4724280"/>
            <a:ext cx="121932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3581280" y="3809520"/>
            <a:ext cx="0" cy="7621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133720" y="3505320"/>
            <a:ext cx="1143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133720" y="2362320"/>
            <a:ext cx="1143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09880" y="236232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" y="538020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876920" y="3276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34120" y="472428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629400" y="472428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"/>
          <p:cNvCxnSpPr>
            <a:stCxn id="79" idx="3"/>
            <a:endCxn id="72" idx="0"/>
          </p:cNvCxnSpPr>
          <p:nvPr/>
        </p:nvCxnSpPr>
        <p:spPr>
          <a:xfrm>
            <a:off x="5575320" y="3543480"/>
            <a:ext cx="2083680" cy="864000"/>
          </a:xfrm>
          <a:prstGeom prst="bentConnector2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flipH="1">
            <a:off x="6934320" y="1981080"/>
            <a:ext cx="9144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781680" y="2895480"/>
            <a:ext cx="9144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001000" y="2209680"/>
            <a:ext cx="0" cy="5335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41000" y="3781440"/>
            <a:ext cx="146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960" y="587520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495440" y="4976640"/>
            <a:ext cx="6213600" cy="11145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11840" y="6238800"/>
            <a:ext cx="184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8520" y="1090440"/>
            <a:ext cx="2462040" cy="5615280"/>
          </a:xfrm>
          <a:prstGeom prst="rect">
            <a:avLst/>
          </a:prstGeom>
          <a:noFill/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889360" y="1068480"/>
            <a:ext cx="121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ROOT 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371760" y="5942160"/>
            <a:ext cx="47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--------------------  HEAP 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58800" y="3348000"/>
            <a:ext cx="3318120" cy="2243160"/>
          </a:xfrm>
          <a:custGeom>
            <a:avLst/>
            <a:gdLst/>
            <a:ahLst/>
            <a:rect l="l" t="t" r="r" b="b"/>
            <a:pathLst>
              <a:path w="2090" h="1413">
                <a:moveTo>
                  <a:pt x="0" y="1413"/>
                </a:moveTo>
                <a:cubicBezTo>
                  <a:pt x="335" y="1404"/>
                  <a:pt x="670" y="1396"/>
                  <a:pt x="968" y="1347"/>
                </a:cubicBezTo>
                <a:cubicBezTo>
                  <a:pt x="1266" y="1298"/>
                  <a:pt x="1659" y="1247"/>
                  <a:pt x="1787" y="1118"/>
                </a:cubicBezTo>
                <a:cubicBezTo>
                  <a:pt x="1915" y="989"/>
                  <a:pt x="1746" y="743"/>
                  <a:pt x="1736" y="572"/>
                </a:cubicBezTo>
                <a:cubicBezTo>
                  <a:pt x="1726" y="401"/>
                  <a:pt x="1669" y="184"/>
                  <a:pt x="1728" y="92"/>
                </a:cubicBezTo>
                <a:cubicBezTo>
                  <a:pt x="1787" y="0"/>
                  <a:pt x="1938" y="9"/>
                  <a:pt x="2090" y="1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E3C6-0DC7-4F6C-AC66-3B1F7D012EC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… 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Identify Cells Reachable From Root Set… 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5" name=""/>
          <p:cNvSpPr/>
          <p:nvPr/>
        </p:nvSpPr>
        <p:spPr>
          <a:xfrm>
            <a:off x="1600200" y="1447920"/>
            <a:ext cx="685800" cy="35049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76720" y="3276720"/>
            <a:ext cx="685800" cy="533160"/>
          </a:xfrm>
          <a:prstGeom prst="rect">
            <a:avLst/>
          </a:prstGeom>
          <a:solidFill>
            <a:srgbClr val="3333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495680" y="2133720"/>
            <a:ext cx="685800" cy="533160"/>
          </a:xfrm>
          <a:prstGeom prst="rect">
            <a:avLst/>
          </a:prstGeom>
          <a:solidFill>
            <a:srgbClr val="3333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76720" y="2133720"/>
            <a:ext cx="685800" cy="533160"/>
          </a:xfrm>
          <a:prstGeom prst="rect">
            <a:avLst/>
          </a:prstGeom>
          <a:solidFill>
            <a:srgbClr val="3333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248520" y="1676520"/>
            <a:ext cx="685800" cy="15238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76720" y="4419720"/>
            <a:ext cx="685800" cy="533160"/>
          </a:xfrm>
          <a:prstGeom prst="rect">
            <a:avLst/>
          </a:prstGeom>
          <a:solidFill>
            <a:srgbClr val="3333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96080" y="2666880"/>
            <a:ext cx="685800" cy="5335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16765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769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199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15200" y="4419720"/>
            <a:ext cx="685800" cy="533160"/>
          </a:xfrm>
          <a:prstGeom prst="rect">
            <a:avLst/>
          </a:prstGeom>
          <a:solidFill>
            <a:srgbClr val="3333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724280"/>
            <a:ext cx="121932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3581280" y="3809520"/>
            <a:ext cx="0" cy="7621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3505320"/>
            <a:ext cx="1143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33720" y="2362320"/>
            <a:ext cx="1143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236232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77240" y="538020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876920" y="3276720"/>
            <a:ext cx="685800" cy="533160"/>
          </a:xfrm>
          <a:prstGeom prst="rect">
            <a:avLst/>
          </a:prstGeom>
          <a:solidFill>
            <a:srgbClr val="3333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34120" y="472428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629400" y="472428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"/>
          <p:cNvCxnSpPr>
            <a:stCxn id="112" idx="3"/>
            <a:endCxn id="105" idx="0"/>
          </p:cNvCxnSpPr>
          <p:nvPr/>
        </p:nvCxnSpPr>
        <p:spPr>
          <a:xfrm>
            <a:off x="5575320" y="3543480"/>
            <a:ext cx="2083680" cy="864000"/>
          </a:xfrm>
          <a:prstGeom prst="bentConnector2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 flipH="1">
            <a:off x="6934320" y="1981080"/>
            <a:ext cx="9144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81680" y="2895480"/>
            <a:ext cx="9144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8001000" y="2209680"/>
            <a:ext cx="0" cy="5335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41000" y="3781440"/>
            <a:ext cx="146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95960" y="587520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1495440" y="4976640"/>
            <a:ext cx="6213600" cy="11145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11840" y="6238800"/>
            <a:ext cx="184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58800" y="3348000"/>
            <a:ext cx="3318120" cy="2243160"/>
          </a:xfrm>
          <a:custGeom>
            <a:avLst/>
            <a:gdLst/>
            <a:ahLst/>
            <a:rect l="l" t="t" r="r" b="b"/>
            <a:pathLst>
              <a:path w="2090" h="1413">
                <a:moveTo>
                  <a:pt x="0" y="1413"/>
                </a:moveTo>
                <a:cubicBezTo>
                  <a:pt x="335" y="1404"/>
                  <a:pt x="670" y="1396"/>
                  <a:pt x="968" y="1347"/>
                </a:cubicBezTo>
                <a:cubicBezTo>
                  <a:pt x="1266" y="1298"/>
                  <a:pt x="1659" y="1247"/>
                  <a:pt x="1787" y="1118"/>
                </a:cubicBezTo>
                <a:cubicBezTo>
                  <a:pt x="1915" y="989"/>
                  <a:pt x="1746" y="743"/>
                  <a:pt x="1736" y="572"/>
                </a:cubicBezTo>
                <a:cubicBezTo>
                  <a:pt x="1726" y="401"/>
                  <a:pt x="1669" y="184"/>
                  <a:pt x="1728" y="92"/>
                </a:cubicBezTo>
                <a:cubicBezTo>
                  <a:pt x="1787" y="0"/>
                  <a:pt x="1938" y="9"/>
                  <a:pt x="2090" y="1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2FC0-1AB7-4E7A-BF1E-5E3A03155B4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… 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reclaim unreachable cells, and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 Black"/>
              </a:rPr>
              <a:t>repeat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 …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5" name=""/>
          <p:cNvSpPr/>
          <p:nvPr/>
        </p:nvSpPr>
        <p:spPr>
          <a:xfrm>
            <a:off x="1600200" y="1447920"/>
            <a:ext cx="685800" cy="35049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76720" y="3276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95680" y="2133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76720" y="2133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767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31520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57400" y="4724280"/>
            <a:ext cx="121932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581280" y="3809520"/>
            <a:ext cx="0" cy="7621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133720" y="3505320"/>
            <a:ext cx="1143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133720" y="2362320"/>
            <a:ext cx="1143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09880" y="236232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77240" y="538020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76920" y="3276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3"/>
            <a:endCxn id="130" idx="0"/>
          </p:cNvCxnSpPr>
          <p:nvPr/>
        </p:nvCxnSpPr>
        <p:spPr>
          <a:xfrm>
            <a:off x="5575320" y="3543480"/>
            <a:ext cx="2083680" cy="864000"/>
          </a:xfrm>
          <a:prstGeom prst="bentConnector2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441000" y="3781440"/>
            <a:ext cx="146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95960" y="587520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1495440" y="4976640"/>
            <a:ext cx="6213600" cy="11145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1840" y="6238800"/>
            <a:ext cx="184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558800" y="3348000"/>
            <a:ext cx="3318120" cy="2243160"/>
          </a:xfrm>
          <a:custGeom>
            <a:avLst/>
            <a:gdLst/>
            <a:ahLst/>
            <a:rect l="l" t="t" r="r" b="b"/>
            <a:pathLst>
              <a:path w="2090" h="1413">
                <a:moveTo>
                  <a:pt x="0" y="1413"/>
                </a:moveTo>
                <a:cubicBezTo>
                  <a:pt x="335" y="1404"/>
                  <a:pt x="670" y="1396"/>
                  <a:pt x="968" y="1347"/>
                </a:cubicBezTo>
                <a:cubicBezTo>
                  <a:pt x="1266" y="1298"/>
                  <a:pt x="1659" y="1247"/>
                  <a:pt x="1787" y="1118"/>
                </a:cubicBezTo>
                <a:cubicBezTo>
                  <a:pt x="1915" y="989"/>
                  <a:pt x="1746" y="743"/>
                  <a:pt x="1736" y="572"/>
                </a:cubicBezTo>
                <a:cubicBezTo>
                  <a:pt x="1726" y="401"/>
                  <a:pt x="1669" y="184"/>
                  <a:pt x="1728" y="92"/>
                </a:cubicBezTo>
                <a:cubicBezTo>
                  <a:pt x="1787" y="0"/>
                  <a:pt x="1938" y="9"/>
                  <a:pt x="2090" y="1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1402-8094-48D8-A6EF-51F0F39989F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Reference Counting, basic idea: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22280" y="1576080"/>
            <a:ext cx="8229600" cy="26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ep track of the number of pointers to each object 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the reference cou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Object is created, set count to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time a new pointer to the object is created, increment the cou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time an existing pointer to an object is destroyed, decrement the 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he reference count goes to 0, the object is unreachable garb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296440" y="5121360"/>
            <a:ext cx="3504600" cy="337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Clearly --- this can be VERY costly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E26F-5A60-4789-AF16-B298CF9EE8C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2-19T12:48:01Z</dcterms:modified>
  <cp:revision>263</cp:revision>
  <dc:subject/>
  <dc:title>Slide 1</dc:title>
</cp:coreProperties>
</file>